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E36-88B9-448A-891D-8224B1F5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938-27C2-4197-AE2A-57B7D55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AF1-C3B5-4A60-B6BA-A1C7585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12C-20B7-471F-8380-D24FFAF3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F61-2160-4826-B24F-B8A90EC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BEB-BDD7-48AC-A70C-7E38FF1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A8F-200B-49AB-95BF-76DB515C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55B-963A-43AF-AB3B-5849A98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FCE-AE7C-4EB5-8230-0277F49E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03D-ACC7-4299-824B-0F1C92C9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0CF-5F42-4751-9C50-1538287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BAA-95E7-4417-B80E-970D0F5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6F0-CFF1-4684-8E31-CFE00655B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.03a: Interpreting Linear Models from Scatter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:                  If there’s no “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777960" y="1793880"/>
            <a:ext cx="1004760" cy="480960"/>
          </a:xfrm>
          <a:custGeom>
            <a:avLst/>
            <a:gdLst/>
            <a:ahLst/>
            <a:rect l="l" t="t" r="r" b="b"/>
            <a:pathLst>
              <a:path w="2795" h="1334">
                <a:moveTo>
                  <a:pt x="2667" y="5270"/>
                </a:moveTo>
                <a:cubicBezTo>
                  <a:pt x="2667" y="5189"/>
                  <a:pt x="2654" y="5147"/>
                  <a:pt x="2604" y="5080"/>
                </a:cubicBezTo>
                <a:cubicBezTo>
                  <a:pt x="2572" y="5037"/>
                  <a:pt x="2527" y="4991"/>
                  <a:pt x="2476" y="4985"/>
                </a:cubicBezTo>
                <a:cubicBezTo>
                  <a:pt x="2405" y="4977"/>
                  <a:pt x="2374" y="4998"/>
                  <a:pt x="2318" y="5016"/>
                </a:cubicBezTo>
                <a:cubicBezTo>
                  <a:pt x="2297" y="5023"/>
                  <a:pt x="2239" y="5046"/>
                  <a:pt x="2222" y="5080"/>
                </a:cubicBezTo>
                <a:cubicBezTo>
                  <a:pt x="2202" y="5120"/>
                  <a:pt x="2191" y="5157"/>
                  <a:pt x="2191" y="5207"/>
                </a:cubicBezTo>
                <a:cubicBezTo>
                  <a:pt x="2191" y="5282"/>
                  <a:pt x="2186" y="5377"/>
                  <a:pt x="2254" y="5429"/>
                </a:cubicBezTo>
                <a:cubicBezTo>
                  <a:pt x="2284" y="5452"/>
                  <a:pt x="2337" y="5461"/>
                  <a:pt x="2381" y="5461"/>
                </a:cubicBezTo>
                <a:cubicBezTo>
                  <a:pt x="2428" y="5461"/>
                  <a:pt x="2473" y="5470"/>
                  <a:pt x="2508" y="5493"/>
                </a:cubicBezTo>
                <a:cubicBezTo>
                  <a:pt x="2533" y="5509"/>
                  <a:pt x="2587" y="5563"/>
                  <a:pt x="2604" y="5588"/>
                </a:cubicBezTo>
                <a:cubicBezTo>
                  <a:pt x="2658" y="5667"/>
                  <a:pt x="2641" y="5731"/>
                  <a:pt x="2667" y="5810"/>
                </a:cubicBezTo>
                <a:cubicBezTo>
                  <a:pt x="2687" y="5870"/>
                  <a:pt x="2722" y="5932"/>
                  <a:pt x="2699" y="6001"/>
                </a:cubicBezTo>
                <a:cubicBezTo>
                  <a:pt x="2676" y="6069"/>
                  <a:pt x="2636" y="6135"/>
                  <a:pt x="2604" y="6191"/>
                </a:cubicBezTo>
                <a:cubicBezTo>
                  <a:pt x="2571" y="6248"/>
                  <a:pt x="2511" y="6291"/>
                  <a:pt x="2445" y="6318"/>
                </a:cubicBezTo>
                <a:cubicBezTo>
                  <a:pt x="2389" y="6340"/>
                  <a:pt x="2358" y="6299"/>
                  <a:pt x="2318" y="6286"/>
                </a:cubicBezTo>
                <a:cubicBezTo>
                  <a:pt x="2282" y="6274"/>
                  <a:pt x="2205" y="6239"/>
                  <a:pt x="2191" y="6191"/>
                </a:cubicBezTo>
                <a:cubicBezTo>
                  <a:pt x="2166" y="6103"/>
                  <a:pt x="2175" y="6078"/>
                  <a:pt x="2191" y="6001"/>
                </a:cubicBezTo>
                <a:cubicBezTo>
                  <a:pt x="2191" y="5980"/>
                  <a:pt x="2191" y="5958"/>
                  <a:pt x="2191" y="5937"/>
                </a:cubicBezTo>
              </a:path>
              <a:path w="2795" h="1334">
                <a:moveTo>
                  <a:pt x="3207" y="5016"/>
                </a:moveTo>
                <a:cubicBezTo>
                  <a:pt x="3207" y="5099"/>
                  <a:pt x="3180" y="5158"/>
                  <a:pt x="3175" y="5239"/>
                </a:cubicBezTo>
                <a:cubicBezTo>
                  <a:pt x="3168" y="5363"/>
                  <a:pt x="3238" y="6032"/>
                  <a:pt x="3143" y="6064"/>
                </a:cubicBezTo>
              </a:path>
              <a:path w="2795" h="1334">
                <a:moveTo>
                  <a:pt x="2921" y="5620"/>
                </a:moveTo>
                <a:cubicBezTo>
                  <a:pt x="3006" y="5620"/>
                  <a:pt x="2958" y="5644"/>
                  <a:pt x="3048" y="5652"/>
                </a:cubicBezTo>
                <a:cubicBezTo>
                  <a:pt x="3162" y="5662"/>
                  <a:pt x="3261" y="5638"/>
                  <a:pt x="3366" y="5620"/>
                </a:cubicBezTo>
                <a:cubicBezTo>
                  <a:pt x="3387" y="5620"/>
                  <a:pt x="3408" y="5620"/>
                  <a:pt x="3429" y="5620"/>
                </a:cubicBezTo>
              </a:path>
              <a:path w="2795" h="1334">
                <a:moveTo>
                  <a:pt x="4032" y="5524"/>
                </a:moveTo>
                <a:cubicBezTo>
                  <a:pt x="4032" y="5484"/>
                  <a:pt x="4021" y="5440"/>
                  <a:pt x="4000" y="5429"/>
                </a:cubicBezTo>
                <a:cubicBezTo>
                  <a:pt x="3955" y="5406"/>
                  <a:pt x="3923" y="5355"/>
                  <a:pt x="3874" y="5366"/>
                </a:cubicBezTo>
                <a:cubicBezTo>
                  <a:pt x="3825" y="5377"/>
                  <a:pt x="3792" y="5440"/>
                  <a:pt x="3746" y="5461"/>
                </a:cubicBezTo>
                <a:cubicBezTo>
                  <a:pt x="3687" y="5487"/>
                  <a:pt x="3663" y="5581"/>
                  <a:pt x="3651" y="5652"/>
                </a:cubicBezTo>
                <a:cubicBezTo>
                  <a:pt x="3639" y="5726"/>
                  <a:pt x="3657" y="5809"/>
                  <a:pt x="3683" y="5874"/>
                </a:cubicBezTo>
                <a:cubicBezTo>
                  <a:pt x="3716" y="5956"/>
                  <a:pt x="3752" y="5963"/>
                  <a:pt x="3810" y="6001"/>
                </a:cubicBezTo>
                <a:cubicBezTo>
                  <a:pt x="3848" y="6026"/>
                  <a:pt x="3901" y="6020"/>
                  <a:pt x="3937" y="5969"/>
                </a:cubicBezTo>
                <a:cubicBezTo>
                  <a:pt x="4003" y="5874"/>
                  <a:pt x="4002" y="5820"/>
                  <a:pt x="4032" y="5715"/>
                </a:cubicBezTo>
                <a:cubicBezTo>
                  <a:pt x="4056" y="5631"/>
                  <a:pt x="4064" y="5646"/>
                  <a:pt x="4064" y="5556"/>
                </a:cubicBezTo>
                <a:cubicBezTo>
                  <a:pt x="4064" y="5671"/>
                  <a:pt x="4018" y="5915"/>
                  <a:pt x="4096" y="6001"/>
                </a:cubicBezTo>
                <a:cubicBezTo>
                  <a:pt x="4142" y="6052"/>
                  <a:pt x="4199" y="6038"/>
                  <a:pt x="4254" y="6001"/>
                </a:cubicBezTo>
                <a:cubicBezTo>
                  <a:pt x="4286" y="5969"/>
                  <a:pt x="4297" y="5958"/>
                  <a:pt x="4318" y="5937"/>
                </a:cubicBezTo>
              </a:path>
              <a:path w="2795" h="1334">
                <a:moveTo>
                  <a:pt x="4699" y="5016"/>
                </a:moveTo>
                <a:cubicBezTo>
                  <a:pt x="4699" y="5295"/>
                  <a:pt x="4664" y="5608"/>
                  <a:pt x="4731" y="5874"/>
                </a:cubicBezTo>
                <a:cubicBezTo>
                  <a:pt x="4742" y="5919"/>
                  <a:pt x="4730" y="6034"/>
                  <a:pt x="4762" y="6001"/>
                </a:cubicBezTo>
                <a:cubicBezTo>
                  <a:pt x="4762" y="5990"/>
                  <a:pt x="4762" y="5980"/>
                  <a:pt x="4762" y="5969"/>
                </a:cubicBezTo>
              </a:path>
              <a:path w="2795" h="1334">
                <a:moveTo>
                  <a:pt x="4350" y="5524"/>
                </a:moveTo>
                <a:cubicBezTo>
                  <a:pt x="4435" y="5524"/>
                  <a:pt x="4494" y="5506"/>
                  <a:pt x="4572" y="5493"/>
                </a:cubicBezTo>
                <a:cubicBezTo>
                  <a:pt x="4669" y="5477"/>
                  <a:pt x="4758" y="5461"/>
                  <a:pt x="4858" y="5461"/>
                </a:cubicBezTo>
                <a:cubicBezTo>
                  <a:pt x="4890" y="5461"/>
                  <a:pt x="4921" y="5461"/>
                  <a:pt x="4953" y="5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628560" y="2664000"/>
            <a:ext cx="1131840" cy="377640"/>
          </a:xfrm>
          <a:custGeom>
            <a:avLst/>
            <a:gdLst/>
            <a:ahLst/>
            <a:rect l="l" t="t" r="r" b="b"/>
            <a:pathLst>
              <a:path w="3145" h="1049">
                <a:moveTo>
                  <a:pt x="1746" y="7842"/>
                </a:moveTo>
                <a:cubicBezTo>
                  <a:pt x="1807" y="7842"/>
                  <a:pt x="1847" y="7814"/>
                  <a:pt x="1905" y="7810"/>
                </a:cubicBezTo>
                <a:cubicBezTo>
                  <a:pt x="2073" y="7799"/>
                  <a:pt x="2245" y="7810"/>
                  <a:pt x="2413" y="7810"/>
                </a:cubicBezTo>
                <a:cubicBezTo>
                  <a:pt x="2405" y="7779"/>
                  <a:pt x="2396" y="7712"/>
                  <a:pt x="2381" y="7684"/>
                </a:cubicBezTo>
                <a:cubicBezTo>
                  <a:pt x="2357" y="7639"/>
                  <a:pt x="2343" y="7567"/>
                  <a:pt x="2318" y="7525"/>
                </a:cubicBezTo>
                <a:cubicBezTo>
                  <a:pt x="2291" y="7480"/>
                  <a:pt x="2243" y="7409"/>
                  <a:pt x="2191" y="7398"/>
                </a:cubicBezTo>
                <a:cubicBezTo>
                  <a:pt x="2114" y="7381"/>
                  <a:pt x="2029" y="7418"/>
                  <a:pt x="1968" y="7461"/>
                </a:cubicBezTo>
                <a:cubicBezTo>
                  <a:pt x="1871" y="7528"/>
                  <a:pt x="1853" y="7614"/>
                  <a:pt x="1810" y="7715"/>
                </a:cubicBezTo>
                <a:cubicBezTo>
                  <a:pt x="1756" y="7841"/>
                  <a:pt x="1746" y="7927"/>
                  <a:pt x="1746" y="8064"/>
                </a:cubicBezTo>
                <a:cubicBezTo>
                  <a:pt x="1746" y="8135"/>
                  <a:pt x="1787" y="8266"/>
                  <a:pt x="1842" y="8318"/>
                </a:cubicBezTo>
                <a:cubicBezTo>
                  <a:pt x="1900" y="8372"/>
                  <a:pt x="2019" y="8403"/>
                  <a:pt x="2096" y="8382"/>
                </a:cubicBezTo>
                <a:cubicBezTo>
                  <a:pt x="2193" y="8355"/>
                  <a:pt x="2265" y="8297"/>
                  <a:pt x="2318" y="8223"/>
                </a:cubicBezTo>
              </a:path>
              <a:path w="3145" h="1049">
                <a:moveTo>
                  <a:pt x="2572" y="7588"/>
                </a:moveTo>
                <a:cubicBezTo>
                  <a:pt x="2586" y="7642"/>
                  <a:pt x="2624" y="7679"/>
                  <a:pt x="2604" y="7747"/>
                </a:cubicBezTo>
                <a:cubicBezTo>
                  <a:pt x="2574" y="7846"/>
                  <a:pt x="2572" y="7925"/>
                  <a:pt x="2572" y="8033"/>
                </a:cubicBezTo>
                <a:cubicBezTo>
                  <a:pt x="2572" y="8133"/>
                  <a:pt x="2589" y="8237"/>
                  <a:pt x="2540" y="8318"/>
                </a:cubicBezTo>
                <a:cubicBezTo>
                  <a:pt x="2540" y="8247"/>
                  <a:pt x="2569" y="8199"/>
                  <a:pt x="2572" y="8128"/>
                </a:cubicBezTo>
                <a:cubicBezTo>
                  <a:pt x="2577" y="8017"/>
                  <a:pt x="2600" y="7915"/>
                  <a:pt x="2635" y="7810"/>
                </a:cubicBezTo>
                <a:cubicBezTo>
                  <a:pt x="2665" y="7719"/>
                  <a:pt x="2697" y="7627"/>
                  <a:pt x="2762" y="7556"/>
                </a:cubicBezTo>
                <a:cubicBezTo>
                  <a:pt x="2809" y="7504"/>
                  <a:pt x="2855" y="7493"/>
                  <a:pt x="2921" y="7493"/>
                </a:cubicBezTo>
                <a:cubicBezTo>
                  <a:pt x="2937" y="7572"/>
                  <a:pt x="2953" y="7630"/>
                  <a:pt x="2953" y="7715"/>
                </a:cubicBezTo>
                <a:cubicBezTo>
                  <a:pt x="2953" y="7939"/>
                  <a:pt x="2936" y="8169"/>
                  <a:pt x="2984" y="8382"/>
                </a:cubicBezTo>
                <a:cubicBezTo>
                  <a:pt x="2996" y="8434"/>
                  <a:pt x="3026" y="8480"/>
                  <a:pt x="3048" y="8414"/>
                </a:cubicBezTo>
              </a:path>
              <a:path w="3145" h="1049">
                <a:moveTo>
                  <a:pt x="3397" y="7430"/>
                </a:moveTo>
                <a:cubicBezTo>
                  <a:pt x="3447" y="7512"/>
                  <a:pt x="3429" y="7613"/>
                  <a:pt x="3429" y="7715"/>
                </a:cubicBezTo>
                <a:cubicBezTo>
                  <a:pt x="3429" y="7932"/>
                  <a:pt x="3432" y="8139"/>
                  <a:pt x="3461" y="8350"/>
                </a:cubicBezTo>
                <a:cubicBezTo>
                  <a:pt x="3461" y="8403"/>
                  <a:pt x="3461" y="8414"/>
                  <a:pt x="3461" y="8446"/>
                </a:cubicBezTo>
              </a:path>
              <a:path w="3145" h="1049">
                <a:moveTo>
                  <a:pt x="3143" y="7938"/>
                </a:moveTo>
                <a:cubicBezTo>
                  <a:pt x="3229" y="7938"/>
                  <a:pt x="3288" y="7919"/>
                  <a:pt x="3366" y="7906"/>
                </a:cubicBezTo>
                <a:cubicBezTo>
                  <a:pt x="3545" y="7876"/>
                  <a:pt x="3755" y="7906"/>
                  <a:pt x="3937" y="7906"/>
                </a:cubicBezTo>
              </a:path>
              <a:path w="3145" h="1049">
                <a:moveTo>
                  <a:pt x="3969" y="7906"/>
                </a:moveTo>
                <a:cubicBezTo>
                  <a:pt x="3985" y="7857"/>
                  <a:pt x="3996" y="7869"/>
                  <a:pt x="4032" y="7842"/>
                </a:cubicBezTo>
                <a:cubicBezTo>
                  <a:pt x="4089" y="7799"/>
                  <a:pt x="4132" y="7808"/>
                  <a:pt x="4191" y="7779"/>
                </a:cubicBezTo>
                <a:cubicBezTo>
                  <a:pt x="4227" y="7761"/>
                  <a:pt x="4277" y="7725"/>
                  <a:pt x="4286" y="7684"/>
                </a:cubicBezTo>
                <a:cubicBezTo>
                  <a:pt x="4299" y="7623"/>
                  <a:pt x="4291" y="7567"/>
                  <a:pt x="4254" y="7525"/>
                </a:cubicBezTo>
                <a:cubicBezTo>
                  <a:pt x="4206" y="7471"/>
                  <a:pt x="4119" y="7483"/>
                  <a:pt x="4064" y="7525"/>
                </a:cubicBezTo>
                <a:cubicBezTo>
                  <a:pt x="3989" y="7582"/>
                  <a:pt x="3939" y="7692"/>
                  <a:pt x="3905" y="7779"/>
                </a:cubicBezTo>
                <a:cubicBezTo>
                  <a:pt x="3864" y="7886"/>
                  <a:pt x="3870" y="7992"/>
                  <a:pt x="3905" y="8096"/>
                </a:cubicBezTo>
                <a:cubicBezTo>
                  <a:pt x="3929" y="8169"/>
                  <a:pt x="4016" y="8268"/>
                  <a:pt x="4096" y="8287"/>
                </a:cubicBezTo>
                <a:cubicBezTo>
                  <a:pt x="4158" y="8302"/>
                  <a:pt x="4302" y="8302"/>
                  <a:pt x="4350" y="8255"/>
                </a:cubicBezTo>
                <a:cubicBezTo>
                  <a:pt x="4382" y="8192"/>
                  <a:pt x="4393" y="8171"/>
                  <a:pt x="4445" y="8160"/>
                </a:cubicBezTo>
              </a:path>
              <a:path w="3145" h="1049">
                <a:moveTo>
                  <a:pt x="4508" y="7588"/>
                </a:moveTo>
                <a:cubicBezTo>
                  <a:pt x="4464" y="7648"/>
                  <a:pt x="4477" y="7701"/>
                  <a:pt x="4477" y="7779"/>
                </a:cubicBezTo>
                <a:cubicBezTo>
                  <a:pt x="4477" y="7883"/>
                  <a:pt x="4503" y="7966"/>
                  <a:pt x="4508" y="8064"/>
                </a:cubicBezTo>
                <a:cubicBezTo>
                  <a:pt x="4512" y="8141"/>
                  <a:pt x="4533" y="8191"/>
                  <a:pt x="4540" y="8255"/>
                </a:cubicBezTo>
                <a:cubicBezTo>
                  <a:pt x="4549" y="8338"/>
                  <a:pt x="4540" y="8209"/>
                  <a:pt x="4540" y="8192"/>
                </a:cubicBezTo>
                <a:cubicBezTo>
                  <a:pt x="4540" y="8088"/>
                  <a:pt x="4528" y="8000"/>
                  <a:pt x="4572" y="7906"/>
                </a:cubicBezTo>
                <a:cubicBezTo>
                  <a:pt x="4609" y="7827"/>
                  <a:pt x="4646" y="7721"/>
                  <a:pt x="4699" y="7652"/>
                </a:cubicBezTo>
                <a:cubicBezTo>
                  <a:pt x="4754" y="7581"/>
                  <a:pt x="4823" y="7546"/>
                  <a:pt x="4890" y="7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2136600" y="2560680"/>
            <a:ext cx="916200" cy="446040"/>
          </a:xfrm>
          <a:custGeom>
            <a:avLst/>
            <a:gdLst/>
            <a:ahLst/>
            <a:rect l="l" t="t" r="r" b="b"/>
            <a:pathLst>
              <a:path w="2541" h="1239">
                <a:moveTo>
                  <a:pt x="5937" y="7874"/>
                </a:moveTo>
                <a:cubicBezTo>
                  <a:pt x="6005" y="7860"/>
                  <a:pt x="6093" y="7861"/>
                  <a:pt x="6160" y="7842"/>
                </a:cubicBezTo>
                <a:cubicBezTo>
                  <a:pt x="6258" y="7814"/>
                  <a:pt x="6340" y="7810"/>
                  <a:pt x="6445" y="7810"/>
                </a:cubicBezTo>
                <a:cubicBezTo>
                  <a:pt x="6495" y="7810"/>
                  <a:pt x="6515" y="7779"/>
                  <a:pt x="6572" y="7779"/>
                </a:cubicBezTo>
                <a:cubicBezTo>
                  <a:pt x="6572" y="7702"/>
                  <a:pt x="6536" y="7715"/>
                  <a:pt x="6509" y="7652"/>
                </a:cubicBezTo>
                <a:cubicBezTo>
                  <a:pt x="6486" y="7600"/>
                  <a:pt x="6446" y="7576"/>
                  <a:pt x="6414" y="7525"/>
                </a:cubicBezTo>
                <a:cubicBezTo>
                  <a:pt x="6374" y="7463"/>
                  <a:pt x="6329" y="7438"/>
                  <a:pt x="6255" y="7430"/>
                </a:cubicBezTo>
                <a:cubicBezTo>
                  <a:pt x="6189" y="7423"/>
                  <a:pt x="6153" y="7509"/>
                  <a:pt x="6128" y="7556"/>
                </a:cubicBezTo>
                <a:cubicBezTo>
                  <a:pt x="6068" y="7669"/>
                  <a:pt x="6037" y="7780"/>
                  <a:pt x="6032" y="7906"/>
                </a:cubicBezTo>
                <a:cubicBezTo>
                  <a:pt x="6028" y="8025"/>
                  <a:pt x="6026" y="8122"/>
                  <a:pt x="6096" y="8223"/>
                </a:cubicBezTo>
                <a:cubicBezTo>
                  <a:pt x="6144" y="8291"/>
                  <a:pt x="6271" y="8331"/>
                  <a:pt x="6350" y="8318"/>
                </a:cubicBezTo>
                <a:cubicBezTo>
                  <a:pt x="6443" y="8288"/>
                  <a:pt x="6473" y="8277"/>
                  <a:pt x="6540" y="8287"/>
                </a:cubicBezTo>
              </a:path>
              <a:path w="2541" h="1239">
                <a:moveTo>
                  <a:pt x="7144" y="7239"/>
                </a:moveTo>
                <a:cubicBezTo>
                  <a:pt x="7144" y="7369"/>
                  <a:pt x="7103" y="7534"/>
                  <a:pt x="7112" y="7652"/>
                </a:cubicBezTo>
                <a:cubicBezTo>
                  <a:pt x="7119" y="7752"/>
                  <a:pt x="7123" y="7901"/>
                  <a:pt x="7144" y="8001"/>
                </a:cubicBezTo>
                <a:cubicBezTo>
                  <a:pt x="7160" y="8079"/>
                  <a:pt x="7199" y="8153"/>
                  <a:pt x="7207" y="8223"/>
                </a:cubicBezTo>
                <a:cubicBezTo>
                  <a:pt x="7207" y="8234"/>
                  <a:pt x="7207" y="8244"/>
                  <a:pt x="7207" y="8255"/>
                </a:cubicBezTo>
                <a:cubicBezTo>
                  <a:pt x="7207" y="8177"/>
                  <a:pt x="7180" y="8152"/>
                  <a:pt x="7176" y="8064"/>
                </a:cubicBezTo>
                <a:cubicBezTo>
                  <a:pt x="7171" y="7971"/>
                  <a:pt x="7132" y="7859"/>
                  <a:pt x="7080" y="7779"/>
                </a:cubicBezTo>
                <a:cubicBezTo>
                  <a:pt x="7058" y="7745"/>
                  <a:pt x="6931" y="7679"/>
                  <a:pt x="6890" y="7684"/>
                </a:cubicBezTo>
                <a:cubicBezTo>
                  <a:pt x="6794" y="7695"/>
                  <a:pt x="6781" y="7743"/>
                  <a:pt x="6731" y="7810"/>
                </a:cubicBezTo>
                <a:cubicBezTo>
                  <a:pt x="6682" y="7875"/>
                  <a:pt x="6699" y="7950"/>
                  <a:pt x="6699" y="8033"/>
                </a:cubicBezTo>
                <a:cubicBezTo>
                  <a:pt x="6699" y="8082"/>
                  <a:pt x="6736" y="8203"/>
                  <a:pt x="6794" y="8223"/>
                </a:cubicBezTo>
                <a:cubicBezTo>
                  <a:pt x="6888" y="8256"/>
                  <a:pt x="7090" y="8230"/>
                  <a:pt x="7176" y="8192"/>
                </a:cubicBezTo>
                <a:cubicBezTo>
                  <a:pt x="7239" y="8160"/>
                  <a:pt x="7260" y="8149"/>
                  <a:pt x="7302" y="8128"/>
                </a:cubicBezTo>
              </a:path>
              <a:path w="2541" h="1239">
                <a:moveTo>
                  <a:pt x="7493" y="7556"/>
                </a:moveTo>
                <a:cubicBezTo>
                  <a:pt x="7538" y="7616"/>
                  <a:pt x="7525" y="7668"/>
                  <a:pt x="7525" y="7747"/>
                </a:cubicBezTo>
                <a:cubicBezTo>
                  <a:pt x="7525" y="7853"/>
                  <a:pt x="7556" y="7951"/>
                  <a:pt x="7556" y="8064"/>
                </a:cubicBezTo>
                <a:cubicBezTo>
                  <a:pt x="7556" y="8111"/>
                  <a:pt x="7548" y="8228"/>
                  <a:pt x="7588" y="8255"/>
                </a:cubicBezTo>
                <a:cubicBezTo>
                  <a:pt x="7599" y="8255"/>
                  <a:pt x="7609" y="8255"/>
                  <a:pt x="7620" y="8255"/>
                </a:cubicBezTo>
              </a:path>
              <a:path w="2541" h="1239">
                <a:moveTo>
                  <a:pt x="8001" y="7176"/>
                </a:moveTo>
                <a:cubicBezTo>
                  <a:pt x="8001" y="7144"/>
                  <a:pt x="8001" y="7133"/>
                  <a:pt x="8001" y="7112"/>
                </a:cubicBezTo>
                <a:cubicBezTo>
                  <a:pt x="8001" y="7181"/>
                  <a:pt x="7972" y="7200"/>
                  <a:pt x="7969" y="7271"/>
                </a:cubicBezTo>
                <a:cubicBezTo>
                  <a:pt x="7963" y="7403"/>
                  <a:pt x="7920" y="7523"/>
                  <a:pt x="7906" y="7652"/>
                </a:cubicBezTo>
                <a:cubicBezTo>
                  <a:pt x="7891" y="7787"/>
                  <a:pt x="7922" y="7910"/>
                  <a:pt x="7938" y="8033"/>
                </a:cubicBezTo>
                <a:cubicBezTo>
                  <a:pt x="7949" y="8120"/>
                  <a:pt x="7959" y="8250"/>
                  <a:pt x="8033" y="8318"/>
                </a:cubicBezTo>
                <a:cubicBezTo>
                  <a:pt x="8089" y="8370"/>
                  <a:pt x="8186" y="8350"/>
                  <a:pt x="8255" y="8350"/>
                </a:cubicBezTo>
                <a:cubicBezTo>
                  <a:pt x="8312" y="8350"/>
                  <a:pt x="8340" y="8320"/>
                  <a:pt x="8382" y="8287"/>
                </a:cubicBezTo>
              </a:path>
              <a:path w="2541" h="1239">
                <a:moveTo>
                  <a:pt x="7842" y="7779"/>
                </a:moveTo>
                <a:cubicBezTo>
                  <a:pt x="7903" y="7779"/>
                  <a:pt x="7943" y="7751"/>
                  <a:pt x="8001" y="7747"/>
                </a:cubicBezTo>
                <a:cubicBezTo>
                  <a:pt x="8022" y="7747"/>
                  <a:pt x="8043" y="7747"/>
                  <a:pt x="8064" y="7747"/>
                </a:cubicBezTo>
              </a:path>
              <a:path w="2541" h="1239">
                <a:moveTo>
                  <a:pt x="8477" y="8033"/>
                </a:moveTo>
                <a:lnTo>
                  <a:pt x="8477" y="80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49400" y="3349800"/>
            <a:ext cx="1828800" cy="1153800"/>
          </a:xfrm>
          <a:custGeom>
            <a:avLst/>
            <a:gdLst/>
            <a:ahLst/>
            <a:rect l="l" t="t" r="r" b="b"/>
            <a:pathLst>
              <a:path w="5081" h="3208">
                <a:moveTo>
                  <a:pt x="857" y="9557"/>
                </a:moveTo>
                <a:cubicBezTo>
                  <a:pt x="857" y="9669"/>
                  <a:pt x="876" y="9766"/>
                  <a:pt x="889" y="9874"/>
                </a:cubicBezTo>
                <a:cubicBezTo>
                  <a:pt x="918" y="10121"/>
                  <a:pt x="889" y="10387"/>
                  <a:pt x="889" y="10636"/>
                </a:cubicBezTo>
              </a:path>
              <a:path w="5081" h="3208">
                <a:moveTo>
                  <a:pt x="413" y="9779"/>
                </a:moveTo>
                <a:cubicBezTo>
                  <a:pt x="432" y="9702"/>
                  <a:pt x="477" y="9699"/>
                  <a:pt x="540" y="9652"/>
                </a:cubicBezTo>
                <a:cubicBezTo>
                  <a:pt x="622" y="9590"/>
                  <a:pt x="699" y="9566"/>
                  <a:pt x="794" y="9525"/>
                </a:cubicBezTo>
                <a:cubicBezTo>
                  <a:pt x="899" y="9480"/>
                  <a:pt x="935" y="9409"/>
                  <a:pt x="1048" y="9366"/>
                </a:cubicBezTo>
                <a:cubicBezTo>
                  <a:pt x="1104" y="9345"/>
                  <a:pt x="1131" y="9335"/>
                  <a:pt x="1175" y="9303"/>
                </a:cubicBezTo>
              </a:path>
              <a:path w="5081" h="3208">
                <a:moveTo>
                  <a:pt x="1175" y="9334"/>
                </a:moveTo>
                <a:cubicBezTo>
                  <a:pt x="1175" y="9468"/>
                  <a:pt x="1191" y="9591"/>
                  <a:pt x="1206" y="9716"/>
                </a:cubicBezTo>
                <a:cubicBezTo>
                  <a:pt x="1223" y="9853"/>
                  <a:pt x="1255" y="9993"/>
                  <a:pt x="1270" y="10128"/>
                </a:cubicBezTo>
                <a:cubicBezTo>
                  <a:pt x="1283" y="10245"/>
                  <a:pt x="1294" y="10363"/>
                  <a:pt x="1302" y="10478"/>
                </a:cubicBezTo>
                <a:cubicBezTo>
                  <a:pt x="1302" y="10488"/>
                  <a:pt x="1302" y="10499"/>
                  <a:pt x="1302" y="10509"/>
                </a:cubicBezTo>
                <a:cubicBezTo>
                  <a:pt x="1289" y="10474"/>
                  <a:pt x="1270" y="10399"/>
                  <a:pt x="1270" y="10319"/>
                </a:cubicBezTo>
                <a:cubicBezTo>
                  <a:pt x="1270" y="10216"/>
                  <a:pt x="1295" y="10094"/>
                  <a:pt x="1334" y="10001"/>
                </a:cubicBezTo>
                <a:cubicBezTo>
                  <a:pt x="1358" y="9943"/>
                  <a:pt x="1397" y="9841"/>
                  <a:pt x="1460" y="9811"/>
                </a:cubicBezTo>
                <a:cubicBezTo>
                  <a:pt x="1492" y="9811"/>
                  <a:pt x="1503" y="9811"/>
                  <a:pt x="1524" y="9811"/>
                </a:cubicBezTo>
                <a:cubicBezTo>
                  <a:pt x="1549" y="9876"/>
                  <a:pt x="1579" y="9953"/>
                  <a:pt x="1588" y="10033"/>
                </a:cubicBezTo>
                <a:cubicBezTo>
                  <a:pt x="1602" y="10152"/>
                  <a:pt x="1604" y="10272"/>
                  <a:pt x="1651" y="10382"/>
                </a:cubicBezTo>
                <a:cubicBezTo>
                  <a:pt x="1683" y="10457"/>
                  <a:pt x="1704" y="10519"/>
                  <a:pt x="1778" y="10541"/>
                </a:cubicBezTo>
                <a:cubicBezTo>
                  <a:pt x="1869" y="10568"/>
                  <a:pt x="1923" y="10465"/>
                  <a:pt x="1968" y="10414"/>
                </a:cubicBezTo>
                <a:cubicBezTo>
                  <a:pt x="2076" y="10292"/>
                  <a:pt x="2121" y="10166"/>
                  <a:pt x="2127" y="10001"/>
                </a:cubicBezTo>
                <a:cubicBezTo>
                  <a:pt x="2130" y="9911"/>
                  <a:pt x="2113" y="9879"/>
                  <a:pt x="2096" y="9811"/>
                </a:cubicBezTo>
                <a:cubicBezTo>
                  <a:pt x="2017" y="9845"/>
                  <a:pt x="2014" y="9789"/>
                  <a:pt x="2000" y="9906"/>
                </a:cubicBezTo>
                <a:cubicBezTo>
                  <a:pt x="1984" y="10045"/>
                  <a:pt x="1984" y="10220"/>
                  <a:pt x="2032" y="10350"/>
                </a:cubicBezTo>
                <a:cubicBezTo>
                  <a:pt x="2060" y="10427"/>
                  <a:pt x="2118" y="10489"/>
                  <a:pt x="2191" y="10509"/>
                </a:cubicBezTo>
                <a:cubicBezTo>
                  <a:pt x="2297" y="10538"/>
                  <a:pt x="2337" y="10461"/>
                  <a:pt x="2381" y="10382"/>
                </a:cubicBezTo>
                <a:cubicBezTo>
                  <a:pt x="2439" y="10277"/>
                  <a:pt x="2460" y="10149"/>
                  <a:pt x="2476" y="10033"/>
                </a:cubicBezTo>
                <a:cubicBezTo>
                  <a:pt x="2483" y="9982"/>
                  <a:pt x="2476" y="9926"/>
                  <a:pt x="2476" y="9874"/>
                </a:cubicBezTo>
                <a:cubicBezTo>
                  <a:pt x="2493" y="9936"/>
                  <a:pt x="2531" y="10025"/>
                  <a:pt x="2540" y="10096"/>
                </a:cubicBezTo>
                <a:cubicBezTo>
                  <a:pt x="2556" y="10215"/>
                  <a:pt x="2586" y="10332"/>
                  <a:pt x="2604" y="10446"/>
                </a:cubicBezTo>
                <a:cubicBezTo>
                  <a:pt x="2613" y="10502"/>
                  <a:pt x="2621" y="10550"/>
                  <a:pt x="2635" y="10604"/>
                </a:cubicBezTo>
                <a:cubicBezTo>
                  <a:pt x="2635" y="10541"/>
                  <a:pt x="2635" y="10541"/>
                  <a:pt x="2635" y="10478"/>
                </a:cubicBezTo>
                <a:cubicBezTo>
                  <a:pt x="2635" y="10364"/>
                  <a:pt x="2667" y="10237"/>
                  <a:pt x="2699" y="10128"/>
                </a:cubicBezTo>
                <a:cubicBezTo>
                  <a:pt x="2724" y="10042"/>
                  <a:pt x="2759" y="9937"/>
                  <a:pt x="2826" y="9874"/>
                </a:cubicBezTo>
                <a:cubicBezTo>
                  <a:pt x="2878" y="9848"/>
                  <a:pt x="2886" y="9837"/>
                  <a:pt x="2921" y="9842"/>
                </a:cubicBezTo>
                <a:cubicBezTo>
                  <a:pt x="2969" y="9884"/>
                  <a:pt x="2996" y="9880"/>
                  <a:pt x="3016" y="9970"/>
                </a:cubicBezTo>
                <a:cubicBezTo>
                  <a:pt x="3037" y="10064"/>
                  <a:pt x="3044" y="10191"/>
                  <a:pt x="3048" y="10287"/>
                </a:cubicBezTo>
                <a:cubicBezTo>
                  <a:pt x="3052" y="10371"/>
                  <a:pt x="3075" y="10508"/>
                  <a:pt x="3143" y="10573"/>
                </a:cubicBezTo>
                <a:cubicBezTo>
                  <a:pt x="3197" y="10624"/>
                  <a:pt x="3257" y="10652"/>
                  <a:pt x="3334" y="10636"/>
                </a:cubicBezTo>
                <a:cubicBezTo>
                  <a:pt x="3414" y="10619"/>
                  <a:pt x="3429" y="10541"/>
                  <a:pt x="3461" y="10478"/>
                </a:cubicBezTo>
              </a:path>
              <a:path w="5081" h="3208">
                <a:moveTo>
                  <a:pt x="3588" y="10478"/>
                </a:moveTo>
                <a:lnTo>
                  <a:pt x="3588" y="10478"/>
                </a:lnTo>
              </a:path>
              <a:path w="5081" h="3208">
                <a:moveTo>
                  <a:pt x="4032" y="10478"/>
                </a:moveTo>
                <a:cubicBezTo>
                  <a:pt x="4032" y="10467"/>
                  <a:pt x="4032" y="10457"/>
                  <a:pt x="4032" y="10446"/>
                </a:cubicBezTo>
              </a:path>
              <a:path w="5081" h="3208">
                <a:moveTo>
                  <a:pt x="4318" y="10414"/>
                </a:moveTo>
                <a:cubicBezTo>
                  <a:pt x="4371" y="10449"/>
                  <a:pt x="4352" y="10424"/>
                  <a:pt x="4382" y="10414"/>
                </a:cubicBezTo>
                <a:cubicBezTo>
                  <a:pt x="4392" y="10414"/>
                  <a:pt x="4403" y="10414"/>
                  <a:pt x="4413" y="10414"/>
                </a:cubicBezTo>
              </a:path>
              <a:path w="5081" h="3208">
                <a:moveTo>
                  <a:pt x="4794" y="10350"/>
                </a:moveTo>
                <a:cubicBezTo>
                  <a:pt x="4826" y="10350"/>
                  <a:pt x="4837" y="10350"/>
                  <a:pt x="4858" y="10350"/>
                </a:cubicBezTo>
              </a:path>
              <a:path w="5081" h="3208">
                <a:moveTo>
                  <a:pt x="3238" y="11525"/>
                </a:moveTo>
                <a:cubicBezTo>
                  <a:pt x="3238" y="11462"/>
                  <a:pt x="3224" y="11449"/>
                  <a:pt x="3207" y="11398"/>
                </a:cubicBezTo>
                <a:cubicBezTo>
                  <a:pt x="3196" y="11364"/>
                  <a:pt x="3157" y="11284"/>
                  <a:pt x="3112" y="11271"/>
                </a:cubicBezTo>
                <a:cubicBezTo>
                  <a:pt x="3047" y="11252"/>
                  <a:pt x="2993" y="11240"/>
                  <a:pt x="2921" y="11240"/>
                </a:cubicBezTo>
                <a:cubicBezTo>
                  <a:pt x="2883" y="11240"/>
                  <a:pt x="2783" y="11240"/>
                  <a:pt x="2762" y="11271"/>
                </a:cubicBezTo>
                <a:cubicBezTo>
                  <a:pt x="2728" y="11322"/>
                  <a:pt x="2774" y="11456"/>
                  <a:pt x="2794" y="11494"/>
                </a:cubicBezTo>
                <a:cubicBezTo>
                  <a:pt x="2852" y="11601"/>
                  <a:pt x="2913" y="11623"/>
                  <a:pt x="2984" y="11716"/>
                </a:cubicBezTo>
                <a:cubicBezTo>
                  <a:pt x="3045" y="11796"/>
                  <a:pt x="3086" y="11887"/>
                  <a:pt x="3143" y="11970"/>
                </a:cubicBezTo>
                <a:cubicBezTo>
                  <a:pt x="3171" y="12011"/>
                  <a:pt x="3203" y="12105"/>
                  <a:pt x="3175" y="12160"/>
                </a:cubicBezTo>
                <a:cubicBezTo>
                  <a:pt x="3150" y="12210"/>
                  <a:pt x="3066" y="12271"/>
                  <a:pt x="3016" y="12287"/>
                </a:cubicBezTo>
                <a:cubicBezTo>
                  <a:pt x="2960" y="12305"/>
                  <a:pt x="2873" y="12287"/>
                  <a:pt x="2826" y="12256"/>
                </a:cubicBezTo>
                <a:cubicBezTo>
                  <a:pt x="2776" y="12223"/>
                  <a:pt x="2717" y="12153"/>
                  <a:pt x="2699" y="12097"/>
                </a:cubicBezTo>
                <a:cubicBezTo>
                  <a:pt x="2688" y="12063"/>
                  <a:pt x="2644" y="11979"/>
                  <a:pt x="2667" y="11938"/>
                </a:cubicBezTo>
                <a:cubicBezTo>
                  <a:pt x="2699" y="11906"/>
                  <a:pt x="2709" y="11896"/>
                  <a:pt x="2730" y="11874"/>
                </a:cubicBezTo>
              </a:path>
              <a:path w="5081" h="3208">
                <a:moveTo>
                  <a:pt x="3651" y="11525"/>
                </a:moveTo>
                <a:cubicBezTo>
                  <a:pt x="3635" y="11589"/>
                  <a:pt x="3620" y="11607"/>
                  <a:pt x="3620" y="11684"/>
                </a:cubicBezTo>
                <a:cubicBezTo>
                  <a:pt x="3620" y="11793"/>
                  <a:pt x="3588" y="11890"/>
                  <a:pt x="3588" y="12002"/>
                </a:cubicBezTo>
                <a:cubicBezTo>
                  <a:pt x="3588" y="12108"/>
                  <a:pt x="3588" y="12213"/>
                  <a:pt x="3588" y="12319"/>
                </a:cubicBezTo>
                <a:cubicBezTo>
                  <a:pt x="3572" y="12254"/>
                  <a:pt x="3556" y="12238"/>
                  <a:pt x="3556" y="12160"/>
                </a:cubicBezTo>
              </a:path>
              <a:path w="5081" h="3208">
                <a:moveTo>
                  <a:pt x="3397" y="11494"/>
                </a:moveTo>
                <a:cubicBezTo>
                  <a:pt x="3380" y="11442"/>
                  <a:pt x="3383" y="11482"/>
                  <a:pt x="3366" y="11430"/>
                </a:cubicBezTo>
                <a:cubicBezTo>
                  <a:pt x="3433" y="11416"/>
                  <a:pt x="3483" y="11398"/>
                  <a:pt x="3556" y="11398"/>
                </a:cubicBezTo>
                <a:cubicBezTo>
                  <a:pt x="3683" y="11398"/>
                  <a:pt x="3810" y="11398"/>
                  <a:pt x="3937" y="11398"/>
                </a:cubicBezTo>
              </a:path>
              <a:path w="5081" h="3208">
                <a:moveTo>
                  <a:pt x="4032" y="11620"/>
                </a:moveTo>
                <a:cubicBezTo>
                  <a:pt x="4032" y="11805"/>
                  <a:pt x="4029" y="11984"/>
                  <a:pt x="4000" y="12160"/>
                </a:cubicBezTo>
                <a:cubicBezTo>
                  <a:pt x="3996" y="12186"/>
                  <a:pt x="4000" y="12394"/>
                  <a:pt x="4000" y="12319"/>
                </a:cubicBezTo>
                <a:cubicBezTo>
                  <a:pt x="4000" y="12124"/>
                  <a:pt x="4008" y="11933"/>
                  <a:pt x="4032" y="11748"/>
                </a:cubicBezTo>
                <a:cubicBezTo>
                  <a:pt x="4043" y="11661"/>
                  <a:pt x="4053" y="11558"/>
                  <a:pt x="4128" y="11494"/>
                </a:cubicBezTo>
                <a:cubicBezTo>
                  <a:pt x="4160" y="11466"/>
                  <a:pt x="4248" y="11411"/>
                  <a:pt x="4286" y="11398"/>
                </a:cubicBezTo>
                <a:cubicBezTo>
                  <a:pt x="4295" y="11395"/>
                  <a:pt x="4375" y="11439"/>
                  <a:pt x="4382" y="11462"/>
                </a:cubicBezTo>
                <a:cubicBezTo>
                  <a:pt x="4408" y="11544"/>
                  <a:pt x="4413" y="11622"/>
                  <a:pt x="4413" y="11716"/>
                </a:cubicBezTo>
                <a:cubicBezTo>
                  <a:pt x="4413" y="11923"/>
                  <a:pt x="4383" y="12167"/>
                  <a:pt x="4445" y="12351"/>
                </a:cubicBezTo>
                <a:cubicBezTo>
                  <a:pt x="4445" y="12387"/>
                  <a:pt x="4442" y="12394"/>
                  <a:pt x="4413" y="12351"/>
                </a:cubicBezTo>
              </a:path>
              <a:path w="5081" h="3208">
                <a:moveTo>
                  <a:pt x="3969" y="11906"/>
                </a:moveTo>
                <a:cubicBezTo>
                  <a:pt x="4007" y="11935"/>
                  <a:pt x="4047" y="11966"/>
                  <a:pt x="4096" y="11970"/>
                </a:cubicBezTo>
                <a:cubicBezTo>
                  <a:pt x="4193" y="11977"/>
                  <a:pt x="4262" y="11953"/>
                  <a:pt x="4350" y="11938"/>
                </a:cubicBezTo>
                <a:cubicBezTo>
                  <a:pt x="4413" y="11938"/>
                  <a:pt x="4435" y="11938"/>
                  <a:pt x="4477" y="11938"/>
                </a:cubicBezTo>
              </a:path>
              <a:path w="5081" h="3208">
                <a:moveTo>
                  <a:pt x="4858" y="11557"/>
                </a:moveTo>
                <a:cubicBezTo>
                  <a:pt x="4858" y="11615"/>
                  <a:pt x="4886" y="11632"/>
                  <a:pt x="4890" y="11684"/>
                </a:cubicBezTo>
                <a:cubicBezTo>
                  <a:pt x="4897" y="11786"/>
                  <a:pt x="4862" y="11870"/>
                  <a:pt x="4858" y="11970"/>
                </a:cubicBezTo>
                <a:cubicBezTo>
                  <a:pt x="4852" y="12117"/>
                  <a:pt x="4858" y="12266"/>
                  <a:pt x="4858" y="12414"/>
                </a:cubicBezTo>
              </a:path>
              <a:path w="5081" h="3208">
                <a:moveTo>
                  <a:pt x="4508" y="11494"/>
                </a:moveTo>
                <a:cubicBezTo>
                  <a:pt x="4519" y="11483"/>
                  <a:pt x="4529" y="11473"/>
                  <a:pt x="4540" y="11462"/>
                </a:cubicBezTo>
                <a:cubicBezTo>
                  <a:pt x="4600" y="11507"/>
                  <a:pt x="4652" y="11494"/>
                  <a:pt x="4731" y="11494"/>
                </a:cubicBezTo>
                <a:cubicBezTo>
                  <a:pt x="4842" y="11494"/>
                  <a:pt x="4938" y="11520"/>
                  <a:pt x="5048" y="11525"/>
                </a:cubicBezTo>
                <a:cubicBezTo>
                  <a:pt x="5142" y="11529"/>
                  <a:pt x="5226" y="11542"/>
                  <a:pt x="5302" y="11557"/>
                </a:cubicBezTo>
                <a:cubicBezTo>
                  <a:pt x="5323" y="11557"/>
                  <a:pt x="5345" y="11557"/>
                  <a:pt x="5366" y="11557"/>
                </a:cubicBezTo>
              </a:path>
              <a:path w="5081" h="3208">
                <a:moveTo>
                  <a:pt x="2572" y="10986"/>
                </a:moveTo>
                <a:cubicBezTo>
                  <a:pt x="2567" y="11045"/>
                  <a:pt x="2554" y="11064"/>
                  <a:pt x="2540" y="11112"/>
                </a:cubicBezTo>
                <a:cubicBezTo>
                  <a:pt x="2519" y="11186"/>
                  <a:pt x="2486" y="11291"/>
                  <a:pt x="2476" y="11366"/>
                </a:cubicBezTo>
                <a:cubicBezTo>
                  <a:pt x="2460" y="11479"/>
                  <a:pt x="2449" y="11603"/>
                  <a:pt x="2445" y="11716"/>
                </a:cubicBezTo>
                <a:cubicBezTo>
                  <a:pt x="2441" y="11825"/>
                  <a:pt x="2432" y="11956"/>
                  <a:pt x="2413" y="12065"/>
                </a:cubicBezTo>
                <a:cubicBezTo>
                  <a:pt x="2400" y="12135"/>
                  <a:pt x="2367" y="12212"/>
                  <a:pt x="2381" y="12287"/>
                </a:cubicBezTo>
                <a:cubicBezTo>
                  <a:pt x="2390" y="12333"/>
                  <a:pt x="2403" y="12362"/>
                  <a:pt x="2445" y="12382"/>
                </a:cubicBezTo>
                <a:cubicBezTo>
                  <a:pt x="2498" y="12407"/>
                  <a:pt x="2537" y="12354"/>
                  <a:pt x="2572" y="12351"/>
                </a:cubicBezTo>
                <a:cubicBezTo>
                  <a:pt x="2735" y="12337"/>
                  <a:pt x="2891" y="12365"/>
                  <a:pt x="3048" y="12382"/>
                </a:cubicBezTo>
                <a:cubicBezTo>
                  <a:pt x="3174" y="12396"/>
                  <a:pt x="3304" y="12409"/>
                  <a:pt x="3429" y="12414"/>
                </a:cubicBezTo>
                <a:cubicBezTo>
                  <a:pt x="3581" y="12420"/>
                  <a:pt x="3724" y="12463"/>
                  <a:pt x="3874" y="12478"/>
                </a:cubicBezTo>
                <a:cubicBezTo>
                  <a:pt x="4022" y="12493"/>
                  <a:pt x="4171" y="12505"/>
                  <a:pt x="4318" y="12510"/>
                </a:cubicBezTo>
                <a:cubicBezTo>
                  <a:pt x="4596" y="12519"/>
                  <a:pt x="4878" y="12510"/>
                  <a:pt x="5144" y="12478"/>
                </a:cubicBezTo>
                <a:cubicBezTo>
                  <a:pt x="5225" y="12468"/>
                  <a:pt x="5260" y="12486"/>
                  <a:pt x="5302" y="12446"/>
                </a:cubicBezTo>
                <a:cubicBezTo>
                  <a:pt x="5340" y="12410"/>
                  <a:pt x="5323" y="12336"/>
                  <a:pt x="5334" y="12287"/>
                </a:cubicBezTo>
                <a:cubicBezTo>
                  <a:pt x="5354" y="12203"/>
                  <a:pt x="5348" y="12118"/>
                  <a:pt x="5366" y="12033"/>
                </a:cubicBezTo>
                <a:cubicBezTo>
                  <a:pt x="5392" y="11915"/>
                  <a:pt x="5445" y="11803"/>
                  <a:pt x="5461" y="11684"/>
                </a:cubicBezTo>
                <a:cubicBezTo>
                  <a:pt x="5477" y="11565"/>
                  <a:pt x="5489" y="11456"/>
                  <a:pt x="5493" y="11335"/>
                </a:cubicBezTo>
                <a:cubicBezTo>
                  <a:pt x="5495" y="11261"/>
                  <a:pt x="5493" y="11186"/>
                  <a:pt x="5493" y="11112"/>
                </a:cubicBezTo>
                <a:cubicBezTo>
                  <a:pt x="5418" y="11094"/>
                  <a:pt x="5485" y="11090"/>
                  <a:pt x="5398" y="11112"/>
                </a:cubicBezTo>
                <a:cubicBezTo>
                  <a:pt x="5336" y="11128"/>
                  <a:pt x="5271" y="11137"/>
                  <a:pt x="5207" y="11144"/>
                </a:cubicBezTo>
                <a:cubicBezTo>
                  <a:pt x="5101" y="11156"/>
                  <a:pt x="5021" y="11123"/>
                  <a:pt x="4921" y="11112"/>
                </a:cubicBezTo>
                <a:cubicBezTo>
                  <a:pt x="4782" y="11097"/>
                  <a:pt x="4645" y="11086"/>
                  <a:pt x="4508" y="11049"/>
                </a:cubicBezTo>
                <a:cubicBezTo>
                  <a:pt x="4358" y="11009"/>
                  <a:pt x="4213" y="10990"/>
                  <a:pt x="4064" y="10954"/>
                </a:cubicBezTo>
                <a:cubicBezTo>
                  <a:pt x="3899" y="10914"/>
                  <a:pt x="3725" y="10895"/>
                  <a:pt x="3556" y="10890"/>
                </a:cubicBezTo>
                <a:cubicBezTo>
                  <a:pt x="3350" y="10884"/>
                  <a:pt x="3152" y="10900"/>
                  <a:pt x="2953" y="10922"/>
                </a:cubicBezTo>
                <a:cubicBezTo>
                  <a:pt x="2852" y="10933"/>
                  <a:pt x="2769" y="10947"/>
                  <a:pt x="2667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914400" y="4595760"/>
            <a:ext cx="1440000" cy="433440"/>
          </a:xfrm>
          <a:custGeom>
            <a:avLst/>
            <a:gdLst/>
            <a:ahLst/>
            <a:rect l="l" t="t" r="r" b="b"/>
            <a:pathLst>
              <a:path w="4001" h="1207">
                <a:moveTo>
                  <a:pt x="2540" y="13272"/>
                </a:moveTo>
                <a:cubicBezTo>
                  <a:pt x="2589" y="13307"/>
                  <a:pt x="2606" y="13303"/>
                  <a:pt x="2667" y="13303"/>
                </a:cubicBezTo>
                <a:cubicBezTo>
                  <a:pt x="2734" y="13303"/>
                  <a:pt x="2785" y="13335"/>
                  <a:pt x="2858" y="13335"/>
                </a:cubicBezTo>
                <a:cubicBezTo>
                  <a:pt x="2927" y="13335"/>
                  <a:pt x="3111" y="13342"/>
                  <a:pt x="3175" y="13367"/>
                </a:cubicBezTo>
                <a:cubicBezTo>
                  <a:pt x="3292" y="13412"/>
                  <a:pt x="3376" y="13398"/>
                  <a:pt x="3492" y="13430"/>
                </a:cubicBezTo>
                <a:cubicBezTo>
                  <a:pt x="3537" y="13443"/>
                  <a:pt x="3629" y="13492"/>
                  <a:pt x="3683" y="13462"/>
                </a:cubicBezTo>
                <a:cubicBezTo>
                  <a:pt x="3719" y="13426"/>
                  <a:pt x="3730" y="13409"/>
                  <a:pt x="3715" y="13367"/>
                </a:cubicBezTo>
              </a:path>
              <a:path w="4001" h="1207">
                <a:moveTo>
                  <a:pt x="3524" y="13081"/>
                </a:moveTo>
                <a:cubicBezTo>
                  <a:pt x="3541" y="13149"/>
                  <a:pt x="3572" y="13132"/>
                  <a:pt x="3620" y="13176"/>
                </a:cubicBezTo>
                <a:cubicBezTo>
                  <a:pt x="3679" y="13230"/>
                  <a:pt x="3721" y="13227"/>
                  <a:pt x="3778" y="13272"/>
                </a:cubicBezTo>
                <a:cubicBezTo>
                  <a:pt x="3831" y="13314"/>
                  <a:pt x="3934" y="13341"/>
                  <a:pt x="3905" y="13430"/>
                </a:cubicBezTo>
                <a:cubicBezTo>
                  <a:pt x="3891" y="13473"/>
                  <a:pt x="3806" y="13476"/>
                  <a:pt x="3778" y="13494"/>
                </a:cubicBezTo>
                <a:cubicBezTo>
                  <a:pt x="3716" y="13535"/>
                  <a:pt x="3648" y="13577"/>
                  <a:pt x="3588" y="13621"/>
                </a:cubicBezTo>
                <a:cubicBezTo>
                  <a:pt x="3547" y="13652"/>
                  <a:pt x="3479" y="13694"/>
                  <a:pt x="3429" y="13716"/>
                </a:cubicBezTo>
                <a:cubicBezTo>
                  <a:pt x="3398" y="13730"/>
                  <a:pt x="3368" y="13739"/>
                  <a:pt x="3334" y="13748"/>
                </a:cubicBezTo>
              </a:path>
              <a:path w="4001" h="1207">
                <a:moveTo>
                  <a:pt x="4921" y="13049"/>
                </a:moveTo>
                <a:cubicBezTo>
                  <a:pt x="4921" y="13155"/>
                  <a:pt x="4921" y="13261"/>
                  <a:pt x="4921" y="13367"/>
                </a:cubicBezTo>
                <a:cubicBezTo>
                  <a:pt x="4921" y="13253"/>
                  <a:pt x="4907" y="13155"/>
                  <a:pt x="4890" y="13049"/>
                </a:cubicBezTo>
                <a:cubicBezTo>
                  <a:pt x="4875" y="12957"/>
                  <a:pt x="4861" y="12925"/>
                  <a:pt x="4794" y="12859"/>
                </a:cubicBezTo>
                <a:cubicBezTo>
                  <a:pt x="4727" y="12792"/>
                  <a:pt x="4690" y="12836"/>
                  <a:pt x="4636" y="12890"/>
                </a:cubicBezTo>
                <a:cubicBezTo>
                  <a:pt x="4552" y="12974"/>
                  <a:pt x="4487" y="13066"/>
                  <a:pt x="4445" y="13176"/>
                </a:cubicBezTo>
                <a:cubicBezTo>
                  <a:pt x="4390" y="13320"/>
                  <a:pt x="4382" y="13436"/>
                  <a:pt x="4382" y="13589"/>
                </a:cubicBezTo>
                <a:cubicBezTo>
                  <a:pt x="4382" y="13716"/>
                  <a:pt x="4397" y="13811"/>
                  <a:pt x="4508" y="13875"/>
                </a:cubicBezTo>
                <a:cubicBezTo>
                  <a:pt x="4611" y="13935"/>
                  <a:pt x="4654" y="13947"/>
                  <a:pt x="4762" y="13906"/>
                </a:cubicBezTo>
              </a:path>
              <a:path w="4001" h="1207">
                <a:moveTo>
                  <a:pt x="5175" y="13430"/>
                </a:moveTo>
                <a:cubicBezTo>
                  <a:pt x="5186" y="13341"/>
                  <a:pt x="5232" y="13292"/>
                  <a:pt x="5239" y="13208"/>
                </a:cubicBezTo>
                <a:cubicBezTo>
                  <a:pt x="5242" y="13169"/>
                  <a:pt x="5209" y="13169"/>
                  <a:pt x="5175" y="13144"/>
                </a:cubicBezTo>
                <a:cubicBezTo>
                  <a:pt x="5104" y="13162"/>
                  <a:pt x="5098" y="13218"/>
                  <a:pt x="5048" y="13272"/>
                </a:cubicBezTo>
                <a:cubicBezTo>
                  <a:pt x="4963" y="13363"/>
                  <a:pt x="4928" y="13464"/>
                  <a:pt x="4921" y="13589"/>
                </a:cubicBezTo>
                <a:cubicBezTo>
                  <a:pt x="4916" y="13685"/>
                  <a:pt x="4919" y="13714"/>
                  <a:pt x="4985" y="13780"/>
                </a:cubicBezTo>
                <a:cubicBezTo>
                  <a:pt x="5043" y="13780"/>
                  <a:pt x="5077" y="13770"/>
                  <a:pt x="5112" y="13716"/>
                </a:cubicBezTo>
                <a:cubicBezTo>
                  <a:pt x="5159" y="13643"/>
                  <a:pt x="5227" y="13513"/>
                  <a:pt x="5239" y="13430"/>
                </a:cubicBezTo>
                <a:cubicBezTo>
                  <a:pt x="5251" y="13343"/>
                  <a:pt x="5283" y="13269"/>
                  <a:pt x="5239" y="13208"/>
                </a:cubicBezTo>
                <a:cubicBezTo>
                  <a:pt x="5239" y="13277"/>
                  <a:pt x="5203" y="13372"/>
                  <a:pt x="5207" y="13430"/>
                </a:cubicBezTo>
                <a:cubicBezTo>
                  <a:pt x="5214" y="13523"/>
                  <a:pt x="5235" y="13664"/>
                  <a:pt x="5270" y="13748"/>
                </a:cubicBezTo>
                <a:cubicBezTo>
                  <a:pt x="5284" y="13782"/>
                  <a:pt x="5353" y="13882"/>
                  <a:pt x="5398" y="13875"/>
                </a:cubicBezTo>
                <a:cubicBezTo>
                  <a:pt x="5493" y="13861"/>
                  <a:pt x="5546" y="13718"/>
                  <a:pt x="5588" y="13652"/>
                </a:cubicBezTo>
              </a:path>
              <a:path w="4001" h="1207">
                <a:moveTo>
                  <a:pt x="5747" y="12764"/>
                </a:moveTo>
                <a:cubicBezTo>
                  <a:pt x="5747" y="12886"/>
                  <a:pt x="5727" y="13000"/>
                  <a:pt x="5715" y="13113"/>
                </a:cubicBezTo>
                <a:cubicBezTo>
                  <a:pt x="5699" y="13268"/>
                  <a:pt x="5688" y="13434"/>
                  <a:pt x="5683" y="13589"/>
                </a:cubicBezTo>
                <a:cubicBezTo>
                  <a:pt x="5679" y="13696"/>
                  <a:pt x="5669" y="13825"/>
                  <a:pt x="5683" y="13906"/>
                </a:cubicBezTo>
                <a:cubicBezTo>
                  <a:pt x="5690" y="13948"/>
                  <a:pt x="5690" y="14014"/>
                  <a:pt x="5715" y="13938"/>
                </a:cubicBezTo>
              </a:path>
              <a:path w="4001" h="1207">
                <a:moveTo>
                  <a:pt x="6223" y="13144"/>
                </a:moveTo>
                <a:cubicBezTo>
                  <a:pt x="6252" y="13211"/>
                  <a:pt x="6255" y="13233"/>
                  <a:pt x="6255" y="13303"/>
                </a:cubicBezTo>
                <a:cubicBezTo>
                  <a:pt x="6255" y="13345"/>
                  <a:pt x="6255" y="13388"/>
                  <a:pt x="6255" y="13430"/>
                </a:cubicBezTo>
                <a:cubicBezTo>
                  <a:pt x="6280" y="13413"/>
                  <a:pt x="6304" y="13327"/>
                  <a:pt x="6318" y="13272"/>
                </a:cubicBezTo>
                <a:cubicBezTo>
                  <a:pt x="6331" y="13219"/>
                  <a:pt x="6311" y="13151"/>
                  <a:pt x="6286" y="13113"/>
                </a:cubicBezTo>
                <a:cubicBezTo>
                  <a:pt x="6243" y="13047"/>
                  <a:pt x="6177" y="13088"/>
                  <a:pt x="6128" y="13113"/>
                </a:cubicBezTo>
                <a:cubicBezTo>
                  <a:pt x="6059" y="13149"/>
                  <a:pt x="5955" y="13287"/>
                  <a:pt x="5937" y="13367"/>
                </a:cubicBezTo>
                <a:cubicBezTo>
                  <a:pt x="5908" y="13495"/>
                  <a:pt x="5891" y="13654"/>
                  <a:pt x="5937" y="13780"/>
                </a:cubicBezTo>
                <a:cubicBezTo>
                  <a:pt x="5965" y="13857"/>
                  <a:pt x="6081" y="13920"/>
                  <a:pt x="6160" y="13938"/>
                </a:cubicBezTo>
                <a:cubicBezTo>
                  <a:pt x="6230" y="13954"/>
                  <a:pt x="6334" y="13931"/>
                  <a:pt x="6382" y="13875"/>
                </a:cubicBezTo>
                <a:cubicBezTo>
                  <a:pt x="6430" y="13819"/>
                  <a:pt x="6471" y="13716"/>
                  <a:pt x="6509" y="13652"/>
                </a:cubicBezTo>
                <a:cubicBezTo>
                  <a:pt x="6542" y="13597"/>
                  <a:pt x="6540" y="13582"/>
                  <a:pt x="6540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1039680" y="5165640"/>
            <a:ext cx="241560" cy="549360"/>
          </a:xfrm>
          <a:custGeom>
            <a:avLst/>
            <a:gdLst/>
            <a:ahLst/>
            <a:rect l="l" t="t" r="r" b="b"/>
            <a:pathLst>
              <a:path w="668" h="1525">
                <a:moveTo>
                  <a:pt x="3143" y="14383"/>
                </a:moveTo>
                <a:cubicBezTo>
                  <a:pt x="3143" y="14465"/>
                  <a:pt x="3123" y="14525"/>
                  <a:pt x="3112" y="14605"/>
                </a:cubicBezTo>
                <a:cubicBezTo>
                  <a:pt x="3096" y="14717"/>
                  <a:pt x="3061" y="14817"/>
                  <a:pt x="3016" y="14922"/>
                </a:cubicBezTo>
                <a:cubicBezTo>
                  <a:pt x="2983" y="14998"/>
                  <a:pt x="2944" y="15068"/>
                  <a:pt x="2921" y="15145"/>
                </a:cubicBezTo>
                <a:cubicBezTo>
                  <a:pt x="2910" y="15177"/>
                  <a:pt x="2900" y="15208"/>
                  <a:pt x="2889" y="15240"/>
                </a:cubicBezTo>
                <a:cubicBezTo>
                  <a:pt x="2900" y="15187"/>
                  <a:pt x="2926" y="15107"/>
                  <a:pt x="2984" y="15081"/>
                </a:cubicBezTo>
                <a:cubicBezTo>
                  <a:pt x="3043" y="15055"/>
                  <a:pt x="3101" y="15099"/>
                  <a:pt x="3143" y="15113"/>
                </a:cubicBezTo>
                <a:cubicBezTo>
                  <a:pt x="3235" y="15144"/>
                  <a:pt x="3247" y="15204"/>
                  <a:pt x="3334" y="15240"/>
                </a:cubicBezTo>
                <a:cubicBezTo>
                  <a:pt x="3373" y="15256"/>
                  <a:pt x="3438" y="15241"/>
                  <a:pt x="3461" y="15208"/>
                </a:cubicBezTo>
                <a:cubicBezTo>
                  <a:pt x="3496" y="15138"/>
                  <a:pt x="3506" y="15108"/>
                  <a:pt x="3492" y="15050"/>
                </a:cubicBezTo>
              </a:path>
              <a:path w="668" h="1525">
                <a:moveTo>
                  <a:pt x="3556" y="14351"/>
                </a:moveTo>
                <a:cubicBezTo>
                  <a:pt x="3535" y="14457"/>
                  <a:pt x="3510" y="14559"/>
                  <a:pt x="3492" y="14668"/>
                </a:cubicBezTo>
                <a:cubicBezTo>
                  <a:pt x="3460" y="14858"/>
                  <a:pt x="3408" y="15052"/>
                  <a:pt x="3366" y="15240"/>
                </a:cubicBezTo>
                <a:cubicBezTo>
                  <a:pt x="3318" y="15454"/>
                  <a:pt x="3263" y="15664"/>
                  <a:pt x="3207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542960" y="5189400"/>
            <a:ext cx="1303560" cy="879480"/>
          </a:xfrm>
          <a:custGeom>
            <a:avLst/>
            <a:gdLst/>
            <a:ahLst/>
            <a:rect l="l" t="t" r="r" b="b"/>
            <a:pathLst>
              <a:path w="3621" h="2446">
                <a:moveTo>
                  <a:pt x="4731" y="14605"/>
                </a:moveTo>
                <a:cubicBezTo>
                  <a:pt x="4731" y="14689"/>
                  <a:pt x="4709" y="14751"/>
                  <a:pt x="4699" y="14827"/>
                </a:cubicBezTo>
                <a:cubicBezTo>
                  <a:pt x="4680" y="14968"/>
                  <a:pt x="4614" y="15110"/>
                  <a:pt x="4540" y="15240"/>
                </a:cubicBezTo>
                <a:cubicBezTo>
                  <a:pt x="4476" y="15353"/>
                  <a:pt x="4419" y="15482"/>
                  <a:pt x="4350" y="15589"/>
                </a:cubicBezTo>
                <a:cubicBezTo>
                  <a:pt x="4322" y="15632"/>
                  <a:pt x="4306" y="15684"/>
                  <a:pt x="4318" y="15653"/>
                </a:cubicBezTo>
                <a:cubicBezTo>
                  <a:pt x="4331" y="15620"/>
                  <a:pt x="4366" y="15539"/>
                  <a:pt x="4413" y="15526"/>
                </a:cubicBezTo>
                <a:cubicBezTo>
                  <a:pt x="4468" y="15510"/>
                  <a:pt x="4513" y="15494"/>
                  <a:pt x="4572" y="15494"/>
                </a:cubicBezTo>
                <a:cubicBezTo>
                  <a:pt x="4608" y="15494"/>
                  <a:pt x="4698" y="15536"/>
                  <a:pt x="4731" y="15558"/>
                </a:cubicBezTo>
                <a:cubicBezTo>
                  <a:pt x="4776" y="15588"/>
                  <a:pt x="4837" y="15615"/>
                  <a:pt x="4890" y="15621"/>
                </a:cubicBezTo>
                <a:cubicBezTo>
                  <a:pt x="4926" y="15621"/>
                  <a:pt x="4939" y="15618"/>
                  <a:pt x="4953" y="15589"/>
                </a:cubicBezTo>
              </a:path>
              <a:path w="3621" h="2446">
                <a:moveTo>
                  <a:pt x="5207" y="15018"/>
                </a:moveTo>
                <a:cubicBezTo>
                  <a:pt x="5188" y="15111"/>
                  <a:pt x="5194" y="15209"/>
                  <a:pt x="5175" y="15304"/>
                </a:cubicBezTo>
                <a:cubicBezTo>
                  <a:pt x="5154" y="15410"/>
                  <a:pt x="5128" y="15519"/>
                  <a:pt x="5112" y="15621"/>
                </a:cubicBezTo>
                <a:cubicBezTo>
                  <a:pt x="5104" y="15673"/>
                  <a:pt x="5112" y="15769"/>
                  <a:pt x="5112" y="15716"/>
                </a:cubicBezTo>
                <a:cubicBezTo>
                  <a:pt x="5112" y="15705"/>
                  <a:pt x="5112" y="15695"/>
                  <a:pt x="5112" y="15684"/>
                </a:cubicBezTo>
              </a:path>
              <a:path w="3621" h="2446">
                <a:moveTo>
                  <a:pt x="5556" y="15113"/>
                </a:moveTo>
                <a:cubicBezTo>
                  <a:pt x="5530" y="15178"/>
                  <a:pt x="5546" y="15248"/>
                  <a:pt x="5524" y="15335"/>
                </a:cubicBezTo>
                <a:cubicBezTo>
                  <a:pt x="5497" y="15440"/>
                  <a:pt x="5451" y="15549"/>
                  <a:pt x="5429" y="15653"/>
                </a:cubicBezTo>
                <a:cubicBezTo>
                  <a:pt x="5413" y="15728"/>
                  <a:pt x="5412" y="15783"/>
                  <a:pt x="5366" y="15843"/>
                </a:cubicBezTo>
                <a:cubicBezTo>
                  <a:pt x="5411" y="15770"/>
                  <a:pt x="5416" y="15673"/>
                  <a:pt x="5461" y="15589"/>
                </a:cubicBezTo>
                <a:cubicBezTo>
                  <a:pt x="5541" y="15440"/>
                  <a:pt x="5572" y="15308"/>
                  <a:pt x="5620" y="15145"/>
                </a:cubicBezTo>
                <a:cubicBezTo>
                  <a:pt x="5639" y="15079"/>
                  <a:pt x="5679" y="14929"/>
                  <a:pt x="5747" y="14891"/>
                </a:cubicBezTo>
                <a:cubicBezTo>
                  <a:pt x="5757" y="14891"/>
                  <a:pt x="5768" y="14891"/>
                  <a:pt x="5778" y="14891"/>
                </a:cubicBezTo>
                <a:cubicBezTo>
                  <a:pt x="5845" y="14907"/>
                  <a:pt x="5865" y="14978"/>
                  <a:pt x="5874" y="15050"/>
                </a:cubicBezTo>
                <a:cubicBezTo>
                  <a:pt x="5894" y="15201"/>
                  <a:pt x="5864" y="15353"/>
                  <a:pt x="5842" y="15494"/>
                </a:cubicBezTo>
                <a:cubicBezTo>
                  <a:pt x="5830" y="15567"/>
                  <a:pt x="5817" y="15646"/>
                  <a:pt x="5810" y="15716"/>
                </a:cubicBezTo>
                <a:cubicBezTo>
                  <a:pt x="5805" y="15769"/>
                  <a:pt x="5801" y="15766"/>
                  <a:pt x="5842" y="15780"/>
                </a:cubicBezTo>
              </a:path>
              <a:path w="3621" h="2446">
                <a:moveTo>
                  <a:pt x="6286" y="14732"/>
                </a:moveTo>
                <a:cubicBezTo>
                  <a:pt x="6246" y="14855"/>
                  <a:pt x="6241" y="14983"/>
                  <a:pt x="6223" y="15113"/>
                </a:cubicBezTo>
                <a:cubicBezTo>
                  <a:pt x="6198" y="15292"/>
                  <a:pt x="6192" y="15477"/>
                  <a:pt x="6160" y="15653"/>
                </a:cubicBezTo>
                <a:cubicBezTo>
                  <a:pt x="6142" y="15753"/>
                  <a:pt x="6128" y="15809"/>
                  <a:pt x="6128" y="15907"/>
                </a:cubicBezTo>
              </a:path>
              <a:path w="3621" h="2446">
                <a:moveTo>
                  <a:pt x="6128" y="14637"/>
                </a:moveTo>
                <a:cubicBezTo>
                  <a:pt x="6141" y="14498"/>
                  <a:pt x="6150" y="14453"/>
                  <a:pt x="6286" y="14414"/>
                </a:cubicBezTo>
                <a:cubicBezTo>
                  <a:pt x="6396" y="14383"/>
                  <a:pt x="6467" y="14441"/>
                  <a:pt x="6540" y="14510"/>
                </a:cubicBezTo>
                <a:cubicBezTo>
                  <a:pt x="6616" y="14581"/>
                  <a:pt x="6706" y="14620"/>
                  <a:pt x="6731" y="14732"/>
                </a:cubicBezTo>
                <a:cubicBezTo>
                  <a:pt x="6745" y="14798"/>
                  <a:pt x="6726" y="14911"/>
                  <a:pt x="6668" y="14954"/>
                </a:cubicBezTo>
                <a:cubicBezTo>
                  <a:pt x="6612" y="14995"/>
                  <a:pt x="6518" y="15022"/>
                  <a:pt x="6445" y="15050"/>
                </a:cubicBezTo>
                <a:cubicBezTo>
                  <a:pt x="6383" y="15074"/>
                  <a:pt x="6320" y="15063"/>
                  <a:pt x="6255" y="15081"/>
                </a:cubicBezTo>
                <a:cubicBezTo>
                  <a:pt x="6226" y="15110"/>
                  <a:pt x="6220" y="15121"/>
                  <a:pt x="6191" y="15113"/>
                </a:cubicBezTo>
                <a:cubicBezTo>
                  <a:pt x="6255" y="15121"/>
                  <a:pt x="6264" y="15106"/>
                  <a:pt x="6318" y="15145"/>
                </a:cubicBezTo>
                <a:cubicBezTo>
                  <a:pt x="6370" y="15182"/>
                  <a:pt x="6408" y="15234"/>
                  <a:pt x="6445" y="15304"/>
                </a:cubicBezTo>
                <a:cubicBezTo>
                  <a:pt x="6494" y="15397"/>
                  <a:pt x="6500" y="15462"/>
                  <a:pt x="6540" y="15558"/>
                </a:cubicBezTo>
                <a:cubicBezTo>
                  <a:pt x="6592" y="15681"/>
                  <a:pt x="6568" y="15724"/>
                  <a:pt x="6668" y="15812"/>
                </a:cubicBezTo>
                <a:cubicBezTo>
                  <a:pt x="6729" y="15866"/>
                  <a:pt x="6724" y="15846"/>
                  <a:pt x="6794" y="15875"/>
                </a:cubicBezTo>
                <a:cubicBezTo>
                  <a:pt x="6839" y="15804"/>
                  <a:pt x="6890" y="15734"/>
                  <a:pt x="6922" y="15653"/>
                </a:cubicBezTo>
                <a:cubicBezTo>
                  <a:pt x="6965" y="15543"/>
                  <a:pt x="6974" y="15439"/>
                  <a:pt x="7017" y="15335"/>
                </a:cubicBezTo>
                <a:cubicBezTo>
                  <a:pt x="7051" y="15253"/>
                  <a:pt x="7052" y="15165"/>
                  <a:pt x="7080" y="15081"/>
                </a:cubicBezTo>
                <a:cubicBezTo>
                  <a:pt x="7103" y="15014"/>
                  <a:pt x="7104" y="15016"/>
                  <a:pt x="7112" y="14954"/>
                </a:cubicBezTo>
                <a:cubicBezTo>
                  <a:pt x="7092" y="14975"/>
                  <a:pt x="7048" y="15006"/>
                  <a:pt x="7017" y="15050"/>
                </a:cubicBezTo>
                <a:cubicBezTo>
                  <a:pt x="6960" y="15130"/>
                  <a:pt x="6900" y="15302"/>
                  <a:pt x="6890" y="15399"/>
                </a:cubicBezTo>
                <a:cubicBezTo>
                  <a:pt x="6878" y="15507"/>
                  <a:pt x="6881" y="15618"/>
                  <a:pt x="6922" y="15716"/>
                </a:cubicBezTo>
                <a:cubicBezTo>
                  <a:pt x="6966" y="15823"/>
                  <a:pt x="7086" y="15871"/>
                  <a:pt x="7176" y="15843"/>
                </a:cubicBezTo>
                <a:cubicBezTo>
                  <a:pt x="7272" y="15813"/>
                  <a:pt x="7372" y="15734"/>
                  <a:pt x="7430" y="15653"/>
                </a:cubicBezTo>
                <a:cubicBezTo>
                  <a:pt x="7482" y="15581"/>
                  <a:pt x="7568" y="15490"/>
                  <a:pt x="7588" y="15399"/>
                </a:cubicBezTo>
                <a:cubicBezTo>
                  <a:pt x="7605" y="15323"/>
                  <a:pt x="7596" y="15210"/>
                  <a:pt x="7556" y="15145"/>
                </a:cubicBezTo>
                <a:cubicBezTo>
                  <a:pt x="7546" y="15134"/>
                  <a:pt x="7535" y="15124"/>
                  <a:pt x="7525" y="15113"/>
                </a:cubicBezTo>
                <a:cubicBezTo>
                  <a:pt x="7437" y="15124"/>
                  <a:pt x="7416" y="15123"/>
                  <a:pt x="7366" y="15208"/>
                </a:cubicBezTo>
                <a:cubicBezTo>
                  <a:pt x="7321" y="15284"/>
                  <a:pt x="7285" y="15379"/>
                  <a:pt x="7271" y="15462"/>
                </a:cubicBezTo>
                <a:cubicBezTo>
                  <a:pt x="7257" y="15550"/>
                  <a:pt x="7318" y="15620"/>
                  <a:pt x="7366" y="15684"/>
                </a:cubicBezTo>
                <a:cubicBezTo>
                  <a:pt x="7377" y="15695"/>
                  <a:pt x="7387" y="15705"/>
                  <a:pt x="7398" y="15716"/>
                </a:cubicBezTo>
                <a:cubicBezTo>
                  <a:pt x="7472" y="15674"/>
                  <a:pt x="7534" y="15668"/>
                  <a:pt x="7588" y="15589"/>
                </a:cubicBezTo>
                <a:cubicBezTo>
                  <a:pt x="7639" y="15515"/>
                  <a:pt x="7670" y="15389"/>
                  <a:pt x="7684" y="15304"/>
                </a:cubicBezTo>
                <a:cubicBezTo>
                  <a:pt x="7695" y="15241"/>
                  <a:pt x="7663" y="15262"/>
                  <a:pt x="7652" y="15240"/>
                </a:cubicBezTo>
                <a:cubicBezTo>
                  <a:pt x="7632" y="15319"/>
                  <a:pt x="7596" y="15414"/>
                  <a:pt x="7588" y="15494"/>
                </a:cubicBezTo>
                <a:cubicBezTo>
                  <a:pt x="7571" y="15653"/>
                  <a:pt x="7582" y="15813"/>
                  <a:pt x="7556" y="15970"/>
                </a:cubicBezTo>
                <a:cubicBezTo>
                  <a:pt x="7532" y="16119"/>
                  <a:pt x="7512" y="16271"/>
                  <a:pt x="7461" y="16415"/>
                </a:cubicBezTo>
                <a:cubicBezTo>
                  <a:pt x="7426" y="16513"/>
                  <a:pt x="7372" y="16604"/>
                  <a:pt x="7334" y="16700"/>
                </a:cubicBezTo>
                <a:cubicBezTo>
                  <a:pt x="7295" y="16798"/>
                  <a:pt x="7270" y="16830"/>
                  <a:pt x="7176" y="16859"/>
                </a:cubicBezTo>
                <a:cubicBezTo>
                  <a:pt x="7165" y="16859"/>
                  <a:pt x="7155" y="16859"/>
                  <a:pt x="7144" y="16859"/>
                </a:cubicBezTo>
                <a:cubicBezTo>
                  <a:pt x="7063" y="16779"/>
                  <a:pt x="7060" y="16852"/>
                  <a:pt x="7048" y="16700"/>
                </a:cubicBezTo>
                <a:cubicBezTo>
                  <a:pt x="7041" y="16618"/>
                  <a:pt x="7032" y="16516"/>
                  <a:pt x="7080" y="16446"/>
                </a:cubicBezTo>
                <a:cubicBezTo>
                  <a:pt x="7144" y="16353"/>
                  <a:pt x="7227" y="16246"/>
                  <a:pt x="7302" y="16161"/>
                </a:cubicBezTo>
                <a:cubicBezTo>
                  <a:pt x="7403" y="16047"/>
                  <a:pt x="7490" y="15927"/>
                  <a:pt x="7588" y="15812"/>
                </a:cubicBezTo>
                <a:cubicBezTo>
                  <a:pt x="7665" y="15722"/>
                  <a:pt x="7703" y="15618"/>
                  <a:pt x="7779" y="15526"/>
                </a:cubicBezTo>
                <a:cubicBezTo>
                  <a:pt x="7838" y="15466"/>
                  <a:pt x="7853" y="15448"/>
                  <a:pt x="7906" y="15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5703840" y="1657440"/>
            <a:ext cx="1050840" cy="960480"/>
          </a:xfrm>
          <a:custGeom>
            <a:avLst/>
            <a:gdLst/>
            <a:ahLst/>
            <a:rect l="l" t="t" r="r" b="b"/>
            <a:pathLst>
              <a:path w="2922" h="2668">
                <a:moveTo>
                  <a:pt x="16542" y="5429"/>
                </a:moveTo>
                <a:cubicBezTo>
                  <a:pt x="16516" y="5449"/>
                  <a:pt x="16504" y="5441"/>
                  <a:pt x="16478" y="5461"/>
                </a:cubicBezTo>
                <a:cubicBezTo>
                  <a:pt x="16527" y="5412"/>
                  <a:pt x="16570" y="5360"/>
                  <a:pt x="16605" y="5302"/>
                </a:cubicBezTo>
                <a:cubicBezTo>
                  <a:pt x="16645" y="5236"/>
                  <a:pt x="16681" y="5169"/>
                  <a:pt x="16732" y="5112"/>
                </a:cubicBezTo>
                <a:cubicBezTo>
                  <a:pt x="16764" y="5076"/>
                  <a:pt x="16848" y="5027"/>
                  <a:pt x="16891" y="5016"/>
                </a:cubicBezTo>
                <a:cubicBezTo>
                  <a:pt x="16940" y="5004"/>
                  <a:pt x="17035" y="5059"/>
                  <a:pt x="17050" y="5112"/>
                </a:cubicBezTo>
                <a:cubicBezTo>
                  <a:pt x="17077" y="5204"/>
                  <a:pt x="17049" y="5345"/>
                  <a:pt x="17018" y="5429"/>
                </a:cubicBezTo>
                <a:cubicBezTo>
                  <a:pt x="16970" y="5560"/>
                  <a:pt x="16976" y="5707"/>
                  <a:pt x="16923" y="5842"/>
                </a:cubicBezTo>
                <a:cubicBezTo>
                  <a:pt x="16840" y="6056"/>
                  <a:pt x="16758" y="6264"/>
                  <a:pt x="16669" y="6477"/>
                </a:cubicBezTo>
                <a:cubicBezTo>
                  <a:pt x="16619" y="6595"/>
                  <a:pt x="16568" y="6711"/>
                  <a:pt x="16510" y="6826"/>
                </a:cubicBezTo>
                <a:cubicBezTo>
                  <a:pt x="16482" y="6882"/>
                  <a:pt x="16477" y="6897"/>
                  <a:pt x="16446" y="6922"/>
                </a:cubicBezTo>
                <a:cubicBezTo>
                  <a:pt x="16475" y="6856"/>
                  <a:pt x="16513" y="6794"/>
                  <a:pt x="16542" y="6731"/>
                </a:cubicBezTo>
                <a:cubicBezTo>
                  <a:pt x="16561" y="6689"/>
                  <a:pt x="16574" y="6590"/>
                  <a:pt x="16637" y="6572"/>
                </a:cubicBezTo>
                <a:cubicBezTo>
                  <a:pt x="16720" y="6548"/>
                  <a:pt x="16728" y="6540"/>
                  <a:pt x="16796" y="6572"/>
                </a:cubicBezTo>
                <a:cubicBezTo>
                  <a:pt x="16878" y="6611"/>
                  <a:pt x="16906" y="6618"/>
                  <a:pt x="16954" y="6699"/>
                </a:cubicBezTo>
                <a:cubicBezTo>
                  <a:pt x="16977" y="6737"/>
                  <a:pt x="16995" y="6838"/>
                  <a:pt x="17050" y="6858"/>
                </a:cubicBezTo>
                <a:cubicBezTo>
                  <a:pt x="17125" y="6885"/>
                  <a:pt x="17116" y="6813"/>
                  <a:pt x="17145" y="6763"/>
                </a:cubicBezTo>
              </a:path>
              <a:path w="2922" h="2668">
                <a:moveTo>
                  <a:pt x="17367" y="5207"/>
                </a:moveTo>
                <a:cubicBezTo>
                  <a:pt x="17367" y="5323"/>
                  <a:pt x="17381" y="5417"/>
                  <a:pt x="17399" y="5524"/>
                </a:cubicBezTo>
                <a:cubicBezTo>
                  <a:pt x="17417" y="5633"/>
                  <a:pt x="17399" y="5763"/>
                  <a:pt x="17399" y="5874"/>
                </a:cubicBezTo>
                <a:cubicBezTo>
                  <a:pt x="17459" y="5854"/>
                  <a:pt x="17403" y="5816"/>
                  <a:pt x="17399" y="5747"/>
                </a:cubicBezTo>
                <a:cubicBezTo>
                  <a:pt x="17391" y="5620"/>
                  <a:pt x="17411" y="5515"/>
                  <a:pt x="17431" y="5398"/>
                </a:cubicBezTo>
                <a:cubicBezTo>
                  <a:pt x="17438" y="5353"/>
                  <a:pt x="17431" y="5284"/>
                  <a:pt x="17431" y="5239"/>
                </a:cubicBezTo>
                <a:cubicBezTo>
                  <a:pt x="17463" y="5292"/>
                  <a:pt x="17504" y="5363"/>
                  <a:pt x="17526" y="5429"/>
                </a:cubicBezTo>
                <a:cubicBezTo>
                  <a:pt x="17549" y="5497"/>
                  <a:pt x="17565" y="5585"/>
                  <a:pt x="17590" y="5652"/>
                </a:cubicBezTo>
                <a:cubicBezTo>
                  <a:pt x="17615" y="5720"/>
                  <a:pt x="17637" y="5779"/>
                  <a:pt x="17653" y="5842"/>
                </a:cubicBezTo>
                <a:cubicBezTo>
                  <a:pt x="17739" y="5813"/>
                  <a:pt x="17646" y="5747"/>
                  <a:pt x="17653" y="5683"/>
                </a:cubicBezTo>
                <a:cubicBezTo>
                  <a:pt x="17663" y="5591"/>
                  <a:pt x="17685" y="5499"/>
                  <a:pt x="17685" y="5398"/>
                </a:cubicBezTo>
                <a:cubicBezTo>
                  <a:pt x="17685" y="5319"/>
                  <a:pt x="17728" y="5274"/>
                  <a:pt x="17748" y="5207"/>
                </a:cubicBezTo>
                <a:cubicBezTo>
                  <a:pt x="17748" y="5171"/>
                  <a:pt x="17751" y="5157"/>
                  <a:pt x="17780" y="5144"/>
                </a:cubicBezTo>
              </a:path>
              <a:path w="2922" h="2668">
                <a:moveTo>
                  <a:pt x="17875" y="5175"/>
                </a:moveTo>
                <a:cubicBezTo>
                  <a:pt x="17888" y="5226"/>
                  <a:pt x="17891" y="5280"/>
                  <a:pt x="17907" y="5334"/>
                </a:cubicBezTo>
                <a:cubicBezTo>
                  <a:pt x="17936" y="5432"/>
                  <a:pt x="17965" y="5485"/>
                  <a:pt x="17970" y="5588"/>
                </a:cubicBezTo>
                <a:cubicBezTo>
                  <a:pt x="17973" y="5651"/>
                  <a:pt x="18033" y="5749"/>
                  <a:pt x="18002" y="5810"/>
                </a:cubicBezTo>
                <a:cubicBezTo>
                  <a:pt x="17991" y="5821"/>
                  <a:pt x="17981" y="5831"/>
                  <a:pt x="17970" y="5842"/>
                </a:cubicBezTo>
                <a:cubicBezTo>
                  <a:pt x="17970" y="5772"/>
                  <a:pt x="17942" y="5723"/>
                  <a:pt x="17939" y="5652"/>
                </a:cubicBezTo>
                <a:cubicBezTo>
                  <a:pt x="17935" y="5546"/>
                  <a:pt x="17892" y="5493"/>
                  <a:pt x="17875" y="5398"/>
                </a:cubicBezTo>
                <a:cubicBezTo>
                  <a:pt x="17863" y="5332"/>
                  <a:pt x="17868" y="5255"/>
                  <a:pt x="17907" y="5207"/>
                </a:cubicBezTo>
                <a:cubicBezTo>
                  <a:pt x="17937" y="5169"/>
                  <a:pt x="17993" y="5126"/>
                  <a:pt x="18034" y="5112"/>
                </a:cubicBezTo>
                <a:cubicBezTo>
                  <a:pt x="18095" y="5092"/>
                  <a:pt x="18156" y="5170"/>
                  <a:pt x="18193" y="5207"/>
                </a:cubicBezTo>
                <a:cubicBezTo>
                  <a:pt x="18260" y="5275"/>
                  <a:pt x="18253" y="5322"/>
                  <a:pt x="18288" y="5398"/>
                </a:cubicBezTo>
                <a:cubicBezTo>
                  <a:pt x="18327" y="5481"/>
                  <a:pt x="18274" y="5486"/>
                  <a:pt x="18224" y="5556"/>
                </a:cubicBezTo>
                <a:cubicBezTo>
                  <a:pt x="18176" y="5622"/>
                  <a:pt x="18120" y="5687"/>
                  <a:pt x="18034" y="5715"/>
                </a:cubicBezTo>
                <a:cubicBezTo>
                  <a:pt x="18023" y="5715"/>
                  <a:pt x="18013" y="5715"/>
                  <a:pt x="18002" y="5715"/>
                </a:cubicBezTo>
              </a:path>
              <a:path w="2922" h="2668">
                <a:moveTo>
                  <a:pt x="16066" y="7239"/>
                </a:moveTo>
                <a:cubicBezTo>
                  <a:pt x="16108" y="7260"/>
                  <a:pt x="16083" y="7266"/>
                  <a:pt x="16129" y="7271"/>
                </a:cubicBezTo>
                <a:cubicBezTo>
                  <a:pt x="16262" y="7285"/>
                  <a:pt x="16383" y="7253"/>
                  <a:pt x="16510" y="7239"/>
                </a:cubicBezTo>
                <a:cubicBezTo>
                  <a:pt x="16649" y="7223"/>
                  <a:pt x="16786" y="7230"/>
                  <a:pt x="16923" y="7207"/>
                </a:cubicBezTo>
                <a:cubicBezTo>
                  <a:pt x="17093" y="7178"/>
                  <a:pt x="17262" y="7169"/>
                  <a:pt x="17431" y="7144"/>
                </a:cubicBezTo>
                <a:cubicBezTo>
                  <a:pt x="17615" y="7117"/>
                  <a:pt x="17784" y="7112"/>
                  <a:pt x="17970" y="7112"/>
                </a:cubicBezTo>
                <a:cubicBezTo>
                  <a:pt x="18176" y="7112"/>
                  <a:pt x="18379" y="7126"/>
                  <a:pt x="18574" y="7144"/>
                </a:cubicBezTo>
                <a:cubicBezTo>
                  <a:pt x="18648" y="7151"/>
                  <a:pt x="18669" y="7157"/>
                  <a:pt x="18732" y="7176"/>
                </a:cubicBezTo>
                <a:cubicBezTo>
                  <a:pt x="18719" y="7116"/>
                  <a:pt x="18703" y="7093"/>
                  <a:pt x="18701" y="7017"/>
                </a:cubicBezTo>
                <a:cubicBezTo>
                  <a:pt x="18698" y="6901"/>
                  <a:pt x="18655" y="6780"/>
                  <a:pt x="18669" y="6668"/>
                </a:cubicBezTo>
                <a:cubicBezTo>
                  <a:pt x="18692" y="6488"/>
                  <a:pt x="18681" y="6308"/>
                  <a:pt x="18701" y="6128"/>
                </a:cubicBezTo>
                <a:cubicBezTo>
                  <a:pt x="18724" y="5924"/>
                  <a:pt x="18732" y="5731"/>
                  <a:pt x="18732" y="5524"/>
                </a:cubicBezTo>
                <a:cubicBezTo>
                  <a:pt x="18732" y="5354"/>
                  <a:pt x="18749" y="5219"/>
                  <a:pt x="18732" y="5048"/>
                </a:cubicBezTo>
                <a:cubicBezTo>
                  <a:pt x="18718" y="4905"/>
                  <a:pt x="18724" y="4776"/>
                  <a:pt x="18701" y="4636"/>
                </a:cubicBezTo>
                <a:cubicBezTo>
                  <a:pt x="18701" y="4625"/>
                  <a:pt x="18701" y="4615"/>
                  <a:pt x="18701" y="4604"/>
                </a:cubicBezTo>
                <a:cubicBezTo>
                  <a:pt x="18610" y="4612"/>
                  <a:pt x="18535" y="4619"/>
                  <a:pt x="18447" y="4636"/>
                </a:cubicBezTo>
                <a:cubicBezTo>
                  <a:pt x="18338" y="4658"/>
                  <a:pt x="18243" y="4695"/>
                  <a:pt x="18129" y="4699"/>
                </a:cubicBezTo>
                <a:cubicBezTo>
                  <a:pt x="17989" y="4704"/>
                  <a:pt x="17860" y="4731"/>
                  <a:pt x="17716" y="4731"/>
                </a:cubicBezTo>
                <a:cubicBezTo>
                  <a:pt x="17571" y="4731"/>
                  <a:pt x="17445" y="4703"/>
                  <a:pt x="17304" y="4699"/>
                </a:cubicBezTo>
                <a:cubicBezTo>
                  <a:pt x="17118" y="4693"/>
                  <a:pt x="16943" y="4712"/>
                  <a:pt x="16764" y="4731"/>
                </a:cubicBezTo>
                <a:cubicBezTo>
                  <a:pt x="16626" y="4746"/>
                  <a:pt x="16486" y="4732"/>
                  <a:pt x="16351" y="4762"/>
                </a:cubicBezTo>
                <a:cubicBezTo>
                  <a:pt x="16235" y="4788"/>
                  <a:pt x="16116" y="4798"/>
                  <a:pt x="16002" y="4826"/>
                </a:cubicBezTo>
                <a:cubicBezTo>
                  <a:pt x="15935" y="4842"/>
                  <a:pt x="15911" y="4853"/>
                  <a:pt x="15843" y="4858"/>
                </a:cubicBezTo>
                <a:cubicBezTo>
                  <a:pt x="15866" y="4937"/>
                  <a:pt x="15895" y="5028"/>
                  <a:pt x="15907" y="5112"/>
                </a:cubicBezTo>
                <a:cubicBezTo>
                  <a:pt x="15923" y="5225"/>
                  <a:pt x="15930" y="5349"/>
                  <a:pt x="15938" y="5461"/>
                </a:cubicBezTo>
                <a:cubicBezTo>
                  <a:pt x="15961" y="5799"/>
                  <a:pt x="15944" y="6140"/>
                  <a:pt x="15970" y="6477"/>
                </a:cubicBezTo>
                <a:cubicBezTo>
                  <a:pt x="15986" y="6686"/>
                  <a:pt x="15970" y="6902"/>
                  <a:pt x="15970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5840280" y="2766960"/>
            <a:ext cx="2721240" cy="971640"/>
          </a:xfrm>
          <a:custGeom>
            <a:avLst/>
            <a:gdLst/>
            <a:ahLst/>
            <a:rect l="l" t="t" r="r" b="b"/>
            <a:pathLst>
              <a:path w="7558" h="2699">
                <a:moveTo>
                  <a:pt x="17399" y="8287"/>
                </a:moveTo>
                <a:cubicBezTo>
                  <a:pt x="17345" y="8246"/>
                  <a:pt x="17326" y="8240"/>
                  <a:pt x="17272" y="8287"/>
                </a:cubicBezTo>
                <a:cubicBezTo>
                  <a:pt x="17212" y="8339"/>
                  <a:pt x="17174" y="8403"/>
                  <a:pt x="17145" y="8477"/>
                </a:cubicBezTo>
                <a:cubicBezTo>
                  <a:pt x="17096" y="8601"/>
                  <a:pt x="17064" y="8727"/>
                  <a:pt x="17050" y="8858"/>
                </a:cubicBezTo>
                <a:cubicBezTo>
                  <a:pt x="17036" y="8992"/>
                  <a:pt x="17039" y="9145"/>
                  <a:pt x="17082" y="9271"/>
                </a:cubicBezTo>
                <a:cubicBezTo>
                  <a:pt x="17107" y="9343"/>
                  <a:pt x="17171" y="9396"/>
                  <a:pt x="17208" y="9462"/>
                </a:cubicBezTo>
                <a:cubicBezTo>
                  <a:pt x="17239" y="9454"/>
                  <a:pt x="17415" y="9387"/>
                  <a:pt x="17431" y="9366"/>
                </a:cubicBezTo>
                <a:cubicBezTo>
                  <a:pt x="17485" y="9294"/>
                  <a:pt x="17545" y="9100"/>
                  <a:pt x="17558" y="9017"/>
                </a:cubicBezTo>
                <a:cubicBezTo>
                  <a:pt x="17583" y="8865"/>
                  <a:pt x="17537" y="8715"/>
                  <a:pt x="17494" y="8572"/>
                </a:cubicBezTo>
                <a:cubicBezTo>
                  <a:pt x="17464" y="8474"/>
                  <a:pt x="17392" y="8376"/>
                  <a:pt x="17304" y="8318"/>
                </a:cubicBezTo>
                <a:cubicBezTo>
                  <a:pt x="17283" y="8308"/>
                  <a:pt x="17261" y="8297"/>
                  <a:pt x="17240" y="8287"/>
                </a:cubicBezTo>
              </a:path>
              <a:path w="7558" h="2699">
                <a:moveTo>
                  <a:pt x="16224" y="8192"/>
                </a:moveTo>
                <a:cubicBezTo>
                  <a:pt x="16232" y="8312"/>
                  <a:pt x="16253" y="8420"/>
                  <a:pt x="16256" y="8541"/>
                </a:cubicBezTo>
                <a:cubicBezTo>
                  <a:pt x="16263" y="8777"/>
                  <a:pt x="16270" y="9006"/>
                  <a:pt x="16288" y="9239"/>
                </a:cubicBezTo>
                <a:cubicBezTo>
                  <a:pt x="16310" y="9520"/>
                  <a:pt x="16239" y="9829"/>
                  <a:pt x="16320" y="10096"/>
                </a:cubicBezTo>
                <a:cubicBezTo>
                  <a:pt x="16395" y="10091"/>
                  <a:pt x="16448" y="10082"/>
                  <a:pt x="16510" y="10065"/>
                </a:cubicBezTo>
                <a:cubicBezTo>
                  <a:pt x="16602" y="10040"/>
                  <a:pt x="16705" y="10027"/>
                  <a:pt x="16796" y="10001"/>
                </a:cubicBezTo>
                <a:cubicBezTo>
                  <a:pt x="16913" y="9968"/>
                  <a:pt x="17019" y="9970"/>
                  <a:pt x="17145" y="9970"/>
                </a:cubicBezTo>
                <a:cubicBezTo>
                  <a:pt x="17445" y="9970"/>
                  <a:pt x="17884" y="10050"/>
                  <a:pt x="18161" y="9938"/>
                </a:cubicBezTo>
                <a:cubicBezTo>
                  <a:pt x="18216" y="9916"/>
                  <a:pt x="18229" y="9907"/>
                  <a:pt x="18256" y="9874"/>
                </a:cubicBezTo>
                <a:cubicBezTo>
                  <a:pt x="18319" y="9797"/>
                  <a:pt x="18262" y="9736"/>
                  <a:pt x="18256" y="9652"/>
                </a:cubicBezTo>
                <a:cubicBezTo>
                  <a:pt x="18248" y="9537"/>
                  <a:pt x="18219" y="9417"/>
                  <a:pt x="18193" y="9303"/>
                </a:cubicBezTo>
                <a:cubicBezTo>
                  <a:pt x="18150" y="9111"/>
                  <a:pt x="18083" y="8927"/>
                  <a:pt x="18066" y="8731"/>
                </a:cubicBezTo>
                <a:cubicBezTo>
                  <a:pt x="18053" y="8580"/>
                  <a:pt x="18008" y="8408"/>
                  <a:pt x="18034" y="8255"/>
                </a:cubicBezTo>
                <a:cubicBezTo>
                  <a:pt x="18053" y="8141"/>
                  <a:pt x="18054" y="8011"/>
                  <a:pt x="18098" y="7906"/>
                </a:cubicBezTo>
                <a:cubicBezTo>
                  <a:pt x="18128" y="7834"/>
                  <a:pt x="18124" y="7790"/>
                  <a:pt x="18129" y="7715"/>
                </a:cubicBezTo>
                <a:cubicBezTo>
                  <a:pt x="18061" y="7698"/>
                  <a:pt x="18047" y="7694"/>
                  <a:pt x="17970" y="7715"/>
                </a:cubicBezTo>
                <a:cubicBezTo>
                  <a:pt x="17839" y="7750"/>
                  <a:pt x="17727" y="7824"/>
                  <a:pt x="17590" y="7842"/>
                </a:cubicBezTo>
                <a:cubicBezTo>
                  <a:pt x="17454" y="7860"/>
                  <a:pt x="17313" y="7881"/>
                  <a:pt x="17177" y="7906"/>
                </a:cubicBezTo>
                <a:cubicBezTo>
                  <a:pt x="17028" y="7933"/>
                  <a:pt x="16877" y="7965"/>
                  <a:pt x="16732" y="8001"/>
                </a:cubicBezTo>
                <a:cubicBezTo>
                  <a:pt x="16620" y="8029"/>
                  <a:pt x="16487" y="8058"/>
                  <a:pt x="16383" y="8096"/>
                </a:cubicBezTo>
                <a:cubicBezTo>
                  <a:pt x="16328" y="8124"/>
                  <a:pt x="16313" y="8129"/>
                  <a:pt x="16288" y="8160"/>
                </a:cubicBezTo>
              </a:path>
              <a:path w="7558" h="2699">
                <a:moveTo>
                  <a:pt x="18478" y="8668"/>
                </a:moveTo>
                <a:cubicBezTo>
                  <a:pt x="18395" y="8668"/>
                  <a:pt x="18528" y="8668"/>
                  <a:pt x="18542" y="8668"/>
                </a:cubicBezTo>
                <a:cubicBezTo>
                  <a:pt x="18697" y="8668"/>
                  <a:pt x="18841" y="8681"/>
                  <a:pt x="18986" y="8700"/>
                </a:cubicBezTo>
                <a:cubicBezTo>
                  <a:pt x="19086" y="8713"/>
                  <a:pt x="19170" y="8731"/>
                  <a:pt x="19272" y="8731"/>
                </a:cubicBezTo>
                <a:cubicBezTo>
                  <a:pt x="19314" y="8731"/>
                  <a:pt x="19357" y="8731"/>
                  <a:pt x="19399" y="8731"/>
                </a:cubicBezTo>
              </a:path>
              <a:path w="7558" h="2699">
                <a:moveTo>
                  <a:pt x="19050" y="8414"/>
                </a:moveTo>
                <a:cubicBezTo>
                  <a:pt x="19018" y="8414"/>
                  <a:pt x="19007" y="8414"/>
                  <a:pt x="19018" y="8446"/>
                </a:cubicBezTo>
                <a:cubicBezTo>
                  <a:pt x="19036" y="8499"/>
                  <a:pt x="19109" y="8505"/>
                  <a:pt x="19177" y="8509"/>
                </a:cubicBezTo>
                <a:cubicBezTo>
                  <a:pt x="19242" y="8513"/>
                  <a:pt x="19371" y="8518"/>
                  <a:pt x="19431" y="8541"/>
                </a:cubicBezTo>
                <a:cubicBezTo>
                  <a:pt x="19477" y="8558"/>
                  <a:pt x="19564" y="8577"/>
                  <a:pt x="19590" y="8636"/>
                </a:cubicBezTo>
                <a:cubicBezTo>
                  <a:pt x="19590" y="8672"/>
                  <a:pt x="19593" y="8686"/>
                  <a:pt x="19622" y="8700"/>
                </a:cubicBezTo>
                <a:cubicBezTo>
                  <a:pt x="19580" y="8754"/>
                  <a:pt x="19604" y="8799"/>
                  <a:pt x="19558" y="8858"/>
                </a:cubicBezTo>
                <a:cubicBezTo>
                  <a:pt x="19501" y="8932"/>
                  <a:pt x="19434" y="8994"/>
                  <a:pt x="19368" y="9049"/>
                </a:cubicBezTo>
                <a:cubicBezTo>
                  <a:pt x="19316" y="9092"/>
                  <a:pt x="19289" y="9159"/>
                  <a:pt x="19240" y="9208"/>
                </a:cubicBezTo>
              </a:path>
              <a:path w="7558" h="2699">
                <a:moveTo>
                  <a:pt x="20542" y="8001"/>
                </a:moveTo>
                <a:cubicBezTo>
                  <a:pt x="20542" y="8086"/>
                  <a:pt x="20561" y="8145"/>
                  <a:pt x="20574" y="8223"/>
                </a:cubicBezTo>
                <a:cubicBezTo>
                  <a:pt x="20587" y="8302"/>
                  <a:pt x="20577" y="8337"/>
                  <a:pt x="20606" y="8414"/>
                </a:cubicBezTo>
                <a:cubicBezTo>
                  <a:pt x="20606" y="8333"/>
                  <a:pt x="20587" y="8296"/>
                  <a:pt x="20574" y="8223"/>
                </a:cubicBezTo>
                <a:cubicBezTo>
                  <a:pt x="20566" y="8177"/>
                  <a:pt x="20549" y="8059"/>
                  <a:pt x="20510" y="8033"/>
                </a:cubicBezTo>
                <a:cubicBezTo>
                  <a:pt x="20500" y="8033"/>
                  <a:pt x="20489" y="8033"/>
                  <a:pt x="20479" y="8033"/>
                </a:cubicBezTo>
                <a:cubicBezTo>
                  <a:pt x="20405" y="8051"/>
                  <a:pt x="20381" y="8119"/>
                  <a:pt x="20352" y="8192"/>
                </a:cubicBezTo>
                <a:cubicBezTo>
                  <a:pt x="20295" y="8337"/>
                  <a:pt x="20294" y="8513"/>
                  <a:pt x="20256" y="8668"/>
                </a:cubicBezTo>
                <a:cubicBezTo>
                  <a:pt x="20217" y="8824"/>
                  <a:pt x="20203" y="9015"/>
                  <a:pt x="20225" y="9176"/>
                </a:cubicBezTo>
                <a:cubicBezTo>
                  <a:pt x="20238" y="9273"/>
                  <a:pt x="20243" y="9481"/>
                  <a:pt x="20320" y="9557"/>
                </a:cubicBezTo>
                <a:cubicBezTo>
                  <a:pt x="20388" y="9624"/>
                  <a:pt x="20440" y="9625"/>
                  <a:pt x="20510" y="9588"/>
                </a:cubicBezTo>
                <a:cubicBezTo>
                  <a:pt x="20574" y="9557"/>
                  <a:pt x="20596" y="9547"/>
                  <a:pt x="20638" y="9525"/>
                </a:cubicBezTo>
              </a:path>
              <a:path w="7558" h="2699">
                <a:moveTo>
                  <a:pt x="20987" y="8731"/>
                </a:moveTo>
                <a:cubicBezTo>
                  <a:pt x="20987" y="8655"/>
                  <a:pt x="20996" y="8659"/>
                  <a:pt x="20955" y="8604"/>
                </a:cubicBezTo>
                <a:cubicBezTo>
                  <a:pt x="20931" y="8612"/>
                  <a:pt x="20879" y="8660"/>
                  <a:pt x="20860" y="8700"/>
                </a:cubicBezTo>
                <a:cubicBezTo>
                  <a:pt x="20814" y="8797"/>
                  <a:pt x="20780" y="8916"/>
                  <a:pt x="20764" y="9017"/>
                </a:cubicBezTo>
                <a:cubicBezTo>
                  <a:pt x="20750" y="9103"/>
                  <a:pt x="20782" y="9271"/>
                  <a:pt x="20828" y="9334"/>
                </a:cubicBezTo>
                <a:cubicBezTo>
                  <a:pt x="20839" y="9345"/>
                  <a:pt x="20849" y="9355"/>
                  <a:pt x="20860" y="9366"/>
                </a:cubicBezTo>
                <a:cubicBezTo>
                  <a:pt x="20947" y="9344"/>
                  <a:pt x="20958" y="9260"/>
                  <a:pt x="20987" y="9176"/>
                </a:cubicBezTo>
                <a:cubicBezTo>
                  <a:pt x="21030" y="9051"/>
                  <a:pt x="21064" y="8923"/>
                  <a:pt x="21082" y="8795"/>
                </a:cubicBezTo>
                <a:cubicBezTo>
                  <a:pt x="21082" y="8731"/>
                  <a:pt x="21082" y="8710"/>
                  <a:pt x="21082" y="8668"/>
                </a:cubicBezTo>
                <a:cubicBezTo>
                  <a:pt x="21082" y="8885"/>
                  <a:pt x="21086" y="9092"/>
                  <a:pt x="21114" y="9303"/>
                </a:cubicBezTo>
                <a:cubicBezTo>
                  <a:pt x="21114" y="9324"/>
                  <a:pt x="21114" y="9345"/>
                  <a:pt x="21114" y="9366"/>
                </a:cubicBezTo>
                <a:cubicBezTo>
                  <a:pt x="21195" y="9366"/>
                  <a:pt x="21197" y="9382"/>
                  <a:pt x="21241" y="9303"/>
                </a:cubicBezTo>
                <a:cubicBezTo>
                  <a:pt x="21285" y="9212"/>
                  <a:pt x="21302" y="9161"/>
                  <a:pt x="21304" y="9080"/>
                </a:cubicBezTo>
              </a:path>
              <a:path w="7558" h="2699">
                <a:moveTo>
                  <a:pt x="21463" y="8192"/>
                </a:moveTo>
                <a:cubicBezTo>
                  <a:pt x="21463" y="8109"/>
                  <a:pt x="21435" y="8272"/>
                  <a:pt x="21431" y="8287"/>
                </a:cubicBezTo>
                <a:cubicBezTo>
                  <a:pt x="21389" y="8445"/>
                  <a:pt x="21400" y="8598"/>
                  <a:pt x="21400" y="8763"/>
                </a:cubicBezTo>
                <a:cubicBezTo>
                  <a:pt x="21400" y="8947"/>
                  <a:pt x="21368" y="9163"/>
                  <a:pt x="21431" y="9334"/>
                </a:cubicBezTo>
              </a:path>
              <a:path w="7558" h="2699">
                <a:moveTo>
                  <a:pt x="21272" y="8985"/>
                </a:moveTo>
                <a:cubicBezTo>
                  <a:pt x="21351" y="8985"/>
                  <a:pt x="21389" y="8972"/>
                  <a:pt x="21463" y="8954"/>
                </a:cubicBezTo>
                <a:cubicBezTo>
                  <a:pt x="21526" y="8939"/>
                  <a:pt x="21592" y="8947"/>
                  <a:pt x="21654" y="8922"/>
                </a:cubicBezTo>
                <a:cubicBezTo>
                  <a:pt x="21702" y="8903"/>
                  <a:pt x="21775" y="8883"/>
                  <a:pt x="21812" y="8858"/>
                </a:cubicBezTo>
                <a:cubicBezTo>
                  <a:pt x="21850" y="8832"/>
                  <a:pt x="21895" y="8770"/>
                  <a:pt x="21908" y="8731"/>
                </a:cubicBezTo>
                <a:cubicBezTo>
                  <a:pt x="21930" y="8665"/>
                  <a:pt x="21939" y="8612"/>
                  <a:pt x="21939" y="8541"/>
                </a:cubicBezTo>
                <a:cubicBezTo>
                  <a:pt x="21939" y="8509"/>
                  <a:pt x="21939" y="8498"/>
                  <a:pt x="21939" y="8477"/>
                </a:cubicBezTo>
                <a:cubicBezTo>
                  <a:pt x="21847" y="8477"/>
                  <a:pt x="21823" y="8526"/>
                  <a:pt x="21780" y="8604"/>
                </a:cubicBezTo>
                <a:cubicBezTo>
                  <a:pt x="21730" y="8695"/>
                  <a:pt x="21702" y="8881"/>
                  <a:pt x="21717" y="8985"/>
                </a:cubicBezTo>
                <a:cubicBezTo>
                  <a:pt x="21727" y="9057"/>
                  <a:pt x="21746" y="9192"/>
                  <a:pt x="21812" y="9239"/>
                </a:cubicBezTo>
                <a:cubicBezTo>
                  <a:pt x="21865" y="9277"/>
                  <a:pt x="21958" y="9298"/>
                  <a:pt x="22003" y="9239"/>
                </a:cubicBezTo>
                <a:cubicBezTo>
                  <a:pt x="22084" y="9133"/>
                  <a:pt x="22126" y="9016"/>
                  <a:pt x="22162" y="8890"/>
                </a:cubicBezTo>
              </a:path>
              <a:path w="7558" h="2699">
                <a:moveTo>
                  <a:pt x="22320" y="8033"/>
                </a:moveTo>
                <a:cubicBezTo>
                  <a:pt x="22320" y="8311"/>
                  <a:pt x="22323" y="8586"/>
                  <a:pt x="22352" y="8858"/>
                </a:cubicBezTo>
                <a:cubicBezTo>
                  <a:pt x="22364" y="8974"/>
                  <a:pt x="22377" y="9067"/>
                  <a:pt x="22384" y="9176"/>
                </a:cubicBezTo>
                <a:cubicBezTo>
                  <a:pt x="22384" y="9212"/>
                  <a:pt x="22387" y="9226"/>
                  <a:pt x="22416" y="9239"/>
                </a:cubicBezTo>
              </a:path>
              <a:path w="7558" h="2699">
                <a:moveTo>
                  <a:pt x="22701" y="8636"/>
                </a:moveTo>
                <a:cubicBezTo>
                  <a:pt x="22715" y="8581"/>
                  <a:pt x="22762" y="8561"/>
                  <a:pt x="22701" y="8541"/>
                </a:cubicBezTo>
                <a:cubicBezTo>
                  <a:pt x="22612" y="8541"/>
                  <a:pt x="22613" y="8590"/>
                  <a:pt x="22574" y="8668"/>
                </a:cubicBezTo>
                <a:cubicBezTo>
                  <a:pt x="22529" y="8757"/>
                  <a:pt x="22519" y="8918"/>
                  <a:pt x="22542" y="9017"/>
                </a:cubicBezTo>
                <a:cubicBezTo>
                  <a:pt x="22557" y="9084"/>
                  <a:pt x="22610" y="9156"/>
                  <a:pt x="22670" y="9176"/>
                </a:cubicBezTo>
                <a:cubicBezTo>
                  <a:pt x="22744" y="9201"/>
                  <a:pt x="22800" y="9096"/>
                  <a:pt x="22828" y="9049"/>
                </a:cubicBezTo>
                <a:cubicBezTo>
                  <a:pt x="22894" y="8939"/>
                  <a:pt x="22892" y="8857"/>
                  <a:pt x="22892" y="8731"/>
                </a:cubicBezTo>
                <a:cubicBezTo>
                  <a:pt x="22892" y="8661"/>
                  <a:pt x="22909" y="8576"/>
                  <a:pt x="22828" y="8541"/>
                </a:cubicBezTo>
                <a:cubicBezTo>
                  <a:pt x="22764" y="8513"/>
                  <a:pt x="22765" y="8559"/>
                  <a:pt x="22765" y="8604"/>
                </a:cubicBezTo>
              </a:path>
              <a:path w="7558" h="2699">
                <a:moveTo>
                  <a:pt x="23336" y="8731"/>
                </a:moveTo>
                <a:cubicBezTo>
                  <a:pt x="23353" y="8703"/>
                  <a:pt x="23383" y="8681"/>
                  <a:pt x="23368" y="8604"/>
                </a:cubicBezTo>
                <a:cubicBezTo>
                  <a:pt x="23358" y="8553"/>
                  <a:pt x="23330" y="8516"/>
                  <a:pt x="23304" y="8477"/>
                </a:cubicBezTo>
                <a:cubicBezTo>
                  <a:pt x="23215" y="8497"/>
                  <a:pt x="23224" y="8445"/>
                  <a:pt x="23146" y="8541"/>
                </a:cubicBezTo>
                <a:cubicBezTo>
                  <a:pt x="23089" y="8611"/>
                  <a:pt x="23067" y="8836"/>
                  <a:pt x="23082" y="8922"/>
                </a:cubicBezTo>
                <a:cubicBezTo>
                  <a:pt x="23093" y="8986"/>
                  <a:pt x="23166" y="9037"/>
                  <a:pt x="23209" y="9080"/>
                </a:cubicBezTo>
                <a:cubicBezTo>
                  <a:pt x="23276" y="9041"/>
                  <a:pt x="23347" y="9020"/>
                  <a:pt x="23400" y="8954"/>
                </a:cubicBezTo>
                <a:cubicBezTo>
                  <a:pt x="23451" y="8891"/>
                  <a:pt x="23457" y="8747"/>
                  <a:pt x="23463" y="8668"/>
                </a:cubicBezTo>
                <a:cubicBezTo>
                  <a:pt x="23463" y="8657"/>
                  <a:pt x="23463" y="8647"/>
                  <a:pt x="23463" y="8636"/>
                </a:cubicBezTo>
                <a:cubicBezTo>
                  <a:pt x="23463" y="8789"/>
                  <a:pt x="23481" y="8933"/>
                  <a:pt x="23495" y="9080"/>
                </a:cubicBezTo>
                <a:cubicBezTo>
                  <a:pt x="23509" y="9230"/>
                  <a:pt x="23546" y="9373"/>
                  <a:pt x="23558" y="9525"/>
                </a:cubicBezTo>
                <a:cubicBezTo>
                  <a:pt x="23568" y="9656"/>
                  <a:pt x="23546" y="9880"/>
                  <a:pt x="23495" y="10001"/>
                </a:cubicBezTo>
                <a:cubicBezTo>
                  <a:pt x="23465" y="10074"/>
                  <a:pt x="23397" y="10271"/>
                  <a:pt x="23336" y="10319"/>
                </a:cubicBezTo>
                <a:cubicBezTo>
                  <a:pt x="23280" y="10346"/>
                  <a:pt x="23265" y="10351"/>
                  <a:pt x="23241" y="10382"/>
                </a:cubicBezTo>
                <a:cubicBezTo>
                  <a:pt x="23164" y="10338"/>
                  <a:pt x="23171" y="10348"/>
                  <a:pt x="23146" y="10255"/>
                </a:cubicBezTo>
                <a:cubicBezTo>
                  <a:pt x="23107" y="10113"/>
                  <a:pt x="23130" y="10048"/>
                  <a:pt x="23146" y="9906"/>
                </a:cubicBezTo>
                <a:cubicBezTo>
                  <a:pt x="23166" y="9724"/>
                  <a:pt x="23220" y="9625"/>
                  <a:pt x="23304" y="9462"/>
                </a:cubicBezTo>
                <a:cubicBezTo>
                  <a:pt x="23392" y="9290"/>
                  <a:pt x="23490" y="9142"/>
                  <a:pt x="23590" y="8985"/>
                </a:cubicBezTo>
                <a:cubicBezTo>
                  <a:pt x="23656" y="8881"/>
                  <a:pt x="23712" y="8772"/>
                  <a:pt x="23781" y="8668"/>
                </a:cubicBezTo>
              </a:path>
              <a:path w="7558" h="2699">
                <a:moveTo>
                  <a:pt x="22003" y="8572"/>
                </a:moveTo>
                <a:cubicBezTo>
                  <a:pt x="21974" y="8620"/>
                  <a:pt x="21952" y="8698"/>
                  <a:pt x="21971" y="8763"/>
                </a:cubicBezTo>
                <a:cubicBezTo>
                  <a:pt x="22002" y="8866"/>
                  <a:pt x="22000" y="8979"/>
                  <a:pt x="22034" y="9080"/>
                </a:cubicBezTo>
                <a:cubicBezTo>
                  <a:pt x="22047" y="9119"/>
                  <a:pt x="22116" y="9226"/>
                  <a:pt x="22162" y="9239"/>
                </a:cubicBezTo>
                <a:cubicBezTo>
                  <a:pt x="22240" y="9261"/>
                  <a:pt x="22271" y="9225"/>
                  <a:pt x="22320" y="9176"/>
                </a:cubicBezTo>
                <a:cubicBezTo>
                  <a:pt x="22360" y="9136"/>
                  <a:pt x="22373" y="9102"/>
                  <a:pt x="22384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5978520" y="3794040"/>
            <a:ext cx="217440" cy="858960"/>
          </a:xfrm>
          <a:custGeom>
            <a:avLst/>
            <a:gdLst/>
            <a:ahLst/>
            <a:rect l="l" t="t" r="r" b="b"/>
            <a:pathLst>
              <a:path w="604" h="2382">
                <a:moveTo>
                  <a:pt x="17050" y="10541"/>
                </a:moveTo>
                <a:cubicBezTo>
                  <a:pt x="16986" y="10562"/>
                  <a:pt x="17047" y="10629"/>
                  <a:pt x="17050" y="10700"/>
                </a:cubicBezTo>
                <a:cubicBezTo>
                  <a:pt x="17062" y="10978"/>
                  <a:pt x="17039" y="11251"/>
                  <a:pt x="17018" y="11525"/>
                </a:cubicBezTo>
                <a:cubicBezTo>
                  <a:pt x="17005" y="11695"/>
                  <a:pt x="17000" y="11866"/>
                  <a:pt x="16986" y="12033"/>
                </a:cubicBezTo>
                <a:cubicBezTo>
                  <a:pt x="16974" y="12172"/>
                  <a:pt x="16960" y="12309"/>
                  <a:pt x="16954" y="12446"/>
                </a:cubicBezTo>
                <a:cubicBezTo>
                  <a:pt x="16952" y="12488"/>
                  <a:pt x="16954" y="12531"/>
                  <a:pt x="16954" y="12573"/>
                </a:cubicBezTo>
              </a:path>
              <a:path w="604" h="2382">
                <a:moveTo>
                  <a:pt x="16605" y="12002"/>
                </a:moveTo>
                <a:cubicBezTo>
                  <a:pt x="16605" y="12080"/>
                  <a:pt x="16653" y="12119"/>
                  <a:pt x="16669" y="12192"/>
                </a:cubicBezTo>
                <a:cubicBezTo>
                  <a:pt x="16691" y="12291"/>
                  <a:pt x="16778" y="12369"/>
                  <a:pt x="16796" y="12478"/>
                </a:cubicBezTo>
                <a:cubicBezTo>
                  <a:pt x="16815" y="12590"/>
                  <a:pt x="16868" y="12685"/>
                  <a:pt x="16891" y="12795"/>
                </a:cubicBezTo>
                <a:cubicBezTo>
                  <a:pt x="16905" y="12861"/>
                  <a:pt x="16899" y="12903"/>
                  <a:pt x="16954" y="12922"/>
                </a:cubicBezTo>
                <a:cubicBezTo>
                  <a:pt x="16954" y="12863"/>
                  <a:pt x="16970" y="12786"/>
                  <a:pt x="16986" y="12732"/>
                </a:cubicBezTo>
                <a:cubicBezTo>
                  <a:pt x="17021" y="12616"/>
                  <a:pt x="17041" y="12496"/>
                  <a:pt x="17082" y="12382"/>
                </a:cubicBezTo>
                <a:cubicBezTo>
                  <a:pt x="17113" y="12295"/>
                  <a:pt x="17167" y="12211"/>
                  <a:pt x="1720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6424560" y="3828960"/>
            <a:ext cx="1657440" cy="960480"/>
          </a:xfrm>
          <a:custGeom>
            <a:avLst/>
            <a:gdLst/>
            <a:ahLst/>
            <a:rect l="l" t="t" r="r" b="b"/>
            <a:pathLst>
              <a:path w="4604" h="2668">
                <a:moveTo>
                  <a:pt x="18098" y="10636"/>
                </a:moveTo>
                <a:cubicBezTo>
                  <a:pt x="18098" y="11197"/>
                  <a:pt x="18409" y="12731"/>
                  <a:pt x="18066" y="12287"/>
                </a:cubicBezTo>
                <a:cubicBezTo>
                  <a:pt x="18066" y="12245"/>
                  <a:pt x="18066" y="12224"/>
                  <a:pt x="18066" y="12192"/>
                </a:cubicBezTo>
              </a:path>
              <a:path w="4604" h="2668">
                <a:moveTo>
                  <a:pt x="17844" y="10732"/>
                </a:moveTo>
                <a:cubicBezTo>
                  <a:pt x="17867" y="10718"/>
                  <a:pt x="17874" y="10684"/>
                  <a:pt x="17939" y="10700"/>
                </a:cubicBezTo>
                <a:cubicBezTo>
                  <a:pt x="18037" y="10723"/>
                  <a:pt x="18117" y="10801"/>
                  <a:pt x="18193" y="10858"/>
                </a:cubicBezTo>
                <a:cubicBezTo>
                  <a:pt x="18322" y="10954"/>
                  <a:pt x="18388" y="11042"/>
                  <a:pt x="18478" y="11176"/>
                </a:cubicBezTo>
                <a:cubicBezTo>
                  <a:pt x="18576" y="11323"/>
                  <a:pt x="18602" y="11477"/>
                  <a:pt x="18606" y="11652"/>
                </a:cubicBezTo>
                <a:cubicBezTo>
                  <a:pt x="18610" y="11815"/>
                  <a:pt x="18584" y="12011"/>
                  <a:pt x="18510" y="12160"/>
                </a:cubicBezTo>
                <a:cubicBezTo>
                  <a:pt x="18453" y="12275"/>
                  <a:pt x="18396" y="12400"/>
                  <a:pt x="18288" y="12478"/>
                </a:cubicBezTo>
                <a:cubicBezTo>
                  <a:pt x="18239" y="12513"/>
                  <a:pt x="18161" y="12555"/>
                  <a:pt x="18098" y="12541"/>
                </a:cubicBezTo>
                <a:cubicBezTo>
                  <a:pt x="18062" y="12541"/>
                  <a:pt x="18048" y="12538"/>
                  <a:pt x="18034" y="12510"/>
                </a:cubicBezTo>
              </a:path>
              <a:path w="4604" h="2668">
                <a:moveTo>
                  <a:pt x="18732" y="11303"/>
                </a:moveTo>
                <a:cubicBezTo>
                  <a:pt x="18754" y="11413"/>
                  <a:pt x="18764" y="11501"/>
                  <a:pt x="18764" y="11620"/>
                </a:cubicBezTo>
                <a:cubicBezTo>
                  <a:pt x="18764" y="11781"/>
                  <a:pt x="18769" y="11941"/>
                  <a:pt x="18796" y="12097"/>
                </a:cubicBezTo>
                <a:cubicBezTo>
                  <a:pt x="18820" y="12233"/>
                  <a:pt x="18845" y="12374"/>
                  <a:pt x="18860" y="12510"/>
                </a:cubicBezTo>
                <a:cubicBezTo>
                  <a:pt x="18867" y="12573"/>
                  <a:pt x="18860" y="12699"/>
                  <a:pt x="18860" y="12636"/>
                </a:cubicBezTo>
              </a:path>
              <a:path w="4604" h="2668">
                <a:moveTo>
                  <a:pt x="19304" y="11430"/>
                </a:moveTo>
                <a:cubicBezTo>
                  <a:pt x="19287" y="11380"/>
                  <a:pt x="19254" y="11396"/>
                  <a:pt x="19209" y="11366"/>
                </a:cubicBezTo>
                <a:cubicBezTo>
                  <a:pt x="19179" y="11346"/>
                  <a:pt x="19126" y="11311"/>
                  <a:pt x="19082" y="11335"/>
                </a:cubicBezTo>
                <a:cubicBezTo>
                  <a:pt x="19009" y="11375"/>
                  <a:pt x="19015" y="11491"/>
                  <a:pt x="18986" y="11557"/>
                </a:cubicBezTo>
                <a:cubicBezTo>
                  <a:pt x="18940" y="11660"/>
                  <a:pt x="18937" y="11825"/>
                  <a:pt x="18955" y="11938"/>
                </a:cubicBezTo>
                <a:cubicBezTo>
                  <a:pt x="18967" y="12010"/>
                  <a:pt x="18989" y="12170"/>
                  <a:pt x="19050" y="12224"/>
                </a:cubicBezTo>
                <a:cubicBezTo>
                  <a:pt x="19086" y="12224"/>
                  <a:pt x="19100" y="12227"/>
                  <a:pt x="19114" y="12256"/>
                </a:cubicBezTo>
                <a:cubicBezTo>
                  <a:pt x="19182" y="12187"/>
                  <a:pt x="19205" y="12161"/>
                  <a:pt x="19240" y="12065"/>
                </a:cubicBezTo>
                <a:cubicBezTo>
                  <a:pt x="19285" y="11941"/>
                  <a:pt x="19288" y="11783"/>
                  <a:pt x="19304" y="11652"/>
                </a:cubicBezTo>
                <a:cubicBezTo>
                  <a:pt x="19312" y="11589"/>
                  <a:pt x="19393" y="11522"/>
                  <a:pt x="19336" y="11494"/>
                </a:cubicBezTo>
                <a:cubicBezTo>
                  <a:pt x="19278" y="11466"/>
                  <a:pt x="19304" y="11625"/>
                  <a:pt x="19304" y="11652"/>
                </a:cubicBezTo>
                <a:cubicBezTo>
                  <a:pt x="19304" y="11828"/>
                  <a:pt x="19310" y="11994"/>
                  <a:pt x="19336" y="12160"/>
                </a:cubicBezTo>
                <a:cubicBezTo>
                  <a:pt x="19348" y="12239"/>
                  <a:pt x="19343" y="12231"/>
                  <a:pt x="19399" y="12287"/>
                </a:cubicBezTo>
              </a:path>
              <a:path w="4604" h="2668">
                <a:moveTo>
                  <a:pt x="19780" y="11303"/>
                </a:moveTo>
                <a:cubicBezTo>
                  <a:pt x="19748" y="11271"/>
                  <a:pt x="19717" y="11240"/>
                  <a:pt x="19685" y="11208"/>
                </a:cubicBezTo>
                <a:cubicBezTo>
                  <a:pt x="19609" y="11246"/>
                  <a:pt x="19540" y="11276"/>
                  <a:pt x="19494" y="11366"/>
                </a:cubicBezTo>
                <a:cubicBezTo>
                  <a:pt x="19428" y="11493"/>
                  <a:pt x="19455" y="11652"/>
                  <a:pt x="19463" y="11779"/>
                </a:cubicBezTo>
                <a:cubicBezTo>
                  <a:pt x="19464" y="11802"/>
                  <a:pt x="19463" y="12043"/>
                  <a:pt x="19558" y="12033"/>
                </a:cubicBezTo>
                <a:cubicBezTo>
                  <a:pt x="19628" y="12026"/>
                  <a:pt x="19712" y="11943"/>
                  <a:pt x="19748" y="11874"/>
                </a:cubicBezTo>
                <a:cubicBezTo>
                  <a:pt x="19810" y="11756"/>
                  <a:pt x="19839" y="11626"/>
                  <a:pt x="19844" y="11494"/>
                </a:cubicBezTo>
                <a:cubicBezTo>
                  <a:pt x="19847" y="11420"/>
                  <a:pt x="19844" y="11409"/>
                  <a:pt x="19844" y="11335"/>
                </a:cubicBezTo>
                <a:cubicBezTo>
                  <a:pt x="19844" y="11434"/>
                  <a:pt x="19858" y="11524"/>
                  <a:pt x="19876" y="11620"/>
                </a:cubicBezTo>
                <a:cubicBezTo>
                  <a:pt x="19907" y="11781"/>
                  <a:pt x="19936" y="11937"/>
                  <a:pt x="19971" y="12097"/>
                </a:cubicBezTo>
                <a:cubicBezTo>
                  <a:pt x="20011" y="12280"/>
                  <a:pt x="20061" y="12447"/>
                  <a:pt x="20066" y="12636"/>
                </a:cubicBezTo>
                <a:cubicBezTo>
                  <a:pt x="20070" y="12798"/>
                  <a:pt x="20075" y="12988"/>
                  <a:pt x="20034" y="13144"/>
                </a:cubicBezTo>
                <a:cubicBezTo>
                  <a:pt x="20012" y="13230"/>
                  <a:pt x="19971" y="13258"/>
                  <a:pt x="19907" y="13303"/>
                </a:cubicBezTo>
                <a:cubicBezTo>
                  <a:pt x="19828" y="13264"/>
                  <a:pt x="19765" y="13236"/>
                  <a:pt x="19717" y="13144"/>
                </a:cubicBezTo>
                <a:cubicBezTo>
                  <a:pt x="19706" y="13112"/>
                  <a:pt x="19696" y="13081"/>
                  <a:pt x="19685" y="13049"/>
                </a:cubicBezTo>
              </a:path>
              <a:path w="4604" h="2668">
                <a:moveTo>
                  <a:pt x="20130" y="11240"/>
                </a:moveTo>
                <a:cubicBezTo>
                  <a:pt x="20146" y="11323"/>
                  <a:pt x="20145" y="11409"/>
                  <a:pt x="20161" y="11494"/>
                </a:cubicBezTo>
                <a:cubicBezTo>
                  <a:pt x="20183" y="11610"/>
                  <a:pt x="20207" y="11730"/>
                  <a:pt x="20225" y="11843"/>
                </a:cubicBezTo>
                <a:cubicBezTo>
                  <a:pt x="20234" y="11902"/>
                  <a:pt x="20225" y="11973"/>
                  <a:pt x="20225" y="12033"/>
                </a:cubicBezTo>
                <a:cubicBezTo>
                  <a:pt x="20225" y="12115"/>
                  <a:pt x="20195" y="11922"/>
                  <a:pt x="20193" y="11906"/>
                </a:cubicBezTo>
                <a:cubicBezTo>
                  <a:pt x="20166" y="11697"/>
                  <a:pt x="20198" y="11473"/>
                  <a:pt x="20225" y="11271"/>
                </a:cubicBezTo>
                <a:cubicBezTo>
                  <a:pt x="20234" y="11202"/>
                  <a:pt x="20247" y="11089"/>
                  <a:pt x="20320" y="11049"/>
                </a:cubicBezTo>
                <a:cubicBezTo>
                  <a:pt x="20352" y="11049"/>
                  <a:pt x="20363" y="11049"/>
                  <a:pt x="20384" y="11049"/>
                </a:cubicBezTo>
                <a:cubicBezTo>
                  <a:pt x="20400" y="11133"/>
                  <a:pt x="20428" y="11220"/>
                  <a:pt x="20447" y="11303"/>
                </a:cubicBezTo>
                <a:cubicBezTo>
                  <a:pt x="20477" y="11430"/>
                  <a:pt x="20506" y="11553"/>
                  <a:pt x="20510" y="11684"/>
                </a:cubicBezTo>
                <a:cubicBezTo>
                  <a:pt x="20514" y="11807"/>
                  <a:pt x="20481" y="11963"/>
                  <a:pt x="20542" y="12065"/>
                </a:cubicBezTo>
              </a:path>
              <a:path w="4604" h="2668">
                <a:moveTo>
                  <a:pt x="20796" y="11144"/>
                </a:moveTo>
                <a:cubicBezTo>
                  <a:pt x="20732" y="11176"/>
                  <a:pt x="20711" y="11284"/>
                  <a:pt x="20701" y="11366"/>
                </a:cubicBezTo>
                <a:cubicBezTo>
                  <a:pt x="20683" y="11518"/>
                  <a:pt x="20644" y="11688"/>
                  <a:pt x="20669" y="11843"/>
                </a:cubicBezTo>
                <a:cubicBezTo>
                  <a:pt x="20681" y="11920"/>
                  <a:pt x="20706" y="11994"/>
                  <a:pt x="20733" y="12065"/>
                </a:cubicBezTo>
                <a:cubicBezTo>
                  <a:pt x="20791" y="12065"/>
                  <a:pt x="20825" y="12056"/>
                  <a:pt x="20860" y="12002"/>
                </a:cubicBezTo>
                <a:cubicBezTo>
                  <a:pt x="20926" y="11900"/>
                  <a:pt x="20951" y="11770"/>
                  <a:pt x="20955" y="11652"/>
                </a:cubicBezTo>
                <a:cubicBezTo>
                  <a:pt x="20959" y="11516"/>
                  <a:pt x="20997" y="11298"/>
                  <a:pt x="20923" y="11176"/>
                </a:cubicBezTo>
                <a:cubicBezTo>
                  <a:pt x="20897" y="11132"/>
                  <a:pt x="20870" y="11144"/>
                  <a:pt x="20828" y="11144"/>
                </a:cubicBezTo>
              </a:path>
              <a:path w="4604" h="2668">
                <a:moveTo>
                  <a:pt x="21272" y="10954"/>
                </a:moveTo>
                <a:cubicBezTo>
                  <a:pt x="21283" y="10943"/>
                  <a:pt x="21293" y="10933"/>
                  <a:pt x="21304" y="10922"/>
                </a:cubicBezTo>
                <a:cubicBezTo>
                  <a:pt x="21255" y="10938"/>
                  <a:pt x="21212" y="11018"/>
                  <a:pt x="21177" y="11081"/>
                </a:cubicBezTo>
                <a:cubicBezTo>
                  <a:pt x="21134" y="11160"/>
                  <a:pt x="21059" y="11211"/>
                  <a:pt x="21050" y="11303"/>
                </a:cubicBezTo>
                <a:cubicBezTo>
                  <a:pt x="21043" y="11371"/>
                  <a:pt x="21097" y="11366"/>
                  <a:pt x="21146" y="11366"/>
                </a:cubicBezTo>
                <a:cubicBezTo>
                  <a:pt x="21226" y="11366"/>
                  <a:pt x="21270" y="11363"/>
                  <a:pt x="21336" y="11398"/>
                </a:cubicBezTo>
                <a:cubicBezTo>
                  <a:pt x="21441" y="11454"/>
                  <a:pt x="21431" y="11474"/>
                  <a:pt x="21431" y="11589"/>
                </a:cubicBezTo>
                <a:cubicBezTo>
                  <a:pt x="21431" y="11693"/>
                  <a:pt x="21442" y="11779"/>
                  <a:pt x="21400" y="11874"/>
                </a:cubicBezTo>
                <a:cubicBezTo>
                  <a:pt x="21386" y="11905"/>
                  <a:pt x="21327" y="12027"/>
                  <a:pt x="21272" y="12002"/>
                </a:cubicBezTo>
                <a:cubicBezTo>
                  <a:pt x="21244" y="11973"/>
                  <a:pt x="21234" y="11967"/>
                  <a:pt x="21241" y="11938"/>
                </a:cubicBezTo>
              </a:path>
              <a:path w="4604" h="2668">
                <a:moveTo>
                  <a:pt x="21495" y="10732"/>
                </a:moveTo>
                <a:cubicBezTo>
                  <a:pt x="21495" y="11031"/>
                  <a:pt x="21505" y="11326"/>
                  <a:pt x="21526" y="11620"/>
                </a:cubicBezTo>
                <a:cubicBezTo>
                  <a:pt x="21531" y="11694"/>
                  <a:pt x="21595" y="11930"/>
                  <a:pt x="21558" y="12002"/>
                </a:cubicBezTo>
                <a:cubicBezTo>
                  <a:pt x="21547" y="12012"/>
                  <a:pt x="21537" y="12023"/>
                  <a:pt x="21526" y="12033"/>
                </a:cubicBezTo>
              </a:path>
              <a:path w="4604" h="2668">
                <a:moveTo>
                  <a:pt x="21400" y="11494"/>
                </a:moveTo>
                <a:cubicBezTo>
                  <a:pt x="21400" y="11483"/>
                  <a:pt x="21400" y="11473"/>
                  <a:pt x="21400" y="11462"/>
                </a:cubicBezTo>
                <a:cubicBezTo>
                  <a:pt x="21448" y="11450"/>
                  <a:pt x="21488" y="11432"/>
                  <a:pt x="21526" y="11398"/>
                </a:cubicBezTo>
                <a:cubicBezTo>
                  <a:pt x="21580" y="11350"/>
                  <a:pt x="21657" y="11319"/>
                  <a:pt x="21717" y="11271"/>
                </a:cubicBezTo>
                <a:cubicBezTo>
                  <a:pt x="21738" y="11261"/>
                  <a:pt x="21759" y="11250"/>
                  <a:pt x="21780" y="11240"/>
                </a:cubicBezTo>
              </a:path>
              <a:path w="4604" h="2668">
                <a:moveTo>
                  <a:pt x="21844" y="11049"/>
                </a:moveTo>
                <a:cubicBezTo>
                  <a:pt x="21844" y="11142"/>
                  <a:pt x="21871" y="11209"/>
                  <a:pt x="21876" y="11303"/>
                </a:cubicBezTo>
                <a:cubicBezTo>
                  <a:pt x="21883" y="11444"/>
                  <a:pt x="21908" y="11572"/>
                  <a:pt x="21908" y="11716"/>
                </a:cubicBezTo>
                <a:cubicBezTo>
                  <a:pt x="21908" y="11829"/>
                  <a:pt x="21939" y="11922"/>
                  <a:pt x="21939" y="12033"/>
                </a:cubicBezTo>
              </a:path>
              <a:path w="4604" h="2668">
                <a:moveTo>
                  <a:pt x="22320" y="11112"/>
                </a:moveTo>
                <a:cubicBezTo>
                  <a:pt x="22320" y="11041"/>
                  <a:pt x="22339" y="11034"/>
                  <a:pt x="22288" y="11017"/>
                </a:cubicBezTo>
                <a:cubicBezTo>
                  <a:pt x="22214" y="11055"/>
                  <a:pt x="22192" y="11154"/>
                  <a:pt x="22162" y="11240"/>
                </a:cubicBezTo>
                <a:cubicBezTo>
                  <a:pt x="22121" y="11358"/>
                  <a:pt x="22107" y="11526"/>
                  <a:pt x="22130" y="11652"/>
                </a:cubicBezTo>
                <a:cubicBezTo>
                  <a:pt x="22149" y="11755"/>
                  <a:pt x="22179" y="11870"/>
                  <a:pt x="22288" y="11906"/>
                </a:cubicBezTo>
                <a:cubicBezTo>
                  <a:pt x="22370" y="11933"/>
                  <a:pt x="22404" y="11895"/>
                  <a:pt x="22447" y="11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8275680" y="3772080"/>
            <a:ext cx="525600" cy="514080"/>
          </a:xfrm>
          <a:custGeom>
            <a:avLst/>
            <a:gdLst/>
            <a:ahLst/>
            <a:rect l="l" t="t" r="r" b="b"/>
            <a:pathLst>
              <a:path w="1462" h="1429">
                <a:moveTo>
                  <a:pt x="23241" y="10604"/>
                </a:moveTo>
                <a:cubicBezTo>
                  <a:pt x="23221" y="10545"/>
                  <a:pt x="23178" y="10586"/>
                  <a:pt x="23146" y="10636"/>
                </a:cubicBezTo>
                <a:cubicBezTo>
                  <a:pt x="23070" y="10755"/>
                  <a:pt x="23052" y="10915"/>
                  <a:pt x="23019" y="11049"/>
                </a:cubicBezTo>
                <a:cubicBezTo>
                  <a:pt x="22977" y="11218"/>
                  <a:pt x="22987" y="11383"/>
                  <a:pt x="22987" y="11557"/>
                </a:cubicBezTo>
                <a:cubicBezTo>
                  <a:pt x="22987" y="11682"/>
                  <a:pt x="22997" y="11829"/>
                  <a:pt x="23114" y="11906"/>
                </a:cubicBezTo>
                <a:cubicBezTo>
                  <a:pt x="23163" y="11938"/>
                  <a:pt x="23243" y="11872"/>
                  <a:pt x="23273" y="11843"/>
                </a:cubicBezTo>
                <a:cubicBezTo>
                  <a:pt x="23365" y="11756"/>
                  <a:pt x="23419" y="11588"/>
                  <a:pt x="23432" y="11462"/>
                </a:cubicBezTo>
                <a:cubicBezTo>
                  <a:pt x="23451" y="11273"/>
                  <a:pt x="23463" y="11006"/>
                  <a:pt x="23400" y="10827"/>
                </a:cubicBezTo>
                <a:cubicBezTo>
                  <a:pt x="23372" y="10747"/>
                  <a:pt x="23337" y="10640"/>
                  <a:pt x="23304" y="10573"/>
                </a:cubicBezTo>
                <a:cubicBezTo>
                  <a:pt x="23280" y="10524"/>
                  <a:pt x="23273" y="10536"/>
                  <a:pt x="23273" y="10478"/>
                </a:cubicBezTo>
              </a:path>
              <a:path w="1462" h="1429">
                <a:moveTo>
                  <a:pt x="23654" y="10954"/>
                </a:moveTo>
                <a:cubicBezTo>
                  <a:pt x="23696" y="11063"/>
                  <a:pt x="23661" y="11159"/>
                  <a:pt x="23686" y="11271"/>
                </a:cubicBezTo>
                <a:cubicBezTo>
                  <a:pt x="23709" y="11374"/>
                  <a:pt x="23695" y="11485"/>
                  <a:pt x="23717" y="11589"/>
                </a:cubicBezTo>
                <a:cubicBezTo>
                  <a:pt x="23735" y="11677"/>
                  <a:pt x="23749" y="11722"/>
                  <a:pt x="23749" y="11811"/>
                </a:cubicBezTo>
                <a:cubicBezTo>
                  <a:pt x="23749" y="11893"/>
                  <a:pt x="23719" y="11700"/>
                  <a:pt x="23717" y="11684"/>
                </a:cubicBezTo>
                <a:cubicBezTo>
                  <a:pt x="23699" y="11545"/>
                  <a:pt x="23726" y="11374"/>
                  <a:pt x="23749" y="11240"/>
                </a:cubicBezTo>
                <a:cubicBezTo>
                  <a:pt x="23767" y="11133"/>
                  <a:pt x="23791" y="10950"/>
                  <a:pt x="23844" y="10858"/>
                </a:cubicBezTo>
                <a:cubicBezTo>
                  <a:pt x="23873" y="10830"/>
                  <a:pt x="23879" y="10820"/>
                  <a:pt x="23908" y="10827"/>
                </a:cubicBezTo>
                <a:cubicBezTo>
                  <a:pt x="23972" y="10848"/>
                  <a:pt x="23968" y="10942"/>
                  <a:pt x="23971" y="11017"/>
                </a:cubicBezTo>
                <a:cubicBezTo>
                  <a:pt x="23976" y="11148"/>
                  <a:pt x="24004" y="11272"/>
                  <a:pt x="24035" y="11398"/>
                </a:cubicBezTo>
                <a:cubicBezTo>
                  <a:pt x="24068" y="11530"/>
                  <a:pt x="24104" y="11656"/>
                  <a:pt x="24162" y="11779"/>
                </a:cubicBezTo>
                <a:cubicBezTo>
                  <a:pt x="24179" y="11815"/>
                  <a:pt x="24267" y="11930"/>
                  <a:pt x="24320" y="11906"/>
                </a:cubicBezTo>
                <a:cubicBezTo>
                  <a:pt x="24378" y="11880"/>
                  <a:pt x="24435" y="11820"/>
                  <a:pt x="24448" y="11748"/>
                </a:cubicBezTo>
                <a:cubicBezTo>
                  <a:pt x="24448" y="11716"/>
                  <a:pt x="24448" y="11684"/>
                  <a:pt x="24448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5967360" y="4743360"/>
            <a:ext cx="1508040" cy="731880"/>
          </a:xfrm>
          <a:custGeom>
            <a:avLst/>
            <a:gdLst/>
            <a:ahLst/>
            <a:rect l="l" t="t" r="r" b="b"/>
            <a:pathLst>
              <a:path w="4191" h="2033">
                <a:moveTo>
                  <a:pt x="17748" y="13335"/>
                </a:moveTo>
                <a:cubicBezTo>
                  <a:pt x="17736" y="13350"/>
                  <a:pt x="17701" y="13451"/>
                  <a:pt x="17685" y="13462"/>
                </a:cubicBezTo>
                <a:cubicBezTo>
                  <a:pt x="17650" y="13487"/>
                  <a:pt x="17543" y="13530"/>
                  <a:pt x="17494" y="13557"/>
                </a:cubicBezTo>
                <a:cubicBezTo>
                  <a:pt x="17421" y="13597"/>
                  <a:pt x="17346" y="13626"/>
                  <a:pt x="17272" y="13652"/>
                </a:cubicBezTo>
                <a:cubicBezTo>
                  <a:pt x="17186" y="13682"/>
                  <a:pt x="17099" y="13685"/>
                  <a:pt x="17018" y="13716"/>
                </a:cubicBezTo>
                <a:cubicBezTo>
                  <a:pt x="16937" y="13747"/>
                  <a:pt x="16884" y="13748"/>
                  <a:pt x="16796" y="13748"/>
                </a:cubicBezTo>
                <a:cubicBezTo>
                  <a:pt x="16763" y="13748"/>
                  <a:pt x="16683" y="13757"/>
                  <a:pt x="16669" y="13780"/>
                </a:cubicBezTo>
                <a:cubicBezTo>
                  <a:pt x="16623" y="13854"/>
                  <a:pt x="16648" y="14139"/>
                  <a:pt x="16637" y="14224"/>
                </a:cubicBezTo>
                <a:cubicBezTo>
                  <a:pt x="16622" y="14338"/>
                  <a:pt x="16619" y="14464"/>
                  <a:pt x="16605" y="14573"/>
                </a:cubicBezTo>
                <a:cubicBezTo>
                  <a:pt x="16591" y="14680"/>
                  <a:pt x="16590" y="14788"/>
                  <a:pt x="16574" y="14891"/>
                </a:cubicBezTo>
                <a:cubicBezTo>
                  <a:pt x="16560" y="14983"/>
                  <a:pt x="16602" y="15031"/>
                  <a:pt x="16605" y="15113"/>
                </a:cubicBezTo>
                <a:cubicBezTo>
                  <a:pt x="16605" y="15155"/>
                  <a:pt x="16605" y="15176"/>
                  <a:pt x="16605" y="15208"/>
                </a:cubicBezTo>
                <a:cubicBezTo>
                  <a:pt x="16629" y="15175"/>
                  <a:pt x="16653" y="15156"/>
                  <a:pt x="16700" y="15113"/>
                </a:cubicBezTo>
                <a:cubicBezTo>
                  <a:pt x="16720" y="15095"/>
                  <a:pt x="16754" y="15048"/>
                  <a:pt x="16796" y="15018"/>
                </a:cubicBezTo>
                <a:cubicBezTo>
                  <a:pt x="16850" y="14980"/>
                  <a:pt x="16930" y="14935"/>
                  <a:pt x="16986" y="14922"/>
                </a:cubicBezTo>
                <a:cubicBezTo>
                  <a:pt x="17079" y="14901"/>
                  <a:pt x="17157" y="14943"/>
                  <a:pt x="17240" y="14954"/>
                </a:cubicBezTo>
                <a:cubicBezTo>
                  <a:pt x="17312" y="14963"/>
                  <a:pt x="17365" y="14965"/>
                  <a:pt x="17431" y="14986"/>
                </a:cubicBezTo>
                <a:cubicBezTo>
                  <a:pt x="17508" y="15010"/>
                  <a:pt x="17489" y="15001"/>
                  <a:pt x="17526" y="14986"/>
                </a:cubicBezTo>
              </a:path>
              <a:path w="4191" h="2033">
                <a:moveTo>
                  <a:pt x="16637" y="14732"/>
                </a:moveTo>
                <a:cubicBezTo>
                  <a:pt x="16700" y="14732"/>
                  <a:pt x="16739" y="14738"/>
                  <a:pt x="16796" y="14700"/>
                </a:cubicBezTo>
                <a:cubicBezTo>
                  <a:pt x="16864" y="14655"/>
                  <a:pt x="16918" y="14587"/>
                  <a:pt x="16986" y="14542"/>
                </a:cubicBezTo>
                <a:cubicBezTo>
                  <a:pt x="17055" y="14507"/>
                  <a:pt x="17081" y="14492"/>
                  <a:pt x="17113" y="14446"/>
                </a:cubicBezTo>
              </a:path>
              <a:path w="4191" h="2033">
                <a:moveTo>
                  <a:pt x="17462" y="14129"/>
                </a:moveTo>
                <a:cubicBezTo>
                  <a:pt x="17474" y="14164"/>
                  <a:pt x="17547" y="14204"/>
                  <a:pt x="17558" y="14256"/>
                </a:cubicBezTo>
                <a:cubicBezTo>
                  <a:pt x="17585" y="14391"/>
                  <a:pt x="17590" y="14528"/>
                  <a:pt x="17590" y="14668"/>
                </a:cubicBezTo>
                <a:cubicBezTo>
                  <a:pt x="17590" y="14789"/>
                  <a:pt x="17621" y="14895"/>
                  <a:pt x="17621" y="15018"/>
                </a:cubicBezTo>
                <a:cubicBezTo>
                  <a:pt x="17621" y="15029"/>
                  <a:pt x="17621" y="15039"/>
                  <a:pt x="17621" y="15050"/>
                </a:cubicBezTo>
                <a:cubicBezTo>
                  <a:pt x="17621" y="14934"/>
                  <a:pt x="17620" y="14843"/>
                  <a:pt x="17653" y="14732"/>
                </a:cubicBezTo>
                <a:cubicBezTo>
                  <a:pt x="17693" y="14599"/>
                  <a:pt x="17692" y="14481"/>
                  <a:pt x="17748" y="14351"/>
                </a:cubicBezTo>
                <a:cubicBezTo>
                  <a:pt x="17777" y="14284"/>
                  <a:pt x="17804" y="14213"/>
                  <a:pt x="17844" y="14160"/>
                </a:cubicBezTo>
                <a:cubicBezTo>
                  <a:pt x="17890" y="14176"/>
                  <a:pt x="17904" y="14194"/>
                  <a:pt x="17939" y="14256"/>
                </a:cubicBezTo>
                <a:cubicBezTo>
                  <a:pt x="17992" y="14350"/>
                  <a:pt x="17998" y="14498"/>
                  <a:pt x="18002" y="14605"/>
                </a:cubicBezTo>
                <a:cubicBezTo>
                  <a:pt x="18007" y="14746"/>
                  <a:pt x="18034" y="14875"/>
                  <a:pt x="18034" y="15018"/>
                </a:cubicBezTo>
                <a:cubicBezTo>
                  <a:pt x="18034" y="15063"/>
                  <a:pt x="18035" y="15143"/>
                  <a:pt x="18066" y="15081"/>
                </a:cubicBezTo>
              </a:path>
              <a:path w="4191" h="2033">
                <a:moveTo>
                  <a:pt x="18224" y="13811"/>
                </a:moveTo>
                <a:cubicBezTo>
                  <a:pt x="18224" y="13964"/>
                  <a:pt x="18243" y="14107"/>
                  <a:pt x="18256" y="14256"/>
                </a:cubicBezTo>
                <a:cubicBezTo>
                  <a:pt x="18270" y="14428"/>
                  <a:pt x="18260" y="14565"/>
                  <a:pt x="18320" y="14732"/>
                </a:cubicBezTo>
                <a:cubicBezTo>
                  <a:pt x="18342" y="14794"/>
                  <a:pt x="18353" y="14839"/>
                  <a:pt x="18383" y="14891"/>
                </a:cubicBezTo>
              </a:path>
              <a:path w="4191" h="2033">
                <a:moveTo>
                  <a:pt x="18161" y="14573"/>
                </a:moveTo>
                <a:cubicBezTo>
                  <a:pt x="18245" y="14573"/>
                  <a:pt x="18314" y="14555"/>
                  <a:pt x="18383" y="14542"/>
                </a:cubicBezTo>
                <a:cubicBezTo>
                  <a:pt x="18462" y="14527"/>
                  <a:pt x="18508" y="14505"/>
                  <a:pt x="18574" y="14446"/>
                </a:cubicBezTo>
                <a:cubicBezTo>
                  <a:pt x="18623" y="14402"/>
                  <a:pt x="18679" y="14352"/>
                  <a:pt x="18701" y="14288"/>
                </a:cubicBezTo>
                <a:cubicBezTo>
                  <a:pt x="18729" y="14203"/>
                  <a:pt x="18715" y="14194"/>
                  <a:pt x="18701" y="14129"/>
                </a:cubicBezTo>
                <a:cubicBezTo>
                  <a:pt x="18694" y="14095"/>
                  <a:pt x="18668" y="13988"/>
                  <a:pt x="18606" y="14002"/>
                </a:cubicBezTo>
                <a:cubicBezTo>
                  <a:pt x="18527" y="14020"/>
                  <a:pt x="18524" y="14140"/>
                  <a:pt x="18510" y="14192"/>
                </a:cubicBezTo>
                <a:cubicBezTo>
                  <a:pt x="18482" y="14299"/>
                  <a:pt x="18452" y="14430"/>
                  <a:pt x="18478" y="14542"/>
                </a:cubicBezTo>
                <a:cubicBezTo>
                  <a:pt x="18496" y="14620"/>
                  <a:pt x="18525" y="14698"/>
                  <a:pt x="18574" y="14764"/>
                </a:cubicBezTo>
                <a:cubicBezTo>
                  <a:pt x="18622" y="14828"/>
                  <a:pt x="18656" y="14827"/>
                  <a:pt x="18732" y="14827"/>
                </a:cubicBezTo>
                <a:cubicBezTo>
                  <a:pt x="18787" y="14827"/>
                  <a:pt x="18785" y="14808"/>
                  <a:pt x="18796" y="14764"/>
                </a:cubicBezTo>
              </a:path>
              <a:path w="4191" h="2033">
                <a:moveTo>
                  <a:pt x="18891" y="14065"/>
                </a:moveTo>
                <a:cubicBezTo>
                  <a:pt x="18891" y="14136"/>
                  <a:pt x="18920" y="14184"/>
                  <a:pt x="18923" y="14256"/>
                </a:cubicBezTo>
                <a:cubicBezTo>
                  <a:pt x="18927" y="14356"/>
                  <a:pt x="18945" y="14450"/>
                  <a:pt x="18986" y="14542"/>
                </a:cubicBezTo>
                <a:cubicBezTo>
                  <a:pt x="18996" y="14564"/>
                  <a:pt x="19035" y="14690"/>
                  <a:pt x="19050" y="14700"/>
                </a:cubicBezTo>
                <a:cubicBezTo>
                  <a:pt x="19077" y="14718"/>
                  <a:pt x="19060" y="14587"/>
                  <a:pt x="19050" y="14542"/>
                </a:cubicBezTo>
                <a:cubicBezTo>
                  <a:pt x="19028" y="14440"/>
                  <a:pt x="18995" y="14333"/>
                  <a:pt x="19018" y="14224"/>
                </a:cubicBezTo>
                <a:cubicBezTo>
                  <a:pt x="19038" y="14127"/>
                  <a:pt x="19057" y="14022"/>
                  <a:pt x="19114" y="13938"/>
                </a:cubicBezTo>
                <a:cubicBezTo>
                  <a:pt x="19145" y="13906"/>
                  <a:pt x="19155" y="13895"/>
                  <a:pt x="19177" y="13875"/>
                </a:cubicBezTo>
              </a:path>
              <a:path w="4191" h="2033">
                <a:moveTo>
                  <a:pt x="19622" y="13906"/>
                </a:moveTo>
                <a:cubicBezTo>
                  <a:pt x="19650" y="13935"/>
                  <a:pt x="19656" y="13946"/>
                  <a:pt x="19685" y="13938"/>
                </a:cubicBezTo>
                <a:cubicBezTo>
                  <a:pt x="19702" y="14006"/>
                  <a:pt x="19732" y="14003"/>
                  <a:pt x="19780" y="14034"/>
                </a:cubicBezTo>
                <a:cubicBezTo>
                  <a:pt x="19825" y="14063"/>
                  <a:pt x="19856" y="14084"/>
                  <a:pt x="19907" y="14097"/>
                </a:cubicBezTo>
              </a:path>
              <a:path w="4191" h="2033">
                <a:moveTo>
                  <a:pt x="19907" y="13716"/>
                </a:moveTo>
                <a:cubicBezTo>
                  <a:pt x="19853" y="13784"/>
                  <a:pt x="19809" y="13890"/>
                  <a:pt x="19780" y="13970"/>
                </a:cubicBezTo>
                <a:cubicBezTo>
                  <a:pt x="19737" y="14092"/>
                  <a:pt x="19710" y="14203"/>
                  <a:pt x="19653" y="14319"/>
                </a:cubicBezTo>
                <a:cubicBezTo>
                  <a:pt x="19643" y="14340"/>
                  <a:pt x="19632" y="14362"/>
                  <a:pt x="19622" y="14383"/>
                </a:cubicBezTo>
              </a:path>
              <a:path w="4191" h="2033">
                <a:moveTo>
                  <a:pt x="20066" y="13621"/>
                </a:moveTo>
                <a:cubicBezTo>
                  <a:pt x="20092" y="13595"/>
                  <a:pt x="20144" y="13562"/>
                  <a:pt x="20193" y="13526"/>
                </a:cubicBezTo>
                <a:cubicBezTo>
                  <a:pt x="20258" y="13478"/>
                  <a:pt x="20283" y="13368"/>
                  <a:pt x="20320" y="13303"/>
                </a:cubicBezTo>
                <a:cubicBezTo>
                  <a:pt x="20361" y="13231"/>
                  <a:pt x="20407" y="13199"/>
                  <a:pt x="20479" y="13176"/>
                </a:cubicBezTo>
                <a:cubicBezTo>
                  <a:pt x="20489" y="13176"/>
                  <a:pt x="20500" y="13176"/>
                  <a:pt x="20510" y="13176"/>
                </a:cubicBezTo>
                <a:cubicBezTo>
                  <a:pt x="20510" y="13271"/>
                  <a:pt x="20507" y="13446"/>
                  <a:pt x="20479" y="13526"/>
                </a:cubicBezTo>
                <a:cubicBezTo>
                  <a:pt x="20422" y="13692"/>
                  <a:pt x="20370" y="13858"/>
                  <a:pt x="20320" y="14034"/>
                </a:cubicBezTo>
                <a:cubicBezTo>
                  <a:pt x="20281" y="14171"/>
                  <a:pt x="20247" y="14314"/>
                  <a:pt x="20193" y="14446"/>
                </a:cubicBezTo>
                <a:cubicBezTo>
                  <a:pt x="20165" y="14514"/>
                  <a:pt x="20155" y="14568"/>
                  <a:pt x="20130" y="14637"/>
                </a:cubicBezTo>
                <a:cubicBezTo>
                  <a:pt x="20173" y="14615"/>
                  <a:pt x="20212" y="14599"/>
                  <a:pt x="20256" y="14573"/>
                </a:cubicBezTo>
                <a:cubicBezTo>
                  <a:pt x="20323" y="14533"/>
                  <a:pt x="20353" y="14561"/>
                  <a:pt x="20415" y="14573"/>
                </a:cubicBezTo>
                <a:cubicBezTo>
                  <a:pt x="20485" y="14587"/>
                  <a:pt x="20587" y="14587"/>
                  <a:pt x="20638" y="14542"/>
                </a:cubicBezTo>
                <a:cubicBezTo>
                  <a:pt x="20684" y="14502"/>
                  <a:pt x="20726" y="14450"/>
                  <a:pt x="20764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7851600" y="4651200"/>
            <a:ext cx="916200" cy="538200"/>
          </a:xfrm>
          <a:custGeom>
            <a:avLst/>
            <a:gdLst/>
            <a:ahLst/>
            <a:rect l="l" t="t" r="r" b="b"/>
            <a:pathLst>
              <a:path w="2541" h="1493">
                <a:moveTo>
                  <a:pt x="22003" y="12922"/>
                </a:moveTo>
                <a:cubicBezTo>
                  <a:pt x="22042" y="13042"/>
                  <a:pt x="22063" y="13173"/>
                  <a:pt x="22066" y="13303"/>
                </a:cubicBezTo>
                <a:cubicBezTo>
                  <a:pt x="22071" y="13498"/>
                  <a:pt x="22082" y="13684"/>
                  <a:pt x="22098" y="13875"/>
                </a:cubicBezTo>
                <a:cubicBezTo>
                  <a:pt x="22112" y="14039"/>
                  <a:pt x="22090" y="14204"/>
                  <a:pt x="22130" y="14351"/>
                </a:cubicBezTo>
                <a:cubicBezTo>
                  <a:pt x="22130" y="14383"/>
                  <a:pt x="22130" y="14394"/>
                  <a:pt x="22098" y="14383"/>
                </a:cubicBezTo>
              </a:path>
              <a:path w="2541" h="1493">
                <a:moveTo>
                  <a:pt x="21812" y="13081"/>
                </a:moveTo>
                <a:cubicBezTo>
                  <a:pt x="21848" y="13050"/>
                  <a:pt x="21891" y="12982"/>
                  <a:pt x="21971" y="12986"/>
                </a:cubicBezTo>
                <a:cubicBezTo>
                  <a:pt x="22057" y="12990"/>
                  <a:pt x="22204" y="13018"/>
                  <a:pt x="22288" y="13049"/>
                </a:cubicBezTo>
                <a:cubicBezTo>
                  <a:pt x="22415" y="13095"/>
                  <a:pt x="22464" y="13179"/>
                  <a:pt x="22542" y="13272"/>
                </a:cubicBezTo>
                <a:cubicBezTo>
                  <a:pt x="22620" y="13366"/>
                  <a:pt x="22654" y="13551"/>
                  <a:pt x="22638" y="13684"/>
                </a:cubicBezTo>
                <a:cubicBezTo>
                  <a:pt x="22621" y="13825"/>
                  <a:pt x="22546" y="13976"/>
                  <a:pt x="22479" y="14097"/>
                </a:cubicBezTo>
                <a:cubicBezTo>
                  <a:pt x="22424" y="14196"/>
                  <a:pt x="22318" y="14316"/>
                  <a:pt x="22225" y="14383"/>
                </a:cubicBezTo>
                <a:cubicBezTo>
                  <a:pt x="22193" y="14406"/>
                  <a:pt x="22072" y="14442"/>
                  <a:pt x="22034" y="14414"/>
                </a:cubicBezTo>
                <a:cubicBezTo>
                  <a:pt x="22034" y="14393"/>
                  <a:pt x="22034" y="14372"/>
                  <a:pt x="22034" y="14351"/>
                </a:cubicBezTo>
              </a:path>
              <a:path w="2541" h="1493">
                <a:moveTo>
                  <a:pt x="22860" y="13303"/>
                </a:moveTo>
                <a:cubicBezTo>
                  <a:pt x="22769" y="13349"/>
                  <a:pt x="22764" y="13488"/>
                  <a:pt x="22733" y="13589"/>
                </a:cubicBezTo>
                <a:cubicBezTo>
                  <a:pt x="22683" y="13756"/>
                  <a:pt x="22670" y="13890"/>
                  <a:pt x="22670" y="14065"/>
                </a:cubicBezTo>
                <a:cubicBezTo>
                  <a:pt x="22670" y="14125"/>
                  <a:pt x="22676" y="14284"/>
                  <a:pt x="22733" y="14319"/>
                </a:cubicBezTo>
                <a:cubicBezTo>
                  <a:pt x="22778" y="14319"/>
                  <a:pt x="22800" y="14325"/>
                  <a:pt x="22828" y="14351"/>
                </a:cubicBezTo>
                <a:cubicBezTo>
                  <a:pt x="22898" y="14282"/>
                  <a:pt x="22920" y="14258"/>
                  <a:pt x="22955" y="14160"/>
                </a:cubicBezTo>
                <a:cubicBezTo>
                  <a:pt x="22997" y="14042"/>
                  <a:pt x="23014" y="13904"/>
                  <a:pt x="23019" y="13780"/>
                </a:cubicBezTo>
                <a:cubicBezTo>
                  <a:pt x="23023" y="13683"/>
                  <a:pt x="23027" y="13548"/>
                  <a:pt x="22987" y="13462"/>
                </a:cubicBezTo>
                <a:cubicBezTo>
                  <a:pt x="22962" y="13408"/>
                  <a:pt x="22932" y="13377"/>
                  <a:pt x="22924" y="13335"/>
                </a:cubicBezTo>
                <a:cubicBezTo>
                  <a:pt x="23000" y="13368"/>
                  <a:pt x="22995" y="13362"/>
                  <a:pt x="23050" y="13430"/>
                </a:cubicBezTo>
                <a:cubicBezTo>
                  <a:pt x="23124" y="13521"/>
                  <a:pt x="23183" y="13513"/>
                  <a:pt x="23209" y="13652"/>
                </a:cubicBezTo>
                <a:cubicBezTo>
                  <a:pt x="23229" y="13759"/>
                  <a:pt x="23241" y="13859"/>
                  <a:pt x="23241" y="13970"/>
                </a:cubicBezTo>
                <a:cubicBezTo>
                  <a:pt x="23241" y="14044"/>
                  <a:pt x="23241" y="14118"/>
                  <a:pt x="23241" y="14192"/>
                </a:cubicBezTo>
                <a:cubicBezTo>
                  <a:pt x="23296" y="14174"/>
                  <a:pt x="23273" y="14105"/>
                  <a:pt x="23273" y="14034"/>
                </a:cubicBezTo>
                <a:cubicBezTo>
                  <a:pt x="23273" y="13888"/>
                  <a:pt x="23277" y="13731"/>
                  <a:pt x="23304" y="13589"/>
                </a:cubicBezTo>
                <a:cubicBezTo>
                  <a:pt x="23317" y="13520"/>
                  <a:pt x="23357" y="13319"/>
                  <a:pt x="23400" y="13272"/>
                </a:cubicBezTo>
                <a:cubicBezTo>
                  <a:pt x="23411" y="13272"/>
                  <a:pt x="23421" y="13272"/>
                  <a:pt x="23432" y="13272"/>
                </a:cubicBezTo>
                <a:cubicBezTo>
                  <a:pt x="23472" y="13342"/>
                  <a:pt x="23469" y="13375"/>
                  <a:pt x="23495" y="13494"/>
                </a:cubicBezTo>
                <a:cubicBezTo>
                  <a:pt x="23526" y="13638"/>
                  <a:pt x="23544" y="13790"/>
                  <a:pt x="23558" y="13938"/>
                </a:cubicBezTo>
                <a:cubicBezTo>
                  <a:pt x="23566" y="14018"/>
                  <a:pt x="23559" y="14193"/>
                  <a:pt x="23622" y="14256"/>
                </a:cubicBezTo>
                <a:cubicBezTo>
                  <a:pt x="23668" y="14302"/>
                  <a:pt x="23703" y="14282"/>
                  <a:pt x="23717" y="14224"/>
                </a:cubicBezTo>
              </a:path>
              <a:path w="2541" h="1493">
                <a:moveTo>
                  <a:pt x="23844" y="13621"/>
                </a:moveTo>
                <a:cubicBezTo>
                  <a:pt x="23861" y="13552"/>
                  <a:pt x="23892" y="13558"/>
                  <a:pt x="23940" y="13526"/>
                </a:cubicBezTo>
                <a:cubicBezTo>
                  <a:pt x="23977" y="13501"/>
                  <a:pt x="24014" y="13408"/>
                  <a:pt x="24035" y="13367"/>
                </a:cubicBezTo>
                <a:cubicBezTo>
                  <a:pt x="24080" y="13281"/>
                  <a:pt x="24098" y="13273"/>
                  <a:pt x="24098" y="13176"/>
                </a:cubicBezTo>
                <a:cubicBezTo>
                  <a:pt x="24098" y="13127"/>
                  <a:pt x="24121" y="13045"/>
                  <a:pt x="24066" y="13018"/>
                </a:cubicBezTo>
                <a:cubicBezTo>
                  <a:pt x="23985" y="12977"/>
                  <a:pt x="23934" y="13050"/>
                  <a:pt x="23908" y="13113"/>
                </a:cubicBezTo>
                <a:cubicBezTo>
                  <a:pt x="23854" y="13245"/>
                  <a:pt x="23848" y="13416"/>
                  <a:pt x="23844" y="13557"/>
                </a:cubicBezTo>
                <a:cubicBezTo>
                  <a:pt x="23839" y="13723"/>
                  <a:pt x="23870" y="13861"/>
                  <a:pt x="23940" y="14002"/>
                </a:cubicBezTo>
                <a:cubicBezTo>
                  <a:pt x="23981" y="14085"/>
                  <a:pt x="23994" y="14153"/>
                  <a:pt x="24098" y="14160"/>
                </a:cubicBezTo>
                <a:cubicBezTo>
                  <a:pt x="24225" y="14168"/>
                  <a:pt x="24220" y="14157"/>
                  <a:pt x="24289" y="14065"/>
                </a:cubicBezTo>
                <a:cubicBezTo>
                  <a:pt x="24347" y="13987"/>
                  <a:pt x="24344" y="13938"/>
                  <a:pt x="24352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582480" y="1577880"/>
            <a:ext cx="1314720" cy="857520"/>
          </a:xfrm>
          <a:custGeom>
            <a:avLst/>
            <a:gdLst/>
            <a:ahLst/>
            <a:rect l="l" t="t" r="r" b="b"/>
            <a:pathLst>
              <a:path w="3652" h="2382">
                <a:moveTo>
                  <a:pt x="1810" y="4858"/>
                </a:moveTo>
                <a:cubicBezTo>
                  <a:pt x="1810" y="5013"/>
                  <a:pt x="1794" y="5153"/>
                  <a:pt x="1778" y="5302"/>
                </a:cubicBezTo>
                <a:cubicBezTo>
                  <a:pt x="1764" y="5429"/>
                  <a:pt x="1769" y="5558"/>
                  <a:pt x="1746" y="5683"/>
                </a:cubicBezTo>
                <a:cubicBezTo>
                  <a:pt x="1719" y="5832"/>
                  <a:pt x="1711" y="5981"/>
                  <a:pt x="1683" y="6128"/>
                </a:cubicBezTo>
                <a:cubicBezTo>
                  <a:pt x="1660" y="6250"/>
                  <a:pt x="1630" y="6387"/>
                  <a:pt x="1619" y="6509"/>
                </a:cubicBezTo>
                <a:cubicBezTo>
                  <a:pt x="1611" y="6601"/>
                  <a:pt x="1619" y="6659"/>
                  <a:pt x="1651" y="6731"/>
                </a:cubicBezTo>
                <a:cubicBezTo>
                  <a:pt x="1662" y="6742"/>
                  <a:pt x="1672" y="6752"/>
                  <a:pt x="1683" y="6763"/>
                </a:cubicBezTo>
                <a:cubicBezTo>
                  <a:pt x="1732" y="6747"/>
                  <a:pt x="1763" y="6719"/>
                  <a:pt x="1810" y="6699"/>
                </a:cubicBezTo>
                <a:cubicBezTo>
                  <a:pt x="1878" y="6669"/>
                  <a:pt x="1955" y="6642"/>
                  <a:pt x="2032" y="6604"/>
                </a:cubicBezTo>
                <a:cubicBezTo>
                  <a:pt x="2143" y="6550"/>
                  <a:pt x="2233" y="6544"/>
                  <a:pt x="2350" y="6509"/>
                </a:cubicBezTo>
                <a:cubicBezTo>
                  <a:pt x="2473" y="6473"/>
                  <a:pt x="2602" y="6450"/>
                  <a:pt x="2730" y="6445"/>
                </a:cubicBezTo>
                <a:cubicBezTo>
                  <a:pt x="2872" y="6440"/>
                  <a:pt x="3034" y="6434"/>
                  <a:pt x="3175" y="6414"/>
                </a:cubicBezTo>
                <a:cubicBezTo>
                  <a:pt x="3328" y="6392"/>
                  <a:pt x="3463" y="6382"/>
                  <a:pt x="3620" y="6382"/>
                </a:cubicBezTo>
                <a:cubicBezTo>
                  <a:pt x="3961" y="6382"/>
                  <a:pt x="4302" y="6377"/>
                  <a:pt x="4636" y="6414"/>
                </a:cubicBezTo>
                <a:cubicBezTo>
                  <a:pt x="4744" y="6426"/>
                  <a:pt x="4847" y="6421"/>
                  <a:pt x="4953" y="6445"/>
                </a:cubicBezTo>
                <a:cubicBezTo>
                  <a:pt x="5007" y="6457"/>
                  <a:pt x="5058" y="6466"/>
                  <a:pt x="5112" y="6477"/>
                </a:cubicBezTo>
                <a:cubicBezTo>
                  <a:pt x="5112" y="6429"/>
                  <a:pt x="5118" y="6430"/>
                  <a:pt x="5112" y="6350"/>
                </a:cubicBezTo>
                <a:cubicBezTo>
                  <a:pt x="5105" y="6266"/>
                  <a:pt x="5138" y="6202"/>
                  <a:pt x="5144" y="6128"/>
                </a:cubicBezTo>
                <a:cubicBezTo>
                  <a:pt x="5152" y="6017"/>
                  <a:pt x="5156" y="5918"/>
                  <a:pt x="5175" y="5810"/>
                </a:cubicBezTo>
                <a:cubicBezTo>
                  <a:pt x="5201" y="5664"/>
                  <a:pt x="5253" y="5511"/>
                  <a:pt x="5270" y="5366"/>
                </a:cubicBezTo>
                <a:cubicBezTo>
                  <a:pt x="5300" y="5115"/>
                  <a:pt x="5286" y="4813"/>
                  <a:pt x="5239" y="4572"/>
                </a:cubicBezTo>
                <a:cubicBezTo>
                  <a:pt x="5227" y="4508"/>
                  <a:pt x="5223" y="4444"/>
                  <a:pt x="5207" y="4382"/>
                </a:cubicBezTo>
                <a:cubicBezTo>
                  <a:pt x="5151" y="4391"/>
                  <a:pt x="5128" y="4398"/>
                  <a:pt x="5080" y="4413"/>
                </a:cubicBezTo>
                <a:cubicBezTo>
                  <a:pt x="5015" y="4434"/>
                  <a:pt x="4956" y="4430"/>
                  <a:pt x="4890" y="4445"/>
                </a:cubicBezTo>
                <a:cubicBezTo>
                  <a:pt x="4803" y="4464"/>
                  <a:pt x="4730" y="4474"/>
                  <a:pt x="4636" y="4477"/>
                </a:cubicBezTo>
                <a:cubicBezTo>
                  <a:pt x="4369" y="4485"/>
                  <a:pt x="4105" y="4489"/>
                  <a:pt x="3842" y="4508"/>
                </a:cubicBezTo>
                <a:cubicBezTo>
                  <a:pt x="3662" y="4521"/>
                  <a:pt x="3481" y="4535"/>
                  <a:pt x="3302" y="4540"/>
                </a:cubicBezTo>
                <a:cubicBezTo>
                  <a:pt x="3150" y="4544"/>
                  <a:pt x="3013" y="4572"/>
                  <a:pt x="2858" y="4572"/>
                </a:cubicBezTo>
                <a:cubicBezTo>
                  <a:pt x="2724" y="4572"/>
                  <a:pt x="2607" y="4599"/>
                  <a:pt x="2476" y="4604"/>
                </a:cubicBezTo>
                <a:cubicBezTo>
                  <a:pt x="2374" y="4608"/>
                  <a:pt x="2262" y="4619"/>
                  <a:pt x="2159" y="4636"/>
                </a:cubicBezTo>
                <a:cubicBezTo>
                  <a:pt x="2119" y="4643"/>
                  <a:pt x="2075" y="4660"/>
                  <a:pt x="2032" y="4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equation of the line of best fit for the data?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correlation coefficien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average increase of tasks per hou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914400"/>
          <a:ext cx="8153640" cy="1630440"/>
        </p:xfrm>
        <a:graphic>
          <a:graphicData uri="http://schemas.openxmlformats.org/drawingml/2006/table">
            <a:tbl>
              <a:tblPr/>
              <a:tblGrid>
                <a:gridCol w="2438640"/>
                <a:gridCol w="761760"/>
                <a:gridCol w="838440"/>
                <a:gridCol w="838080"/>
                <a:gridCol w="838080"/>
                <a:gridCol w="762120"/>
                <a:gridCol w="762120"/>
                <a:gridCol w="914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Tasks Comple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Ink 63"/>
          <p:cNvSpPr/>
          <p:nvPr/>
        </p:nvSpPr>
        <p:spPr>
          <a:xfrm>
            <a:off x="136440" y="1177920"/>
            <a:ext cx="173160" cy="376200"/>
          </a:xfrm>
          <a:custGeom>
            <a:avLst/>
            <a:gdLst/>
            <a:ahLst/>
            <a:rect l="l" t="t" r="r" b="b"/>
            <a:pathLst>
              <a:path w="477" h="1049">
                <a:moveTo>
                  <a:pt x="381" y="3366"/>
                </a:moveTo>
                <a:cubicBezTo>
                  <a:pt x="392" y="3440"/>
                  <a:pt x="410" y="3484"/>
                  <a:pt x="444" y="3556"/>
                </a:cubicBezTo>
                <a:cubicBezTo>
                  <a:pt x="483" y="3640"/>
                  <a:pt x="528" y="3693"/>
                  <a:pt x="540" y="3778"/>
                </a:cubicBezTo>
                <a:cubicBezTo>
                  <a:pt x="609" y="3795"/>
                  <a:pt x="633" y="3839"/>
                  <a:pt x="667" y="3905"/>
                </a:cubicBezTo>
                <a:cubicBezTo>
                  <a:pt x="693" y="3955"/>
                  <a:pt x="718" y="3984"/>
                  <a:pt x="730" y="4032"/>
                </a:cubicBezTo>
                <a:cubicBezTo>
                  <a:pt x="762" y="4032"/>
                  <a:pt x="773" y="4032"/>
                  <a:pt x="762" y="4064"/>
                </a:cubicBezTo>
              </a:path>
              <a:path w="477" h="1049">
                <a:moveTo>
                  <a:pt x="857" y="3270"/>
                </a:moveTo>
                <a:cubicBezTo>
                  <a:pt x="790" y="3407"/>
                  <a:pt x="727" y="3543"/>
                  <a:pt x="667" y="3683"/>
                </a:cubicBezTo>
                <a:cubicBezTo>
                  <a:pt x="626" y="3779"/>
                  <a:pt x="581" y="3874"/>
                  <a:pt x="540" y="3969"/>
                </a:cubicBezTo>
                <a:cubicBezTo>
                  <a:pt x="499" y="4064"/>
                  <a:pt x="493" y="4130"/>
                  <a:pt x="444" y="4223"/>
                </a:cubicBezTo>
                <a:cubicBezTo>
                  <a:pt x="419" y="4275"/>
                  <a:pt x="408" y="4283"/>
                  <a:pt x="413" y="4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64"/>
          <p:cNvSpPr/>
          <p:nvPr/>
        </p:nvSpPr>
        <p:spPr>
          <a:xfrm>
            <a:off x="149400" y="1965240"/>
            <a:ext cx="274320" cy="744480"/>
          </a:xfrm>
          <a:custGeom>
            <a:avLst/>
            <a:gdLst/>
            <a:ahLst/>
            <a:rect l="l" t="t" r="r" b="b"/>
            <a:pathLst>
              <a:path w="763" h="2065">
                <a:moveTo>
                  <a:pt x="413" y="5461"/>
                </a:moveTo>
                <a:cubicBezTo>
                  <a:pt x="413" y="5503"/>
                  <a:pt x="413" y="5482"/>
                  <a:pt x="413" y="5524"/>
                </a:cubicBezTo>
                <a:cubicBezTo>
                  <a:pt x="413" y="5668"/>
                  <a:pt x="422" y="5802"/>
                  <a:pt x="444" y="5937"/>
                </a:cubicBezTo>
                <a:cubicBezTo>
                  <a:pt x="461" y="6043"/>
                  <a:pt x="456" y="6063"/>
                  <a:pt x="508" y="6160"/>
                </a:cubicBezTo>
                <a:cubicBezTo>
                  <a:pt x="534" y="6212"/>
                  <a:pt x="532" y="6233"/>
                  <a:pt x="572" y="6223"/>
                </a:cubicBezTo>
                <a:cubicBezTo>
                  <a:pt x="693" y="6205"/>
                  <a:pt x="643" y="6204"/>
                  <a:pt x="698" y="6064"/>
                </a:cubicBezTo>
                <a:cubicBezTo>
                  <a:pt x="739" y="5958"/>
                  <a:pt x="757" y="5831"/>
                  <a:pt x="762" y="5715"/>
                </a:cubicBezTo>
                <a:cubicBezTo>
                  <a:pt x="765" y="5641"/>
                  <a:pt x="762" y="5567"/>
                  <a:pt x="762" y="5493"/>
                </a:cubicBezTo>
                <a:cubicBezTo>
                  <a:pt x="762" y="5546"/>
                  <a:pt x="748" y="5537"/>
                  <a:pt x="762" y="5588"/>
                </a:cubicBezTo>
                <a:cubicBezTo>
                  <a:pt x="792" y="5695"/>
                  <a:pt x="822" y="5792"/>
                  <a:pt x="826" y="5906"/>
                </a:cubicBezTo>
                <a:cubicBezTo>
                  <a:pt x="831" y="6046"/>
                  <a:pt x="857" y="6175"/>
                  <a:pt x="857" y="6318"/>
                </a:cubicBezTo>
                <a:cubicBezTo>
                  <a:pt x="857" y="6470"/>
                  <a:pt x="889" y="6608"/>
                  <a:pt x="889" y="6763"/>
                </a:cubicBezTo>
                <a:cubicBezTo>
                  <a:pt x="889" y="6909"/>
                  <a:pt x="841" y="7034"/>
                  <a:pt x="826" y="7176"/>
                </a:cubicBezTo>
                <a:cubicBezTo>
                  <a:pt x="816" y="7269"/>
                  <a:pt x="813" y="7378"/>
                  <a:pt x="762" y="7461"/>
                </a:cubicBezTo>
                <a:cubicBezTo>
                  <a:pt x="725" y="7521"/>
                  <a:pt x="693" y="7517"/>
                  <a:pt x="635" y="7525"/>
                </a:cubicBezTo>
                <a:cubicBezTo>
                  <a:pt x="612" y="7501"/>
                  <a:pt x="552" y="7463"/>
                  <a:pt x="540" y="7398"/>
                </a:cubicBezTo>
                <a:cubicBezTo>
                  <a:pt x="523" y="7304"/>
                  <a:pt x="487" y="7178"/>
                  <a:pt x="508" y="7080"/>
                </a:cubicBezTo>
                <a:cubicBezTo>
                  <a:pt x="531" y="6969"/>
                  <a:pt x="563" y="6870"/>
                  <a:pt x="603" y="6763"/>
                </a:cubicBezTo>
                <a:cubicBezTo>
                  <a:pt x="640" y="6665"/>
                  <a:pt x="699" y="6530"/>
                  <a:pt x="762" y="6445"/>
                </a:cubicBezTo>
                <a:cubicBezTo>
                  <a:pt x="829" y="6355"/>
                  <a:pt x="921" y="6285"/>
                  <a:pt x="984" y="6191"/>
                </a:cubicBezTo>
                <a:cubicBezTo>
                  <a:pt x="1034" y="6115"/>
                  <a:pt x="1096" y="6046"/>
                  <a:pt x="1143" y="5969"/>
                </a:cubicBezTo>
                <a:cubicBezTo>
                  <a:pt x="1154" y="5948"/>
                  <a:pt x="1164" y="5927"/>
                  <a:pt x="1175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65"/>
          <p:cNvSpPr/>
          <p:nvPr/>
        </p:nvSpPr>
        <p:spPr>
          <a:xfrm>
            <a:off x="2914560" y="3600360"/>
            <a:ext cx="3017880" cy="754200"/>
          </a:xfrm>
          <a:custGeom>
            <a:avLst/>
            <a:gdLst/>
            <a:ahLst/>
            <a:rect l="l" t="t" r="r" b="b"/>
            <a:pathLst>
              <a:path w="8383" h="2097">
                <a:moveTo>
                  <a:pt x="8287" y="10096"/>
                </a:moveTo>
                <a:cubicBezTo>
                  <a:pt x="8280" y="10156"/>
                  <a:pt x="8264" y="10198"/>
                  <a:pt x="8255" y="10255"/>
                </a:cubicBezTo>
                <a:cubicBezTo>
                  <a:pt x="8223" y="10444"/>
                  <a:pt x="8203" y="10858"/>
                  <a:pt x="8287" y="11017"/>
                </a:cubicBezTo>
                <a:cubicBezTo>
                  <a:pt x="8346" y="11129"/>
                  <a:pt x="8295" y="11075"/>
                  <a:pt x="8382" y="11112"/>
                </a:cubicBezTo>
                <a:cubicBezTo>
                  <a:pt x="8442" y="11053"/>
                  <a:pt x="8471" y="10998"/>
                  <a:pt x="8509" y="10922"/>
                </a:cubicBezTo>
                <a:cubicBezTo>
                  <a:pt x="8561" y="10817"/>
                  <a:pt x="8613" y="10706"/>
                  <a:pt x="8668" y="10604"/>
                </a:cubicBezTo>
                <a:cubicBezTo>
                  <a:pt x="8723" y="10501"/>
                  <a:pt x="8769" y="10430"/>
                  <a:pt x="8795" y="10319"/>
                </a:cubicBezTo>
                <a:cubicBezTo>
                  <a:pt x="8795" y="10308"/>
                  <a:pt x="8795" y="10298"/>
                  <a:pt x="8795" y="10287"/>
                </a:cubicBezTo>
                <a:cubicBezTo>
                  <a:pt x="8787" y="10378"/>
                  <a:pt x="8767" y="10449"/>
                  <a:pt x="8763" y="10541"/>
                </a:cubicBezTo>
                <a:cubicBezTo>
                  <a:pt x="8756" y="10726"/>
                  <a:pt x="8780" y="10900"/>
                  <a:pt x="8795" y="11081"/>
                </a:cubicBezTo>
                <a:cubicBezTo>
                  <a:pt x="8809" y="11246"/>
                  <a:pt x="8779" y="11397"/>
                  <a:pt x="8763" y="11557"/>
                </a:cubicBezTo>
                <a:cubicBezTo>
                  <a:pt x="8752" y="11671"/>
                  <a:pt x="8741" y="11808"/>
                  <a:pt x="8668" y="11906"/>
                </a:cubicBezTo>
                <a:cubicBezTo>
                  <a:pt x="8624" y="11966"/>
                  <a:pt x="8525" y="12078"/>
                  <a:pt x="8446" y="12097"/>
                </a:cubicBezTo>
                <a:cubicBezTo>
                  <a:pt x="8360" y="12117"/>
                  <a:pt x="8285" y="12091"/>
                  <a:pt x="8223" y="12033"/>
                </a:cubicBezTo>
                <a:cubicBezTo>
                  <a:pt x="8129" y="11945"/>
                  <a:pt x="8101" y="11909"/>
                  <a:pt x="8096" y="11779"/>
                </a:cubicBezTo>
                <a:cubicBezTo>
                  <a:pt x="8092" y="11674"/>
                  <a:pt x="8132" y="11520"/>
                  <a:pt x="8192" y="11430"/>
                </a:cubicBezTo>
                <a:cubicBezTo>
                  <a:pt x="8270" y="11313"/>
                  <a:pt x="8361" y="11249"/>
                  <a:pt x="8477" y="11176"/>
                </a:cubicBezTo>
                <a:cubicBezTo>
                  <a:pt x="8602" y="11097"/>
                  <a:pt x="8648" y="11081"/>
                  <a:pt x="8795" y="11081"/>
                </a:cubicBezTo>
                <a:cubicBezTo>
                  <a:pt x="8845" y="11081"/>
                  <a:pt x="8940" y="11091"/>
                  <a:pt x="8985" y="11112"/>
                </a:cubicBezTo>
                <a:cubicBezTo>
                  <a:pt x="8996" y="11123"/>
                  <a:pt x="9006" y="11133"/>
                  <a:pt x="9017" y="11144"/>
                </a:cubicBezTo>
              </a:path>
              <a:path w="8383" h="2097">
                <a:moveTo>
                  <a:pt x="9112" y="10382"/>
                </a:moveTo>
                <a:cubicBezTo>
                  <a:pt x="9199" y="10382"/>
                  <a:pt x="9254" y="10364"/>
                  <a:pt x="9334" y="10350"/>
                </a:cubicBezTo>
                <a:cubicBezTo>
                  <a:pt x="9427" y="10334"/>
                  <a:pt x="9500" y="10375"/>
                  <a:pt x="9588" y="10382"/>
                </a:cubicBezTo>
                <a:cubicBezTo>
                  <a:pt x="9619" y="10384"/>
                  <a:pt x="9652" y="10382"/>
                  <a:pt x="9684" y="10382"/>
                </a:cubicBezTo>
              </a:path>
              <a:path w="8383" h="2097">
                <a:moveTo>
                  <a:pt x="9303" y="10700"/>
                </a:moveTo>
                <a:cubicBezTo>
                  <a:pt x="9303" y="10711"/>
                  <a:pt x="9303" y="10721"/>
                  <a:pt x="9303" y="10732"/>
                </a:cubicBezTo>
                <a:cubicBezTo>
                  <a:pt x="9401" y="10732"/>
                  <a:pt x="9466" y="10723"/>
                  <a:pt x="9557" y="10700"/>
                </a:cubicBezTo>
                <a:cubicBezTo>
                  <a:pt x="9567" y="10698"/>
                  <a:pt x="9730" y="10725"/>
                  <a:pt x="9747" y="10732"/>
                </a:cubicBezTo>
                <a:cubicBezTo>
                  <a:pt x="9758" y="10742"/>
                  <a:pt x="9768" y="10753"/>
                  <a:pt x="9779" y="10763"/>
                </a:cubicBezTo>
              </a:path>
              <a:path w="8383" h="2097">
                <a:moveTo>
                  <a:pt x="10224" y="10255"/>
                </a:moveTo>
                <a:cubicBezTo>
                  <a:pt x="10291" y="10238"/>
                  <a:pt x="10288" y="10208"/>
                  <a:pt x="10319" y="10160"/>
                </a:cubicBezTo>
                <a:cubicBezTo>
                  <a:pt x="10353" y="10107"/>
                  <a:pt x="10454" y="10062"/>
                  <a:pt x="10509" y="10033"/>
                </a:cubicBezTo>
                <a:cubicBezTo>
                  <a:pt x="10578" y="9997"/>
                  <a:pt x="10611" y="9982"/>
                  <a:pt x="10668" y="10033"/>
                </a:cubicBezTo>
                <a:cubicBezTo>
                  <a:pt x="10741" y="10097"/>
                  <a:pt x="10679" y="10175"/>
                  <a:pt x="10668" y="10255"/>
                </a:cubicBezTo>
                <a:cubicBezTo>
                  <a:pt x="10652" y="10367"/>
                  <a:pt x="10571" y="10415"/>
                  <a:pt x="10509" y="10509"/>
                </a:cubicBezTo>
                <a:cubicBezTo>
                  <a:pt x="10457" y="10588"/>
                  <a:pt x="10450" y="10616"/>
                  <a:pt x="10350" y="10636"/>
                </a:cubicBezTo>
                <a:cubicBezTo>
                  <a:pt x="10363" y="10584"/>
                  <a:pt x="10387" y="10548"/>
                  <a:pt x="10446" y="10541"/>
                </a:cubicBezTo>
                <a:cubicBezTo>
                  <a:pt x="10515" y="10533"/>
                  <a:pt x="10564" y="10542"/>
                  <a:pt x="10604" y="10604"/>
                </a:cubicBezTo>
                <a:cubicBezTo>
                  <a:pt x="10666" y="10701"/>
                  <a:pt x="10668" y="10778"/>
                  <a:pt x="10668" y="10890"/>
                </a:cubicBezTo>
                <a:cubicBezTo>
                  <a:pt x="10668" y="11016"/>
                  <a:pt x="10658" y="11093"/>
                  <a:pt x="10604" y="11208"/>
                </a:cubicBezTo>
                <a:cubicBezTo>
                  <a:pt x="10571" y="11279"/>
                  <a:pt x="10485" y="11389"/>
                  <a:pt x="10414" y="11430"/>
                </a:cubicBezTo>
                <a:cubicBezTo>
                  <a:pt x="10363" y="11459"/>
                  <a:pt x="10300" y="11461"/>
                  <a:pt x="10255" y="11430"/>
                </a:cubicBezTo>
                <a:cubicBezTo>
                  <a:pt x="10191" y="11386"/>
                  <a:pt x="10192" y="11389"/>
                  <a:pt x="10192" y="11303"/>
                </a:cubicBezTo>
              </a:path>
              <a:path w="8383" h="2097">
                <a:moveTo>
                  <a:pt x="10732" y="11271"/>
                </a:moveTo>
                <a:cubicBezTo>
                  <a:pt x="10732" y="11282"/>
                  <a:pt x="10732" y="11292"/>
                  <a:pt x="10732" y="11303"/>
                </a:cubicBezTo>
              </a:path>
              <a:path w="8383" h="2097">
                <a:moveTo>
                  <a:pt x="11112" y="10350"/>
                </a:moveTo>
                <a:cubicBezTo>
                  <a:pt x="11112" y="10295"/>
                  <a:pt x="11120" y="10286"/>
                  <a:pt x="11144" y="10255"/>
                </a:cubicBezTo>
                <a:cubicBezTo>
                  <a:pt x="11197" y="10186"/>
                  <a:pt x="11269" y="10146"/>
                  <a:pt x="11335" y="10096"/>
                </a:cubicBezTo>
                <a:cubicBezTo>
                  <a:pt x="11363" y="10075"/>
                  <a:pt x="11446" y="10051"/>
                  <a:pt x="11462" y="10096"/>
                </a:cubicBezTo>
                <a:cubicBezTo>
                  <a:pt x="11490" y="10172"/>
                  <a:pt x="11486" y="10265"/>
                  <a:pt x="11462" y="10350"/>
                </a:cubicBezTo>
                <a:cubicBezTo>
                  <a:pt x="11430" y="10463"/>
                  <a:pt x="11358" y="10538"/>
                  <a:pt x="11303" y="10636"/>
                </a:cubicBezTo>
                <a:cubicBezTo>
                  <a:pt x="11267" y="10702"/>
                  <a:pt x="11272" y="10716"/>
                  <a:pt x="11208" y="10732"/>
                </a:cubicBezTo>
                <a:cubicBezTo>
                  <a:pt x="11253" y="10687"/>
                  <a:pt x="11303" y="10609"/>
                  <a:pt x="11366" y="10604"/>
                </a:cubicBezTo>
                <a:cubicBezTo>
                  <a:pt x="11428" y="10600"/>
                  <a:pt x="11495" y="10600"/>
                  <a:pt x="11525" y="10668"/>
                </a:cubicBezTo>
                <a:cubicBezTo>
                  <a:pt x="11556" y="10738"/>
                  <a:pt x="11557" y="10811"/>
                  <a:pt x="11557" y="10890"/>
                </a:cubicBezTo>
                <a:cubicBezTo>
                  <a:pt x="11557" y="11012"/>
                  <a:pt x="11543" y="11095"/>
                  <a:pt x="11494" y="11208"/>
                </a:cubicBezTo>
                <a:cubicBezTo>
                  <a:pt x="11461" y="11285"/>
                  <a:pt x="11421" y="11368"/>
                  <a:pt x="11366" y="11430"/>
                </a:cubicBezTo>
                <a:cubicBezTo>
                  <a:pt x="11339" y="11461"/>
                  <a:pt x="11250" y="11486"/>
                  <a:pt x="11208" y="11462"/>
                </a:cubicBezTo>
                <a:cubicBezTo>
                  <a:pt x="11179" y="11433"/>
                  <a:pt x="11168" y="11427"/>
                  <a:pt x="11176" y="11398"/>
                </a:cubicBezTo>
              </a:path>
              <a:path w="8383" h="2097">
                <a:moveTo>
                  <a:pt x="11684" y="10287"/>
                </a:moveTo>
                <a:cubicBezTo>
                  <a:pt x="11684" y="10222"/>
                  <a:pt x="11703" y="10219"/>
                  <a:pt x="11716" y="10192"/>
                </a:cubicBezTo>
                <a:cubicBezTo>
                  <a:pt x="11750" y="10124"/>
                  <a:pt x="11768" y="10126"/>
                  <a:pt x="11843" y="10096"/>
                </a:cubicBezTo>
                <a:cubicBezTo>
                  <a:pt x="11914" y="10068"/>
                  <a:pt x="11942" y="10042"/>
                  <a:pt x="12002" y="10096"/>
                </a:cubicBezTo>
                <a:cubicBezTo>
                  <a:pt x="12066" y="10153"/>
                  <a:pt x="12028" y="10250"/>
                  <a:pt x="12002" y="10319"/>
                </a:cubicBezTo>
                <a:cubicBezTo>
                  <a:pt x="11958" y="10434"/>
                  <a:pt x="11904" y="10530"/>
                  <a:pt x="11843" y="10636"/>
                </a:cubicBezTo>
                <a:cubicBezTo>
                  <a:pt x="11815" y="10692"/>
                  <a:pt x="11810" y="10707"/>
                  <a:pt x="11779" y="10732"/>
                </a:cubicBezTo>
                <a:cubicBezTo>
                  <a:pt x="11727" y="10714"/>
                  <a:pt x="11764" y="10644"/>
                  <a:pt x="11811" y="10604"/>
                </a:cubicBezTo>
                <a:cubicBezTo>
                  <a:pt x="11856" y="10565"/>
                  <a:pt x="11949" y="10545"/>
                  <a:pt x="12002" y="10541"/>
                </a:cubicBezTo>
                <a:cubicBezTo>
                  <a:pt x="12088" y="10534"/>
                  <a:pt x="12080" y="10618"/>
                  <a:pt x="12097" y="10668"/>
                </a:cubicBezTo>
                <a:cubicBezTo>
                  <a:pt x="12140" y="10792"/>
                  <a:pt x="12135" y="10889"/>
                  <a:pt x="12097" y="11017"/>
                </a:cubicBezTo>
                <a:cubicBezTo>
                  <a:pt x="12065" y="11124"/>
                  <a:pt x="12074" y="11242"/>
                  <a:pt x="12002" y="11335"/>
                </a:cubicBezTo>
                <a:cubicBezTo>
                  <a:pt x="11949" y="11403"/>
                  <a:pt x="11898" y="11496"/>
                  <a:pt x="11811" y="11525"/>
                </a:cubicBezTo>
                <a:cubicBezTo>
                  <a:pt x="11783" y="11534"/>
                  <a:pt x="11699" y="11566"/>
                  <a:pt x="11684" y="11525"/>
                </a:cubicBezTo>
                <a:cubicBezTo>
                  <a:pt x="11684" y="11504"/>
                  <a:pt x="11684" y="11483"/>
                  <a:pt x="11684" y="11462"/>
                </a:cubicBezTo>
              </a:path>
              <a:path w="8383" h="2097">
                <a:moveTo>
                  <a:pt x="12287" y="10382"/>
                </a:moveTo>
                <a:cubicBezTo>
                  <a:pt x="12319" y="10456"/>
                  <a:pt x="12352" y="10527"/>
                  <a:pt x="12382" y="10604"/>
                </a:cubicBezTo>
                <a:cubicBezTo>
                  <a:pt x="12433" y="10734"/>
                  <a:pt x="12496" y="10809"/>
                  <a:pt x="12573" y="10922"/>
                </a:cubicBezTo>
                <a:cubicBezTo>
                  <a:pt x="12628" y="11003"/>
                  <a:pt x="12713" y="11039"/>
                  <a:pt x="12764" y="11112"/>
                </a:cubicBezTo>
                <a:cubicBezTo>
                  <a:pt x="12802" y="11166"/>
                  <a:pt x="12844" y="11180"/>
                  <a:pt x="12859" y="11240"/>
                </a:cubicBezTo>
              </a:path>
              <a:path w="8383" h="2097">
                <a:moveTo>
                  <a:pt x="12700" y="10350"/>
                </a:moveTo>
                <a:cubicBezTo>
                  <a:pt x="12677" y="10486"/>
                  <a:pt x="12595" y="10603"/>
                  <a:pt x="12541" y="10732"/>
                </a:cubicBezTo>
                <a:cubicBezTo>
                  <a:pt x="12424" y="11013"/>
                  <a:pt x="12333" y="11305"/>
                  <a:pt x="12224" y="11589"/>
                </a:cubicBezTo>
              </a:path>
              <a:path w="8383" h="2097">
                <a:moveTo>
                  <a:pt x="13684" y="10446"/>
                </a:moveTo>
                <a:cubicBezTo>
                  <a:pt x="13633" y="10531"/>
                  <a:pt x="13671" y="10600"/>
                  <a:pt x="13652" y="10700"/>
                </a:cubicBezTo>
                <a:cubicBezTo>
                  <a:pt x="13631" y="10811"/>
                  <a:pt x="13647" y="10942"/>
                  <a:pt x="13621" y="11049"/>
                </a:cubicBezTo>
                <a:cubicBezTo>
                  <a:pt x="13602" y="11130"/>
                  <a:pt x="13589" y="11183"/>
                  <a:pt x="13589" y="11271"/>
                </a:cubicBezTo>
                <a:cubicBezTo>
                  <a:pt x="13589" y="11282"/>
                  <a:pt x="13589" y="11292"/>
                  <a:pt x="13589" y="11303"/>
                </a:cubicBezTo>
              </a:path>
              <a:path w="8383" h="2097">
                <a:moveTo>
                  <a:pt x="13367" y="10922"/>
                </a:moveTo>
                <a:cubicBezTo>
                  <a:pt x="13314" y="10922"/>
                  <a:pt x="13292" y="10911"/>
                  <a:pt x="13303" y="10954"/>
                </a:cubicBezTo>
                <a:cubicBezTo>
                  <a:pt x="13374" y="10954"/>
                  <a:pt x="13394" y="10939"/>
                  <a:pt x="13462" y="10922"/>
                </a:cubicBezTo>
                <a:cubicBezTo>
                  <a:pt x="13538" y="10903"/>
                  <a:pt x="13611" y="10890"/>
                  <a:pt x="13684" y="10858"/>
                </a:cubicBezTo>
                <a:cubicBezTo>
                  <a:pt x="13756" y="10826"/>
                  <a:pt x="13808" y="10773"/>
                  <a:pt x="13875" y="10732"/>
                </a:cubicBezTo>
              </a:path>
              <a:path w="8383" h="2097">
                <a:moveTo>
                  <a:pt x="14256" y="10065"/>
                </a:moveTo>
                <a:cubicBezTo>
                  <a:pt x="14309" y="10152"/>
                  <a:pt x="14303" y="10307"/>
                  <a:pt x="14288" y="10414"/>
                </a:cubicBezTo>
                <a:cubicBezTo>
                  <a:pt x="14264" y="10585"/>
                  <a:pt x="14230" y="10748"/>
                  <a:pt x="14224" y="10922"/>
                </a:cubicBezTo>
                <a:cubicBezTo>
                  <a:pt x="14218" y="11112"/>
                  <a:pt x="14224" y="11304"/>
                  <a:pt x="14224" y="11494"/>
                </a:cubicBezTo>
              </a:path>
              <a:path w="8383" h="2097">
                <a:moveTo>
                  <a:pt x="14573" y="11081"/>
                </a:moveTo>
                <a:cubicBezTo>
                  <a:pt x="14573" y="11129"/>
                  <a:pt x="14542" y="11107"/>
                  <a:pt x="14542" y="11176"/>
                </a:cubicBezTo>
              </a:path>
              <a:path w="8383" h="2097">
                <a:moveTo>
                  <a:pt x="15176" y="10065"/>
                </a:moveTo>
                <a:cubicBezTo>
                  <a:pt x="15123" y="10083"/>
                  <a:pt x="15134" y="10217"/>
                  <a:pt x="15113" y="10287"/>
                </a:cubicBezTo>
                <a:cubicBezTo>
                  <a:pt x="15065" y="10449"/>
                  <a:pt x="15023" y="10594"/>
                  <a:pt x="15018" y="10763"/>
                </a:cubicBezTo>
                <a:cubicBezTo>
                  <a:pt x="15013" y="10932"/>
                  <a:pt x="15012" y="11072"/>
                  <a:pt x="15018" y="11240"/>
                </a:cubicBezTo>
                <a:cubicBezTo>
                  <a:pt x="15022" y="11347"/>
                  <a:pt x="15036" y="11448"/>
                  <a:pt x="15145" y="11494"/>
                </a:cubicBezTo>
                <a:cubicBezTo>
                  <a:pt x="15213" y="11523"/>
                  <a:pt x="15262" y="11469"/>
                  <a:pt x="15304" y="11430"/>
                </a:cubicBezTo>
                <a:cubicBezTo>
                  <a:pt x="15371" y="11368"/>
                  <a:pt x="15398" y="11230"/>
                  <a:pt x="15430" y="11144"/>
                </a:cubicBezTo>
                <a:cubicBezTo>
                  <a:pt x="15472" y="11031"/>
                  <a:pt x="15478" y="10952"/>
                  <a:pt x="15462" y="10858"/>
                </a:cubicBezTo>
                <a:cubicBezTo>
                  <a:pt x="15457" y="10826"/>
                  <a:pt x="15408" y="10805"/>
                  <a:pt x="15367" y="10827"/>
                </a:cubicBezTo>
                <a:cubicBezTo>
                  <a:pt x="15310" y="10858"/>
                  <a:pt x="15263" y="10991"/>
                  <a:pt x="15240" y="11049"/>
                </a:cubicBezTo>
                <a:cubicBezTo>
                  <a:pt x="15192" y="11171"/>
                  <a:pt x="15176" y="11269"/>
                  <a:pt x="15176" y="11398"/>
                </a:cubicBezTo>
                <a:cubicBezTo>
                  <a:pt x="15176" y="11428"/>
                  <a:pt x="15161" y="11559"/>
                  <a:pt x="15240" y="11525"/>
                </a:cubicBezTo>
                <a:cubicBezTo>
                  <a:pt x="15251" y="11515"/>
                  <a:pt x="15261" y="11504"/>
                  <a:pt x="15272" y="11494"/>
                </a:cubicBezTo>
              </a:path>
              <a:path w="8383" h="2097">
                <a:moveTo>
                  <a:pt x="15716" y="10160"/>
                </a:moveTo>
                <a:cubicBezTo>
                  <a:pt x="15759" y="10160"/>
                  <a:pt x="15737" y="10160"/>
                  <a:pt x="15780" y="10160"/>
                </a:cubicBezTo>
                <a:cubicBezTo>
                  <a:pt x="15854" y="10160"/>
                  <a:pt x="15961" y="10119"/>
                  <a:pt x="16034" y="10096"/>
                </a:cubicBezTo>
                <a:cubicBezTo>
                  <a:pt x="16118" y="10070"/>
                  <a:pt x="16174" y="10045"/>
                  <a:pt x="16256" y="10033"/>
                </a:cubicBezTo>
                <a:cubicBezTo>
                  <a:pt x="16271" y="10070"/>
                  <a:pt x="16287" y="10110"/>
                  <a:pt x="16224" y="10192"/>
                </a:cubicBezTo>
                <a:cubicBezTo>
                  <a:pt x="16148" y="10290"/>
                  <a:pt x="16112" y="10410"/>
                  <a:pt x="16034" y="10509"/>
                </a:cubicBezTo>
                <a:cubicBezTo>
                  <a:pt x="15980" y="10577"/>
                  <a:pt x="15950" y="10634"/>
                  <a:pt x="15907" y="10700"/>
                </a:cubicBezTo>
                <a:cubicBezTo>
                  <a:pt x="15907" y="10732"/>
                  <a:pt x="15907" y="10743"/>
                  <a:pt x="15907" y="10700"/>
                </a:cubicBezTo>
                <a:cubicBezTo>
                  <a:pt x="15945" y="10662"/>
                  <a:pt x="16011" y="10615"/>
                  <a:pt x="16066" y="10573"/>
                </a:cubicBezTo>
                <a:cubicBezTo>
                  <a:pt x="16128" y="10527"/>
                  <a:pt x="16172" y="10493"/>
                  <a:pt x="16256" y="10509"/>
                </a:cubicBezTo>
                <a:cubicBezTo>
                  <a:pt x="16334" y="10524"/>
                  <a:pt x="16382" y="10606"/>
                  <a:pt x="16415" y="10668"/>
                </a:cubicBezTo>
                <a:cubicBezTo>
                  <a:pt x="16480" y="10793"/>
                  <a:pt x="16486" y="10849"/>
                  <a:pt x="16446" y="10986"/>
                </a:cubicBezTo>
                <a:cubicBezTo>
                  <a:pt x="16412" y="11104"/>
                  <a:pt x="16369" y="11214"/>
                  <a:pt x="16288" y="11303"/>
                </a:cubicBezTo>
                <a:cubicBezTo>
                  <a:pt x="16220" y="11378"/>
                  <a:pt x="16130" y="11414"/>
                  <a:pt x="16034" y="11430"/>
                </a:cubicBezTo>
                <a:cubicBezTo>
                  <a:pt x="15974" y="11440"/>
                  <a:pt x="15908" y="11405"/>
                  <a:pt x="15843" y="11398"/>
                </a:cubicBezTo>
                <a:cubicBezTo>
                  <a:pt x="15883" y="11366"/>
                  <a:pt x="15925" y="11355"/>
                  <a:pt x="16002" y="11335"/>
                </a:cubicBezTo>
                <a:cubicBezTo>
                  <a:pt x="16034" y="11324"/>
                  <a:pt x="16065" y="11314"/>
                  <a:pt x="16097" y="11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66"/>
          <p:cNvSpPr/>
          <p:nvPr/>
        </p:nvSpPr>
        <p:spPr>
          <a:xfrm>
            <a:off x="7132680" y="4297320"/>
            <a:ext cx="571320" cy="584280"/>
          </a:xfrm>
          <a:custGeom>
            <a:avLst/>
            <a:gdLst/>
            <a:ahLst/>
            <a:rect l="l" t="t" r="r" b="b"/>
            <a:pathLst>
              <a:path w="1589" h="1620">
                <a:moveTo>
                  <a:pt x="19812" y="13303"/>
                </a:moveTo>
                <a:cubicBezTo>
                  <a:pt x="19812" y="13321"/>
                  <a:pt x="19824" y="13482"/>
                  <a:pt x="19844" y="13430"/>
                </a:cubicBezTo>
                <a:cubicBezTo>
                  <a:pt x="19865" y="13374"/>
                  <a:pt x="19842" y="13311"/>
                  <a:pt x="19812" y="13272"/>
                </a:cubicBezTo>
                <a:cubicBezTo>
                  <a:pt x="19812" y="13261"/>
                  <a:pt x="19812" y="13251"/>
                  <a:pt x="19812" y="13240"/>
                </a:cubicBezTo>
                <a:cubicBezTo>
                  <a:pt x="19812" y="13314"/>
                  <a:pt x="19812" y="13388"/>
                  <a:pt x="19812" y="13462"/>
                </a:cubicBezTo>
                <a:cubicBezTo>
                  <a:pt x="19841" y="13413"/>
                  <a:pt x="19871" y="13373"/>
                  <a:pt x="19876" y="13335"/>
                </a:cubicBezTo>
                <a:cubicBezTo>
                  <a:pt x="19876" y="13324"/>
                  <a:pt x="19876" y="13314"/>
                  <a:pt x="19876" y="13303"/>
                </a:cubicBezTo>
              </a:path>
              <a:path w="1589" h="1620">
                <a:moveTo>
                  <a:pt x="20701" y="11970"/>
                </a:moveTo>
                <a:cubicBezTo>
                  <a:pt x="20611" y="11970"/>
                  <a:pt x="20553" y="11977"/>
                  <a:pt x="20479" y="12002"/>
                </a:cubicBezTo>
                <a:cubicBezTo>
                  <a:pt x="20445" y="12013"/>
                  <a:pt x="20371" y="12026"/>
                  <a:pt x="20352" y="12065"/>
                </a:cubicBezTo>
                <a:cubicBezTo>
                  <a:pt x="20330" y="12108"/>
                  <a:pt x="20309" y="12131"/>
                  <a:pt x="20288" y="12160"/>
                </a:cubicBezTo>
                <a:cubicBezTo>
                  <a:pt x="20270" y="12184"/>
                  <a:pt x="20213" y="12291"/>
                  <a:pt x="20225" y="12319"/>
                </a:cubicBezTo>
                <a:cubicBezTo>
                  <a:pt x="20240" y="12353"/>
                  <a:pt x="20269" y="12418"/>
                  <a:pt x="20288" y="12446"/>
                </a:cubicBezTo>
                <a:cubicBezTo>
                  <a:pt x="20302" y="12466"/>
                  <a:pt x="20342" y="12566"/>
                  <a:pt x="20352" y="12573"/>
                </a:cubicBezTo>
                <a:cubicBezTo>
                  <a:pt x="20372" y="12586"/>
                  <a:pt x="20453" y="12624"/>
                  <a:pt x="20479" y="12636"/>
                </a:cubicBezTo>
                <a:cubicBezTo>
                  <a:pt x="20537" y="12661"/>
                  <a:pt x="20551" y="12645"/>
                  <a:pt x="20606" y="12700"/>
                </a:cubicBezTo>
                <a:cubicBezTo>
                  <a:pt x="20638" y="12732"/>
                  <a:pt x="20692" y="12786"/>
                  <a:pt x="20701" y="12827"/>
                </a:cubicBezTo>
                <a:cubicBezTo>
                  <a:pt x="20709" y="12863"/>
                  <a:pt x="20742" y="12990"/>
                  <a:pt x="20733" y="13018"/>
                </a:cubicBezTo>
                <a:cubicBezTo>
                  <a:pt x="20716" y="13067"/>
                  <a:pt x="20684" y="13118"/>
                  <a:pt x="20669" y="13176"/>
                </a:cubicBezTo>
                <a:cubicBezTo>
                  <a:pt x="20656" y="13229"/>
                  <a:pt x="20634" y="13265"/>
                  <a:pt x="20574" y="13272"/>
                </a:cubicBezTo>
                <a:cubicBezTo>
                  <a:pt x="20545" y="13275"/>
                  <a:pt x="20461" y="13236"/>
                  <a:pt x="20447" y="13208"/>
                </a:cubicBezTo>
                <a:cubicBezTo>
                  <a:pt x="20430" y="13174"/>
                  <a:pt x="20396" y="13118"/>
                  <a:pt x="20384" y="13081"/>
                </a:cubicBezTo>
                <a:cubicBezTo>
                  <a:pt x="20354" y="12989"/>
                  <a:pt x="20390" y="12839"/>
                  <a:pt x="20415" y="12764"/>
                </a:cubicBezTo>
                <a:cubicBezTo>
                  <a:pt x="20430" y="12719"/>
                  <a:pt x="20473" y="12651"/>
                  <a:pt x="20479" y="12636"/>
                </a:cubicBezTo>
                <a:cubicBezTo>
                  <a:pt x="20502" y="12583"/>
                  <a:pt x="20556" y="12532"/>
                  <a:pt x="20574" y="12478"/>
                </a:cubicBezTo>
                <a:cubicBezTo>
                  <a:pt x="20592" y="12423"/>
                  <a:pt x="20625" y="12395"/>
                  <a:pt x="20669" y="12351"/>
                </a:cubicBezTo>
                <a:cubicBezTo>
                  <a:pt x="20702" y="12318"/>
                  <a:pt x="20747" y="12236"/>
                  <a:pt x="20764" y="12192"/>
                </a:cubicBezTo>
                <a:cubicBezTo>
                  <a:pt x="20781" y="12149"/>
                  <a:pt x="20771" y="12102"/>
                  <a:pt x="20733" y="12097"/>
                </a:cubicBezTo>
                <a:cubicBezTo>
                  <a:pt x="20722" y="12097"/>
                  <a:pt x="20712" y="12097"/>
                  <a:pt x="20701" y="12097"/>
                </a:cubicBezTo>
              </a:path>
              <a:path w="1589" h="1620">
                <a:moveTo>
                  <a:pt x="20256" y="12256"/>
                </a:moveTo>
                <a:cubicBezTo>
                  <a:pt x="20209" y="12240"/>
                  <a:pt x="20219" y="12227"/>
                  <a:pt x="20193" y="12192"/>
                </a:cubicBezTo>
                <a:cubicBezTo>
                  <a:pt x="20161" y="12149"/>
                  <a:pt x="20117" y="12102"/>
                  <a:pt x="20066" y="12097"/>
                </a:cubicBezTo>
                <a:cubicBezTo>
                  <a:pt x="20019" y="12092"/>
                  <a:pt x="20017" y="12155"/>
                  <a:pt x="20002" y="12192"/>
                </a:cubicBezTo>
                <a:cubicBezTo>
                  <a:pt x="19970" y="12269"/>
                  <a:pt x="19946" y="12336"/>
                  <a:pt x="19939" y="12414"/>
                </a:cubicBezTo>
                <a:cubicBezTo>
                  <a:pt x="19933" y="12485"/>
                  <a:pt x="19965" y="12515"/>
                  <a:pt x="19971" y="12573"/>
                </a:cubicBezTo>
                <a:cubicBezTo>
                  <a:pt x="19978" y="12632"/>
                  <a:pt x="20004" y="12646"/>
                  <a:pt x="20034" y="12668"/>
                </a:cubicBezTo>
                <a:cubicBezTo>
                  <a:pt x="20093" y="12712"/>
                  <a:pt x="20099" y="12711"/>
                  <a:pt x="20130" y="12668"/>
                </a:cubicBezTo>
                <a:cubicBezTo>
                  <a:pt x="20157" y="12631"/>
                  <a:pt x="20184" y="12558"/>
                  <a:pt x="20193" y="12510"/>
                </a:cubicBezTo>
                <a:cubicBezTo>
                  <a:pt x="20207" y="12434"/>
                  <a:pt x="20203" y="12383"/>
                  <a:pt x="20225" y="12319"/>
                </a:cubicBezTo>
                <a:cubicBezTo>
                  <a:pt x="20243" y="12265"/>
                  <a:pt x="20225" y="12238"/>
                  <a:pt x="20225" y="12319"/>
                </a:cubicBezTo>
                <a:cubicBezTo>
                  <a:pt x="20225" y="12401"/>
                  <a:pt x="20245" y="12461"/>
                  <a:pt x="20256" y="12541"/>
                </a:cubicBezTo>
                <a:cubicBezTo>
                  <a:pt x="20277" y="12693"/>
                  <a:pt x="20241" y="12841"/>
                  <a:pt x="20225" y="12986"/>
                </a:cubicBezTo>
                <a:cubicBezTo>
                  <a:pt x="20206" y="13160"/>
                  <a:pt x="20229" y="13326"/>
                  <a:pt x="20193" y="13494"/>
                </a:cubicBezTo>
                <a:cubicBezTo>
                  <a:pt x="20193" y="13526"/>
                  <a:pt x="20193" y="13536"/>
                  <a:pt x="20193" y="13557"/>
                </a:cubicBezTo>
              </a:path>
              <a:path w="1589" h="1620">
                <a:moveTo>
                  <a:pt x="21050" y="11938"/>
                </a:moveTo>
                <a:cubicBezTo>
                  <a:pt x="21038" y="12036"/>
                  <a:pt x="20976" y="12099"/>
                  <a:pt x="20955" y="12192"/>
                </a:cubicBezTo>
                <a:cubicBezTo>
                  <a:pt x="20931" y="12302"/>
                  <a:pt x="20904" y="12429"/>
                  <a:pt x="20892" y="12541"/>
                </a:cubicBezTo>
                <a:cubicBezTo>
                  <a:pt x="20875" y="12694"/>
                  <a:pt x="20906" y="12843"/>
                  <a:pt x="20923" y="12986"/>
                </a:cubicBezTo>
                <a:cubicBezTo>
                  <a:pt x="20933" y="13066"/>
                  <a:pt x="20945" y="13182"/>
                  <a:pt x="21018" y="13240"/>
                </a:cubicBezTo>
                <a:cubicBezTo>
                  <a:pt x="21067" y="13279"/>
                  <a:pt x="21121" y="13321"/>
                  <a:pt x="21177" y="13272"/>
                </a:cubicBezTo>
                <a:cubicBezTo>
                  <a:pt x="21232" y="13223"/>
                  <a:pt x="21270" y="13177"/>
                  <a:pt x="21304" y="13113"/>
                </a:cubicBezTo>
                <a:cubicBezTo>
                  <a:pt x="21359" y="13009"/>
                  <a:pt x="21394" y="12910"/>
                  <a:pt x="21400" y="12795"/>
                </a:cubicBezTo>
                <a:cubicBezTo>
                  <a:pt x="21403" y="12742"/>
                  <a:pt x="21400" y="12689"/>
                  <a:pt x="21400" y="12636"/>
                </a:cubicBezTo>
                <a:cubicBezTo>
                  <a:pt x="21364" y="12636"/>
                  <a:pt x="21291" y="12645"/>
                  <a:pt x="21272" y="12668"/>
                </a:cubicBezTo>
                <a:cubicBezTo>
                  <a:pt x="21213" y="12742"/>
                  <a:pt x="21150" y="12831"/>
                  <a:pt x="21114" y="12922"/>
                </a:cubicBezTo>
                <a:cubicBezTo>
                  <a:pt x="21072" y="13030"/>
                  <a:pt x="21054" y="13157"/>
                  <a:pt x="21050" y="13272"/>
                </a:cubicBezTo>
                <a:cubicBezTo>
                  <a:pt x="21046" y="13371"/>
                  <a:pt x="21052" y="13436"/>
                  <a:pt x="21082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67"/>
          <p:cNvSpPr/>
          <p:nvPr/>
        </p:nvSpPr>
        <p:spPr>
          <a:xfrm>
            <a:off x="1920960" y="5611680"/>
            <a:ext cx="776160" cy="789120"/>
          </a:xfrm>
          <a:custGeom>
            <a:avLst/>
            <a:gdLst/>
            <a:ahLst/>
            <a:rect l="l" t="t" r="r" b="b"/>
            <a:pathLst>
              <a:path w="2160" h="2192">
                <a:moveTo>
                  <a:pt x="5874" y="15684"/>
                </a:moveTo>
                <a:cubicBezTo>
                  <a:pt x="5874" y="15740"/>
                  <a:pt x="5866" y="15748"/>
                  <a:pt x="5842" y="15780"/>
                </a:cubicBezTo>
                <a:cubicBezTo>
                  <a:pt x="5794" y="15844"/>
                  <a:pt x="5789" y="15906"/>
                  <a:pt x="5747" y="15970"/>
                </a:cubicBezTo>
                <a:cubicBezTo>
                  <a:pt x="5710" y="16026"/>
                  <a:pt x="5656" y="16073"/>
                  <a:pt x="5620" y="16129"/>
                </a:cubicBezTo>
                <a:cubicBezTo>
                  <a:pt x="5580" y="16191"/>
                  <a:pt x="5546" y="16235"/>
                  <a:pt x="5493" y="16288"/>
                </a:cubicBezTo>
                <a:cubicBezTo>
                  <a:pt x="5451" y="16331"/>
                  <a:pt x="5408" y="16372"/>
                  <a:pt x="5366" y="16415"/>
                </a:cubicBezTo>
                <a:cubicBezTo>
                  <a:pt x="5434" y="16415"/>
                  <a:pt x="5471" y="16394"/>
                  <a:pt x="5524" y="16383"/>
                </a:cubicBezTo>
                <a:cubicBezTo>
                  <a:pt x="5630" y="16360"/>
                  <a:pt x="5737" y="16377"/>
                  <a:pt x="5842" y="16351"/>
                </a:cubicBezTo>
                <a:cubicBezTo>
                  <a:pt x="5920" y="16332"/>
                  <a:pt x="5955" y="16314"/>
                  <a:pt x="6032" y="16288"/>
                </a:cubicBezTo>
                <a:cubicBezTo>
                  <a:pt x="6086" y="16270"/>
                  <a:pt x="6144" y="16288"/>
                  <a:pt x="6191" y="16256"/>
                </a:cubicBezTo>
                <a:cubicBezTo>
                  <a:pt x="6242" y="16222"/>
                  <a:pt x="6255" y="16224"/>
                  <a:pt x="6318" y="16224"/>
                </a:cubicBezTo>
                <a:cubicBezTo>
                  <a:pt x="6329" y="16224"/>
                  <a:pt x="6339" y="16224"/>
                  <a:pt x="6350" y="16224"/>
                </a:cubicBezTo>
                <a:cubicBezTo>
                  <a:pt x="6294" y="16210"/>
                  <a:pt x="6266" y="16172"/>
                  <a:pt x="6223" y="16129"/>
                </a:cubicBezTo>
                <a:cubicBezTo>
                  <a:pt x="6165" y="16071"/>
                  <a:pt x="6174" y="16028"/>
                  <a:pt x="6128" y="15970"/>
                </a:cubicBezTo>
                <a:cubicBezTo>
                  <a:pt x="6080" y="15910"/>
                  <a:pt x="6047" y="15841"/>
                  <a:pt x="6001" y="15780"/>
                </a:cubicBezTo>
                <a:cubicBezTo>
                  <a:pt x="5961" y="15726"/>
                  <a:pt x="5918" y="15670"/>
                  <a:pt x="5874" y="15621"/>
                </a:cubicBezTo>
                <a:cubicBezTo>
                  <a:pt x="5845" y="15592"/>
                  <a:pt x="5834" y="15577"/>
                  <a:pt x="5842" y="15621"/>
                </a:cubicBezTo>
              </a:path>
              <a:path w="2160" h="2192">
                <a:moveTo>
                  <a:pt x="6540" y="15653"/>
                </a:moveTo>
                <a:cubicBezTo>
                  <a:pt x="6556" y="15731"/>
                  <a:pt x="6599" y="15802"/>
                  <a:pt x="6636" y="15875"/>
                </a:cubicBezTo>
                <a:cubicBezTo>
                  <a:pt x="6683" y="15969"/>
                  <a:pt x="6744" y="16039"/>
                  <a:pt x="6794" y="16129"/>
                </a:cubicBezTo>
                <a:cubicBezTo>
                  <a:pt x="6820" y="16176"/>
                  <a:pt x="6867" y="16263"/>
                  <a:pt x="6922" y="16288"/>
                </a:cubicBezTo>
                <a:cubicBezTo>
                  <a:pt x="6975" y="16312"/>
                  <a:pt x="7003" y="16217"/>
                  <a:pt x="7017" y="16192"/>
                </a:cubicBezTo>
              </a:path>
              <a:path w="2160" h="2192">
                <a:moveTo>
                  <a:pt x="7112" y="15716"/>
                </a:moveTo>
                <a:cubicBezTo>
                  <a:pt x="7099" y="15806"/>
                  <a:pt x="7051" y="15878"/>
                  <a:pt x="7017" y="15970"/>
                </a:cubicBezTo>
                <a:cubicBezTo>
                  <a:pt x="6969" y="16100"/>
                  <a:pt x="6925" y="16231"/>
                  <a:pt x="6858" y="16351"/>
                </a:cubicBezTo>
                <a:cubicBezTo>
                  <a:pt x="6773" y="16503"/>
                  <a:pt x="6699" y="16632"/>
                  <a:pt x="6636" y="16796"/>
                </a:cubicBezTo>
                <a:cubicBezTo>
                  <a:pt x="6625" y="16828"/>
                  <a:pt x="6615" y="16859"/>
                  <a:pt x="6604" y="16891"/>
                </a:cubicBezTo>
              </a:path>
              <a:path w="2160" h="2192">
                <a:moveTo>
                  <a:pt x="5334" y="16764"/>
                </a:moveTo>
                <a:cubicBezTo>
                  <a:pt x="5496" y="16764"/>
                  <a:pt x="5789" y="16683"/>
                  <a:pt x="5906" y="16700"/>
                </a:cubicBezTo>
                <a:cubicBezTo>
                  <a:pt x="6043" y="16720"/>
                  <a:pt x="6157" y="16764"/>
                  <a:pt x="6318" y="16764"/>
                </a:cubicBezTo>
                <a:cubicBezTo>
                  <a:pt x="6660" y="16764"/>
                  <a:pt x="7046" y="16732"/>
                  <a:pt x="7366" y="16796"/>
                </a:cubicBezTo>
                <a:cubicBezTo>
                  <a:pt x="7450" y="16813"/>
                  <a:pt x="7460" y="16780"/>
                  <a:pt x="7493" y="16764"/>
                </a:cubicBezTo>
              </a:path>
              <a:path w="2160" h="2192">
                <a:moveTo>
                  <a:pt x="5906" y="16954"/>
                </a:moveTo>
                <a:cubicBezTo>
                  <a:pt x="5906" y="17017"/>
                  <a:pt x="5912" y="17056"/>
                  <a:pt x="5874" y="17113"/>
                </a:cubicBezTo>
                <a:cubicBezTo>
                  <a:pt x="5819" y="17195"/>
                  <a:pt x="5762" y="17279"/>
                  <a:pt x="5715" y="17367"/>
                </a:cubicBezTo>
                <a:cubicBezTo>
                  <a:pt x="5661" y="17469"/>
                  <a:pt x="5597" y="17571"/>
                  <a:pt x="5588" y="17685"/>
                </a:cubicBezTo>
                <a:cubicBezTo>
                  <a:pt x="5585" y="17725"/>
                  <a:pt x="5566" y="17741"/>
                  <a:pt x="5556" y="17780"/>
                </a:cubicBezTo>
                <a:cubicBezTo>
                  <a:pt x="5628" y="17708"/>
                  <a:pt x="5669" y="17693"/>
                  <a:pt x="5747" y="17653"/>
                </a:cubicBezTo>
                <a:cubicBezTo>
                  <a:pt x="5806" y="17623"/>
                  <a:pt x="5843" y="17577"/>
                  <a:pt x="5906" y="17558"/>
                </a:cubicBezTo>
                <a:cubicBezTo>
                  <a:pt x="5964" y="17540"/>
                  <a:pt x="6045" y="17504"/>
                  <a:pt x="6096" y="17494"/>
                </a:cubicBezTo>
                <a:cubicBezTo>
                  <a:pt x="6179" y="17477"/>
                  <a:pt x="6280" y="17602"/>
                  <a:pt x="6318" y="17526"/>
                </a:cubicBezTo>
                <a:cubicBezTo>
                  <a:pt x="6321" y="17520"/>
                  <a:pt x="6260" y="17434"/>
                  <a:pt x="6255" y="17431"/>
                </a:cubicBezTo>
                <a:cubicBezTo>
                  <a:pt x="6210" y="17402"/>
                  <a:pt x="6190" y="17357"/>
                  <a:pt x="6160" y="17304"/>
                </a:cubicBezTo>
                <a:cubicBezTo>
                  <a:pt x="6122" y="17236"/>
                  <a:pt x="6108" y="17167"/>
                  <a:pt x="6064" y="17113"/>
                </a:cubicBezTo>
                <a:cubicBezTo>
                  <a:pt x="6024" y="17064"/>
                  <a:pt x="6033" y="17034"/>
                  <a:pt x="5969" y="17018"/>
                </a:cubicBezTo>
              </a:path>
              <a:path w="2160" h="2192">
                <a:moveTo>
                  <a:pt x="6604" y="17018"/>
                </a:moveTo>
                <a:cubicBezTo>
                  <a:pt x="6636" y="17018"/>
                  <a:pt x="6647" y="17018"/>
                  <a:pt x="6636" y="16986"/>
                </a:cubicBezTo>
                <a:cubicBezTo>
                  <a:pt x="6682" y="17047"/>
                  <a:pt x="6675" y="17106"/>
                  <a:pt x="6699" y="17177"/>
                </a:cubicBezTo>
                <a:cubicBezTo>
                  <a:pt x="6735" y="17285"/>
                  <a:pt x="6759" y="17389"/>
                  <a:pt x="6794" y="17494"/>
                </a:cubicBezTo>
                <a:cubicBezTo>
                  <a:pt x="6807" y="17533"/>
                  <a:pt x="6856" y="17694"/>
                  <a:pt x="6890" y="17716"/>
                </a:cubicBezTo>
                <a:cubicBezTo>
                  <a:pt x="6901" y="17716"/>
                  <a:pt x="6911" y="17716"/>
                  <a:pt x="6922" y="17716"/>
                </a:cubicBezTo>
                <a:cubicBezTo>
                  <a:pt x="6962" y="17703"/>
                  <a:pt x="6972" y="17672"/>
                  <a:pt x="6985" y="17621"/>
                </a:cubicBezTo>
              </a:path>
              <a:path w="2160" h="2192">
                <a:moveTo>
                  <a:pt x="6858" y="17240"/>
                </a:moveTo>
                <a:cubicBezTo>
                  <a:pt x="6838" y="17318"/>
                  <a:pt x="6771" y="17331"/>
                  <a:pt x="6699" y="17367"/>
                </a:cubicBezTo>
                <a:cubicBezTo>
                  <a:pt x="6595" y="17419"/>
                  <a:pt x="6507" y="17493"/>
                  <a:pt x="6414" y="17558"/>
                </a:cubicBezTo>
                <a:cubicBezTo>
                  <a:pt x="6382" y="17579"/>
                  <a:pt x="6350" y="17600"/>
                  <a:pt x="6318" y="17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68"/>
          <p:cNvSpPr/>
          <p:nvPr/>
        </p:nvSpPr>
        <p:spPr>
          <a:xfrm>
            <a:off x="4035600" y="5600880"/>
            <a:ext cx="822240" cy="663480"/>
          </a:xfrm>
          <a:custGeom>
            <a:avLst/>
            <a:gdLst/>
            <a:ahLst/>
            <a:rect l="l" t="t" r="r" b="b"/>
            <a:pathLst>
              <a:path w="2287" h="1842">
                <a:moveTo>
                  <a:pt x="11208" y="16605"/>
                </a:moveTo>
                <a:cubicBezTo>
                  <a:pt x="11208" y="16527"/>
                  <a:pt x="11253" y="16522"/>
                  <a:pt x="11271" y="16446"/>
                </a:cubicBezTo>
                <a:cubicBezTo>
                  <a:pt x="11291" y="16359"/>
                  <a:pt x="11346" y="16277"/>
                  <a:pt x="11398" y="16192"/>
                </a:cubicBezTo>
                <a:cubicBezTo>
                  <a:pt x="11447" y="16111"/>
                  <a:pt x="11498" y="16007"/>
                  <a:pt x="11589" y="15970"/>
                </a:cubicBezTo>
                <a:cubicBezTo>
                  <a:pt x="11620" y="15970"/>
                  <a:pt x="11631" y="15970"/>
                  <a:pt x="11652" y="15970"/>
                </a:cubicBezTo>
                <a:cubicBezTo>
                  <a:pt x="11652" y="16067"/>
                  <a:pt x="11635" y="16168"/>
                  <a:pt x="11589" y="16256"/>
                </a:cubicBezTo>
                <a:cubicBezTo>
                  <a:pt x="11535" y="16359"/>
                  <a:pt x="11507" y="16477"/>
                  <a:pt x="11462" y="16574"/>
                </a:cubicBezTo>
                <a:cubicBezTo>
                  <a:pt x="11433" y="16602"/>
                  <a:pt x="11423" y="16617"/>
                  <a:pt x="11430" y="16574"/>
                </a:cubicBezTo>
                <a:cubicBezTo>
                  <a:pt x="11488" y="16501"/>
                  <a:pt x="11516" y="16470"/>
                  <a:pt x="11589" y="16415"/>
                </a:cubicBezTo>
                <a:cubicBezTo>
                  <a:pt x="11641" y="16376"/>
                  <a:pt x="11687" y="16379"/>
                  <a:pt x="11748" y="16415"/>
                </a:cubicBezTo>
                <a:cubicBezTo>
                  <a:pt x="11830" y="16464"/>
                  <a:pt x="11852" y="16618"/>
                  <a:pt x="11843" y="16700"/>
                </a:cubicBezTo>
                <a:cubicBezTo>
                  <a:pt x="11825" y="16861"/>
                  <a:pt x="11810" y="17025"/>
                  <a:pt x="11748" y="17177"/>
                </a:cubicBezTo>
                <a:cubicBezTo>
                  <a:pt x="11725" y="17232"/>
                  <a:pt x="11668" y="17333"/>
                  <a:pt x="11620" y="17367"/>
                </a:cubicBezTo>
                <a:cubicBezTo>
                  <a:pt x="11532" y="17430"/>
                  <a:pt x="11533" y="17386"/>
                  <a:pt x="11494" y="17367"/>
                </a:cubicBezTo>
                <a:cubicBezTo>
                  <a:pt x="11441" y="17340"/>
                  <a:pt x="11462" y="17283"/>
                  <a:pt x="11462" y="17208"/>
                </a:cubicBezTo>
              </a:path>
              <a:path w="2287" h="1842">
                <a:moveTo>
                  <a:pt x="11938" y="17018"/>
                </a:moveTo>
                <a:cubicBezTo>
                  <a:pt x="11949" y="16997"/>
                  <a:pt x="11959" y="16975"/>
                  <a:pt x="11970" y="16954"/>
                </a:cubicBezTo>
              </a:path>
              <a:path w="2287" h="1842">
                <a:moveTo>
                  <a:pt x="12160" y="16034"/>
                </a:moveTo>
                <a:cubicBezTo>
                  <a:pt x="12190" y="15964"/>
                  <a:pt x="12209" y="15905"/>
                  <a:pt x="12256" y="15843"/>
                </a:cubicBezTo>
                <a:cubicBezTo>
                  <a:pt x="12315" y="15764"/>
                  <a:pt x="12381" y="15702"/>
                  <a:pt x="12446" y="15716"/>
                </a:cubicBezTo>
                <a:cubicBezTo>
                  <a:pt x="12560" y="15741"/>
                  <a:pt x="12491" y="15820"/>
                  <a:pt x="12478" y="15907"/>
                </a:cubicBezTo>
                <a:cubicBezTo>
                  <a:pt x="12461" y="16023"/>
                  <a:pt x="12455" y="16145"/>
                  <a:pt x="12414" y="16256"/>
                </a:cubicBezTo>
                <a:cubicBezTo>
                  <a:pt x="12392" y="16316"/>
                  <a:pt x="12358" y="16366"/>
                  <a:pt x="12319" y="16415"/>
                </a:cubicBezTo>
                <a:cubicBezTo>
                  <a:pt x="12333" y="16344"/>
                  <a:pt x="12371" y="16254"/>
                  <a:pt x="12414" y="16192"/>
                </a:cubicBezTo>
                <a:cubicBezTo>
                  <a:pt x="12440" y="16155"/>
                  <a:pt x="12543" y="16091"/>
                  <a:pt x="12573" y="16097"/>
                </a:cubicBezTo>
                <a:cubicBezTo>
                  <a:pt x="12625" y="16107"/>
                  <a:pt x="12673" y="16180"/>
                  <a:pt x="12700" y="16224"/>
                </a:cubicBezTo>
                <a:cubicBezTo>
                  <a:pt x="12760" y="16323"/>
                  <a:pt x="12732" y="16462"/>
                  <a:pt x="12732" y="16574"/>
                </a:cubicBezTo>
                <a:cubicBezTo>
                  <a:pt x="12732" y="16692"/>
                  <a:pt x="12715" y="16817"/>
                  <a:pt x="12668" y="16923"/>
                </a:cubicBezTo>
                <a:cubicBezTo>
                  <a:pt x="12661" y="16938"/>
                  <a:pt x="12588" y="17077"/>
                  <a:pt x="12541" y="17018"/>
                </a:cubicBezTo>
                <a:cubicBezTo>
                  <a:pt x="12541" y="16982"/>
                  <a:pt x="12538" y="16968"/>
                  <a:pt x="12510" y="16954"/>
                </a:cubicBezTo>
              </a:path>
              <a:path w="2287" h="1842">
                <a:moveTo>
                  <a:pt x="12732" y="15875"/>
                </a:moveTo>
                <a:cubicBezTo>
                  <a:pt x="12742" y="15865"/>
                  <a:pt x="12790" y="15820"/>
                  <a:pt x="12795" y="15812"/>
                </a:cubicBezTo>
                <a:cubicBezTo>
                  <a:pt x="12841" y="15741"/>
                  <a:pt x="12873" y="15658"/>
                  <a:pt x="12922" y="15589"/>
                </a:cubicBezTo>
                <a:cubicBezTo>
                  <a:pt x="12947" y="15553"/>
                  <a:pt x="13008" y="15546"/>
                  <a:pt x="13049" y="15558"/>
                </a:cubicBezTo>
                <a:cubicBezTo>
                  <a:pt x="13110" y="15576"/>
                  <a:pt x="13090" y="15736"/>
                  <a:pt x="13081" y="15780"/>
                </a:cubicBezTo>
                <a:cubicBezTo>
                  <a:pt x="13060" y="15882"/>
                  <a:pt x="13027" y="16004"/>
                  <a:pt x="12986" y="16097"/>
                </a:cubicBezTo>
                <a:cubicBezTo>
                  <a:pt x="12972" y="16128"/>
                  <a:pt x="12898" y="16257"/>
                  <a:pt x="12954" y="16161"/>
                </a:cubicBezTo>
                <a:cubicBezTo>
                  <a:pt x="12979" y="16119"/>
                  <a:pt x="12982" y="16075"/>
                  <a:pt x="13018" y="16034"/>
                </a:cubicBezTo>
                <a:cubicBezTo>
                  <a:pt x="13047" y="16001"/>
                  <a:pt x="13098" y="15988"/>
                  <a:pt x="13144" y="16002"/>
                </a:cubicBezTo>
                <a:cubicBezTo>
                  <a:pt x="13185" y="16015"/>
                  <a:pt x="13265" y="16124"/>
                  <a:pt x="13272" y="16161"/>
                </a:cubicBezTo>
                <a:cubicBezTo>
                  <a:pt x="13300" y="16312"/>
                  <a:pt x="13272" y="16492"/>
                  <a:pt x="13240" y="16637"/>
                </a:cubicBezTo>
                <a:cubicBezTo>
                  <a:pt x="13213" y="16762"/>
                  <a:pt x="13182" y="16898"/>
                  <a:pt x="13081" y="16986"/>
                </a:cubicBezTo>
                <a:cubicBezTo>
                  <a:pt x="13046" y="17016"/>
                  <a:pt x="12969" y="17031"/>
                  <a:pt x="12922" y="17018"/>
                </a:cubicBezTo>
                <a:cubicBezTo>
                  <a:pt x="12911" y="17007"/>
                  <a:pt x="12901" y="16997"/>
                  <a:pt x="12890" y="16986"/>
                </a:cubicBezTo>
                <a:cubicBezTo>
                  <a:pt x="12931" y="16945"/>
                  <a:pt x="12982" y="16919"/>
                  <a:pt x="13018" y="16891"/>
                </a:cubicBezTo>
                <a:cubicBezTo>
                  <a:pt x="13069" y="16853"/>
                  <a:pt x="13171" y="16840"/>
                  <a:pt x="13240" y="16859"/>
                </a:cubicBezTo>
                <a:cubicBezTo>
                  <a:pt x="13331" y="16885"/>
                  <a:pt x="13396" y="16891"/>
                  <a:pt x="13494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linear model that represents Don’s grow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the slope re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00200" y="0"/>
          <a:ext cx="5867280" cy="3108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s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(inch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Ink 49"/>
          <p:cNvSpPr/>
          <p:nvPr/>
        </p:nvSpPr>
        <p:spPr>
          <a:xfrm>
            <a:off x="4160880" y="4479840"/>
            <a:ext cx="2103480" cy="927360"/>
          </a:xfrm>
          <a:custGeom>
            <a:avLst/>
            <a:gdLst/>
            <a:ahLst/>
            <a:rect l="l" t="t" r="r" b="b"/>
            <a:pathLst>
              <a:path w="5843" h="2573">
                <a:moveTo>
                  <a:pt x="11652" y="12700"/>
                </a:moveTo>
                <a:cubicBezTo>
                  <a:pt x="11620" y="12700"/>
                  <a:pt x="11609" y="12700"/>
                  <a:pt x="11620" y="12668"/>
                </a:cubicBezTo>
                <a:cubicBezTo>
                  <a:pt x="11603" y="12698"/>
                  <a:pt x="11593" y="12699"/>
                  <a:pt x="11589" y="12764"/>
                </a:cubicBezTo>
                <a:cubicBezTo>
                  <a:pt x="11577" y="12967"/>
                  <a:pt x="11577" y="13173"/>
                  <a:pt x="11557" y="13367"/>
                </a:cubicBezTo>
                <a:cubicBezTo>
                  <a:pt x="11544" y="13497"/>
                  <a:pt x="11569" y="13599"/>
                  <a:pt x="11589" y="13716"/>
                </a:cubicBezTo>
                <a:cubicBezTo>
                  <a:pt x="11589" y="13773"/>
                  <a:pt x="11584" y="13790"/>
                  <a:pt x="11620" y="13811"/>
                </a:cubicBezTo>
                <a:cubicBezTo>
                  <a:pt x="11678" y="13798"/>
                  <a:pt x="11731" y="13800"/>
                  <a:pt x="11779" y="13748"/>
                </a:cubicBezTo>
                <a:cubicBezTo>
                  <a:pt x="11845" y="13676"/>
                  <a:pt x="11906" y="13451"/>
                  <a:pt x="11938" y="13367"/>
                </a:cubicBezTo>
                <a:cubicBezTo>
                  <a:pt x="11990" y="13229"/>
                  <a:pt x="12067" y="13064"/>
                  <a:pt x="12097" y="12922"/>
                </a:cubicBezTo>
                <a:cubicBezTo>
                  <a:pt x="12108" y="12869"/>
                  <a:pt x="12114" y="12817"/>
                  <a:pt x="12128" y="12764"/>
                </a:cubicBezTo>
                <a:cubicBezTo>
                  <a:pt x="12128" y="12886"/>
                  <a:pt x="12149" y="12996"/>
                  <a:pt x="12160" y="13113"/>
                </a:cubicBezTo>
                <a:cubicBezTo>
                  <a:pt x="12176" y="13282"/>
                  <a:pt x="12168" y="13453"/>
                  <a:pt x="12192" y="13621"/>
                </a:cubicBezTo>
                <a:cubicBezTo>
                  <a:pt x="12220" y="13815"/>
                  <a:pt x="12224" y="13996"/>
                  <a:pt x="12224" y="14192"/>
                </a:cubicBezTo>
                <a:cubicBezTo>
                  <a:pt x="12224" y="14366"/>
                  <a:pt x="12237" y="14532"/>
                  <a:pt x="12192" y="14700"/>
                </a:cubicBezTo>
                <a:cubicBezTo>
                  <a:pt x="12173" y="14771"/>
                  <a:pt x="12122" y="14933"/>
                  <a:pt x="12065" y="14986"/>
                </a:cubicBezTo>
                <a:cubicBezTo>
                  <a:pt x="12011" y="15037"/>
                  <a:pt x="11929" y="15026"/>
                  <a:pt x="11874" y="14986"/>
                </a:cubicBezTo>
                <a:cubicBezTo>
                  <a:pt x="11799" y="14931"/>
                  <a:pt x="11777" y="14848"/>
                  <a:pt x="11748" y="14764"/>
                </a:cubicBezTo>
                <a:cubicBezTo>
                  <a:pt x="11705" y="14638"/>
                  <a:pt x="11716" y="14516"/>
                  <a:pt x="11716" y="14383"/>
                </a:cubicBezTo>
                <a:cubicBezTo>
                  <a:pt x="11716" y="14281"/>
                  <a:pt x="11744" y="14225"/>
                  <a:pt x="11779" y="14129"/>
                </a:cubicBezTo>
              </a:path>
              <a:path w="5843" h="2573">
                <a:moveTo>
                  <a:pt x="12510" y="13176"/>
                </a:moveTo>
                <a:cubicBezTo>
                  <a:pt x="12558" y="13128"/>
                  <a:pt x="12569" y="13113"/>
                  <a:pt x="12636" y="13113"/>
                </a:cubicBezTo>
                <a:cubicBezTo>
                  <a:pt x="12713" y="13113"/>
                  <a:pt x="12763" y="13100"/>
                  <a:pt x="12827" y="13081"/>
                </a:cubicBezTo>
                <a:cubicBezTo>
                  <a:pt x="12852" y="13073"/>
                  <a:pt x="12896" y="13081"/>
                  <a:pt x="12922" y="13081"/>
                </a:cubicBezTo>
              </a:path>
              <a:path w="5843" h="2573">
                <a:moveTo>
                  <a:pt x="12636" y="13652"/>
                </a:moveTo>
                <a:cubicBezTo>
                  <a:pt x="12695" y="13652"/>
                  <a:pt x="12718" y="13631"/>
                  <a:pt x="12764" y="13621"/>
                </a:cubicBezTo>
                <a:cubicBezTo>
                  <a:pt x="12847" y="13603"/>
                  <a:pt x="12878" y="13571"/>
                  <a:pt x="12954" y="13526"/>
                </a:cubicBezTo>
                <a:cubicBezTo>
                  <a:pt x="13006" y="13500"/>
                  <a:pt x="13014" y="13489"/>
                  <a:pt x="13049" y="13494"/>
                </a:cubicBezTo>
              </a:path>
              <a:path w="5843" h="2573">
                <a:moveTo>
                  <a:pt x="13367" y="12636"/>
                </a:moveTo>
                <a:cubicBezTo>
                  <a:pt x="13388" y="12742"/>
                  <a:pt x="13370" y="12809"/>
                  <a:pt x="13367" y="12922"/>
                </a:cubicBezTo>
                <a:cubicBezTo>
                  <a:pt x="13355" y="13324"/>
                  <a:pt x="13367" y="13727"/>
                  <a:pt x="13367" y="14129"/>
                </a:cubicBezTo>
              </a:path>
              <a:path w="5843" h="2573">
                <a:moveTo>
                  <a:pt x="13621" y="13748"/>
                </a:moveTo>
                <a:cubicBezTo>
                  <a:pt x="13621" y="13780"/>
                  <a:pt x="13621" y="13790"/>
                  <a:pt x="13652" y="13780"/>
                </a:cubicBezTo>
              </a:path>
              <a:path w="5843" h="2573">
                <a:moveTo>
                  <a:pt x="13875" y="12795"/>
                </a:moveTo>
                <a:cubicBezTo>
                  <a:pt x="13896" y="12779"/>
                  <a:pt x="13927" y="12756"/>
                  <a:pt x="13970" y="12732"/>
                </a:cubicBezTo>
                <a:cubicBezTo>
                  <a:pt x="14045" y="12689"/>
                  <a:pt x="14113" y="12644"/>
                  <a:pt x="14192" y="12605"/>
                </a:cubicBezTo>
                <a:cubicBezTo>
                  <a:pt x="14237" y="12582"/>
                  <a:pt x="14330" y="12546"/>
                  <a:pt x="14383" y="12573"/>
                </a:cubicBezTo>
                <a:cubicBezTo>
                  <a:pt x="14404" y="12584"/>
                  <a:pt x="14460" y="12619"/>
                  <a:pt x="14446" y="12668"/>
                </a:cubicBezTo>
                <a:cubicBezTo>
                  <a:pt x="14413" y="12783"/>
                  <a:pt x="14391" y="12899"/>
                  <a:pt x="14351" y="13018"/>
                </a:cubicBezTo>
                <a:cubicBezTo>
                  <a:pt x="14302" y="13163"/>
                  <a:pt x="14243" y="13309"/>
                  <a:pt x="14224" y="13462"/>
                </a:cubicBezTo>
                <a:cubicBezTo>
                  <a:pt x="14207" y="13598"/>
                  <a:pt x="14189" y="13742"/>
                  <a:pt x="14160" y="13875"/>
                </a:cubicBezTo>
                <a:cubicBezTo>
                  <a:pt x="14140" y="13969"/>
                  <a:pt x="14129" y="14033"/>
                  <a:pt x="14129" y="14129"/>
                </a:cubicBezTo>
              </a:path>
              <a:path w="5843" h="2573">
                <a:moveTo>
                  <a:pt x="14510" y="13113"/>
                </a:moveTo>
                <a:cubicBezTo>
                  <a:pt x="14524" y="13153"/>
                  <a:pt x="14573" y="13179"/>
                  <a:pt x="14605" y="13240"/>
                </a:cubicBezTo>
                <a:cubicBezTo>
                  <a:pt x="14659" y="13342"/>
                  <a:pt x="14666" y="13455"/>
                  <a:pt x="14700" y="13557"/>
                </a:cubicBezTo>
                <a:cubicBezTo>
                  <a:pt x="14731" y="13650"/>
                  <a:pt x="14794" y="13771"/>
                  <a:pt x="14859" y="13843"/>
                </a:cubicBezTo>
                <a:cubicBezTo>
                  <a:pt x="14891" y="13875"/>
                  <a:pt x="14901" y="13885"/>
                  <a:pt x="14922" y="13906"/>
                </a:cubicBezTo>
              </a:path>
              <a:path w="5843" h="2573">
                <a:moveTo>
                  <a:pt x="14859" y="13018"/>
                </a:moveTo>
                <a:cubicBezTo>
                  <a:pt x="14837" y="13128"/>
                  <a:pt x="14777" y="13230"/>
                  <a:pt x="14732" y="13335"/>
                </a:cubicBezTo>
                <a:cubicBezTo>
                  <a:pt x="14652" y="13523"/>
                  <a:pt x="14587" y="13717"/>
                  <a:pt x="14510" y="13906"/>
                </a:cubicBezTo>
                <a:cubicBezTo>
                  <a:pt x="14469" y="14007"/>
                  <a:pt x="14418" y="14127"/>
                  <a:pt x="14383" y="14224"/>
                </a:cubicBezTo>
                <a:cubicBezTo>
                  <a:pt x="14383" y="14256"/>
                  <a:pt x="14383" y="14267"/>
                  <a:pt x="14383" y="14288"/>
                </a:cubicBezTo>
              </a:path>
              <a:path w="5843" h="2573">
                <a:moveTo>
                  <a:pt x="15240" y="12859"/>
                </a:moveTo>
                <a:cubicBezTo>
                  <a:pt x="15279" y="12885"/>
                  <a:pt x="15286" y="12978"/>
                  <a:pt x="15272" y="13049"/>
                </a:cubicBezTo>
                <a:cubicBezTo>
                  <a:pt x="15244" y="13190"/>
                  <a:pt x="15213" y="13316"/>
                  <a:pt x="15208" y="13462"/>
                </a:cubicBezTo>
                <a:cubicBezTo>
                  <a:pt x="15204" y="13573"/>
                  <a:pt x="15176" y="13667"/>
                  <a:pt x="15176" y="13780"/>
                </a:cubicBezTo>
                <a:cubicBezTo>
                  <a:pt x="15176" y="13801"/>
                  <a:pt x="15176" y="13822"/>
                  <a:pt x="15176" y="13843"/>
                </a:cubicBezTo>
              </a:path>
              <a:path w="5843" h="2573">
                <a:moveTo>
                  <a:pt x="15081" y="13430"/>
                </a:moveTo>
                <a:cubicBezTo>
                  <a:pt x="15164" y="13430"/>
                  <a:pt x="15153" y="13393"/>
                  <a:pt x="15208" y="13335"/>
                </a:cubicBezTo>
                <a:cubicBezTo>
                  <a:pt x="15280" y="13259"/>
                  <a:pt x="15356" y="13187"/>
                  <a:pt x="15430" y="13113"/>
                </a:cubicBezTo>
              </a:path>
              <a:path w="5843" h="2573">
                <a:moveTo>
                  <a:pt x="15653" y="12732"/>
                </a:moveTo>
                <a:cubicBezTo>
                  <a:pt x="15653" y="12684"/>
                  <a:pt x="15665" y="12611"/>
                  <a:pt x="15684" y="12573"/>
                </a:cubicBezTo>
                <a:cubicBezTo>
                  <a:pt x="15711" y="12520"/>
                  <a:pt x="15776" y="12502"/>
                  <a:pt x="15812" y="12478"/>
                </a:cubicBezTo>
                <a:cubicBezTo>
                  <a:pt x="15855" y="12449"/>
                  <a:pt x="15915" y="12430"/>
                  <a:pt x="15938" y="12510"/>
                </a:cubicBezTo>
                <a:cubicBezTo>
                  <a:pt x="15956" y="12574"/>
                  <a:pt x="15898" y="12735"/>
                  <a:pt x="15875" y="12795"/>
                </a:cubicBezTo>
                <a:cubicBezTo>
                  <a:pt x="15842" y="12880"/>
                  <a:pt x="15777" y="12970"/>
                  <a:pt x="15748" y="13049"/>
                </a:cubicBezTo>
                <a:cubicBezTo>
                  <a:pt x="15748" y="13060"/>
                  <a:pt x="15748" y="13070"/>
                  <a:pt x="15748" y="13081"/>
                </a:cubicBezTo>
                <a:cubicBezTo>
                  <a:pt x="15789" y="13050"/>
                  <a:pt x="15837" y="13043"/>
                  <a:pt x="15875" y="13018"/>
                </a:cubicBezTo>
                <a:cubicBezTo>
                  <a:pt x="15911" y="12994"/>
                  <a:pt x="15971" y="12972"/>
                  <a:pt x="16002" y="13018"/>
                </a:cubicBezTo>
                <a:cubicBezTo>
                  <a:pt x="16028" y="13057"/>
                  <a:pt x="16058" y="13158"/>
                  <a:pt x="16066" y="13208"/>
                </a:cubicBezTo>
                <a:cubicBezTo>
                  <a:pt x="16081" y="13300"/>
                  <a:pt x="16057" y="13442"/>
                  <a:pt x="16034" y="13526"/>
                </a:cubicBezTo>
                <a:cubicBezTo>
                  <a:pt x="16011" y="13608"/>
                  <a:pt x="15997" y="13656"/>
                  <a:pt x="15938" y="13716"/>
                </a:cubicBezTo>
                <a:cubicBezTo>
                  <a:pt x="15898" y="13757"/>
                  <a:pt x="15868" y="13805"/>
                  <a:pt x="15812" y="13811"/>
                </a:cubicBezTo>
                <a:cubicBezTo>
                  <a:pt x="15749" y="13818"/>
                  <a:pt x="15741" y="13813"/>
                  <a:pt x="15716" y="13780"/>
                </a:cubicBezTo>
                <a:cubicBezTo>
                  <a:pt x="15705" y="13769"/>
                  <a:pt x="15695" y="13759"/>
                  <a:pt x="15684" y="13748"/>
                </a:cubicBezTo>
              </a:path>
              <a:path w="5843" h="2573">
                <a:moveTo>
                  <a:pt x="16510" y="12510"/>
                </a:moveTo>
                <a:cubicBezTo>
                  <a:pt x="16510" y="12430"/>
                  <a:pt x="16480" y="12585"/>
                  <a:pt x="16478" y="12605"/>
                </a:cubicBezTo>
                <a:cubicBezTo>
                  <a:pt x="16473" y="12668"/>
                  <a:pt x="16435" y="12767"/>
                  <a:pt x="16415" y="12827"/>
                </a:cubicBezTo>
                <a:cubicBezTo>
                  <a:pt x="16383" y="12922"/>
                  <a:pt x="16335" y="13041"/>
                  <a:pt x="16320" y="13144"/>
                </a:cubicBezTo>
                <a:cubicBezTo>
                  <a:pt x="16303" y="13254"/>
                  <a:pt x="16292" y="13384"/>
                  <a:pt x="16288" y="13494"/>
                </a:cubicBezTo>
                <a:cubicBezTo>
                  <a:pt x="16283" y="13614"/>
                  <a:pt x="16293" y="13702"/>
                  <a:pt x="16320" y="13811"/>
                </a:cubicBezTo>
                <a:cubicBezTo>
                  <a:pt x="16336" y="13875"/>
                  <a:pt x="16350" y="13875"/>
                  <a:pt x="16415" y="13875"/>
                </a:cubicBezTo>
                <a:cubicBezTo>
                  <a:pt x="16500" y="13875"/>
                  <a:pt x="16515" y="13870"/>
                  <a:pt x="16574" y="13811"/>
                </a:cubicBezTo>
                <a:cubicBezTo>
                  <a:pt x="16637" y="13748"/>
                  <a:pt x="16651" y="13661"/>
                  <a:pt x="16700" y="13589"/>
                </a:cubicBezTo>
                <a:cubicBezTo>
                  <a:pt x="16746" y="13522"/>
                  <a:pt x="16732" y="13451"/>
                  <a:pt x="16732" y="13367"/>
                </a:cubicBezTo>
                <a:cubicBezTo>
                  <a:pt x="16732" y="13290"/>
                  <a:pt x="16741" y="13295"/>
                  <a:pt x="16700" y="13240"/>
                </a:cubicBezTo>
                <a:cubicBezTo>
                  <a:pt x="16633" y="13257"/>
                  <a:pt x="16636" y="13288"/>
                  <a:pt x="16605" y="13335"/>
                </a:cubicBezTo>
                <a:cubicBezTo>
                  <a:pt x="16565" y="13396"/>
                  <a:pt x="16569" y="13463"/>
                  <a:pt x="16542" y="13526"/>
                </a:cubicBezTo>
                <a:cubicBezTo>
                  <a:pt x="16513" y="13592"/>
                  <a:pt x="16490" y="13687"/>
                  <a:pt x="16478" y="13748"/>
                </a:cubicBezTo>
                <a:cubicBezTo>
                  <a:pt x="16462" y="13828"/>
                  <a:pt x="16492" y="13867"/>
                  <a:pt x="16510" y="13938"/>
                </a:cubicBezTo>
                <a:cubicBezTo>
                  <a:pt x="16510" y="13970"/>
                  <a:pt x="16510" y="13981"/>
                  <a:pt x="16542" y="13970"/>
                </a:cubicBezTo>
              </a:path>
              <a:path w="5843" h="2573">
                <a:moveTo>
                  <a:pt x="16986" y="13621"/>
                </a:moveTo>
                <a:cubicBezTo>
                  <a:pt x="17010" y="13691"/>
                  <a:pt x="17011" y="13635"/>
                  <a:pt x="16986" y="13684"/>
                </a:cubicBezTo>
                <a:cubicBezTo>
                  <a:pt x="16963" y="13731"/>
                  <a:pt x="16992" y="13693"/>
                  <a:pt x="17018" y="13684"/>
                </a:cubicBezTo>
              </a:path>
              <a:path w="5843" h="2573">
                <a:moveTo>
                  <a:pt x="17367" y="12636"/>
                </a:moveTo>
                <a:cubicBezTo>
                  <a:pt x="17412" y="12696"/>
                  <a:pt x="17399" y="12748"/>
                  <a:pt x="17399" y="12827"/>
                </a:cubicBezTo>
                <a:cubicBezTo>
                  <a:pt x="17399" y="12957"/>
                  <a:pt x="17367" y="13075"/>
                  <a:pt x="17367" y="13208"/>
                </a:cubicBezTo>
                <a:cubicBezTo>
                  <a:pt x="17367" y="13382"/>
                  <a:pt x="17341" y="13544"/>
                  <a:pt x="17336" y="13716"/>
                </a:cubicBezTo>
                <a:cubicBezTo>
                  <a:pt x="17332" y="13857"/>
                  <a:pt x="17304" y="13986"/>
                  <a:pt x="17304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50"/>
          <p:cNvSpPr/>
          <p:nvPr/>
        </p:nvSpPr>
        <p:spPr>
          <a:xfrm>
            <a:off x="206280" y="5326200"/>
            <a:ext cx="4400640" cy="788760"/>
          </a:xfrm>
          <a:custGeom>
            <a:avLst/>
            <a:gdLst/>
            <a:ahLst/>
            <a:rect l="l" t="t" r="r" b="b"/>
            <a:pathLst>
              <a:path w="12224" h="2191">
                <a:moveTo>
                  <a:pt x="889" y="16954"/>
                </a:moveTo>
                <a:cubicBezTo>
                  <a:pt x="884" y="16969"/>
                  <a:pt x="824" y="17024"/>
                  <a:pt x="794" y="16986"/>
                </a:cubicBezTo>
                <a:cubicBezTo>
                  <a:pt x="774" y="16961"/>
                  <a:pt x="754" y="16926"/>
                  <a:pt x="730" y="16891"/>
                </a:cubicBezTo>
                <a:cubicBezTo>
                  <a:pt x="664" y="16793"/>
                  <a:pt x="672" y="16821"/>
                  <a:pt x="635" y="16700"/>
                </a:cubicBezTo>
                <a:cubicBezTo>
                  <a:pt x="609" y="16616"/>
                  <a:pt x="557" y="16472"/>
                  <a:pt x="572" y="16383"/>
                </a:cubicBezTo>
                <a:cubicBezTo>
                  <a:pt x="585" y="16307"/>
                  <a:pt x="604" y="16164"/>
                  <a:pt x="635" y="16097"/>
                </a:cubicBezTo>
                <a:cubicBezTo>
                  <a:pt x="656" y="16052"/>
                  <a:pt x="754" y="15986"/>
                  <a:pt x="794" y="15970"/>
                </a:cubicBezTo>
                <a:cubicBezTo>
                  <a:pt x="858" y="15944"/>
                  <a:pt x="906" y="15938"/>
                  <a:pt x="984" y="15938"/>
                </a:cubicBezTo>
                <a:cubicBezTo>
                  <a:pt x="1051" y="15938"/>
                  <a:pt x="1148" y="15943"/>
                  <a:pt x="1206" y="15970"/>
                </a:cubicBezTo>
                <a:cubicBezTo>
                  <a:pt x="1260" y="15995"/>
                  <a:pt x="1268" y="16002"/>
                  <a:pt x="1334" y="16002"/>
                </a:cubicBezTo>
                <a:cubicBezTo>
                  <a:pt x="1344" y="16002"/>
                  <a:pt x="1355" y="16002"/>
                  <a:pt x="1365" y="16002"/>
                </a:cubicBezTo>
              </a:path>
              <a:path w="12224" h="2191">
                <a:moveTo>
                  <a:pt x="1238" y="15621"/>
                </a:moveTo>
                <a:cubicBezTo>
                  <a:pt x="1249" y="15610"/>
                  <a:pt x="1259" y="15600"/>
                  <a:pt x="1270" y="15589"/>
                </a:cubicBezTo>
                <a:cubicBezTo>
                  <a:pt x="1315" y="15649"/>
                  <a:pt x="1314" y="15654"/>
                  <a:pt x="1365" y="15716"/>
                </a:cubicBezTo>
                <a:cubicBezTo>
                  <a:pt x="1407" y="15767"/>
                  <a:pt x="1448" y="15773"/>
                  <a:pt x="1492" y="15812"/>
                </a:cubicBezTo>
                <a:cubicBezTo>
                  <a:pt x="1529" y="15844"/>
                  <a:pt x="1575" y="15850"/>
                  <a:pt x="1524" y="15875"/>
                </a:cubicBezTo>
                <a:cubicBezTo>
                  <a:pt x="1456" y="15909"/>
                  <a:pt x="1487" y="15873"/>
                  <a:pt x="1429" y="15938"/>
                </a:cubicBezTo>
                <a:cubicBezTo>
                  <a:pt x="1379" y="15994"/>
                  <a:pt x="1338" y="16029"/>
                  <a:pt x="1302" y="16097"/>
                </a:cubicBezTo>
                <a:cubicBezTo>
                  <a:pt x="1266" y="16164"/>
                  <a:pt x="1226" y="16223"/>
                  <a:pt x="1206" y="16288"/>
                </a:cubicBezTo>
                <a:cubicBezTo>
                  <a:pt x="1206" y="16324"/>
                  <a:pt x="1209" y="16338"/>
                  <a:pt x="1238" y="16351"/>
                </a:cubicBezTo>
              </a:path>
              <a:path w="12224" h="2191">
                <a:moveTo>
                  <a:pt x="2032" y="16066"/>
                </a:moveTo>
                <a:cubicBezTo>
                  <a:pt x="2093" y="16046"/>
                  <a:pt x="2048" y="16051"/>
                  <a:pt x="2159" y="16066"/>
                </a:cubicBezTo>
                <a:cubicBezTo>
                  <a:pt x="2346" y="16091"/>
                  <a:pt x="2554" y="16064"/>
                  <a:pt x="2730" y="16034"/>
                </a:cubicBezTo>
                <a:cubicBezTo>
                  <a:pt x="3305" y="15937"/>
                  <a:pt x="4134" y="15971"/>
                  <a:pt x="4699" y="16066"/>
                </a:cubicBezTo>
                <a:cubicBezTo>
                  <a:pt x="4763" y="16077"/>
                  <a:pt x="4827" y="16089"/>
                  <a:pt x="4890" y="16097"/>
                </a:cubicBezTo>
                <a:cubicBezTo>
                  <a:pt x="4971" y="16108"/>
                  <a:pt x="5062" y="16097"/>
                  <a:pt x="5144" y="16097"/>
                </a:cubicBezTo>
              </a:path>
              <a:path w="12224" h="2191">
                <a:moveTo>
                  <a:pt x="3556" y="16288"/>
                </a:moveTo>
                <a:cubicBezTo>
                  <a:pt x="3575" y="16288"/>
                  <a:pt x="3584" y="16301"/>
                  <a:pt x="3556" y="16351"/>
                </a:cubicBezTo>
                <a:cubicBezTo>
                  <a:pt x="3528" y="16401"/>
                  <a:pt x="3497" y="16403"/>
                  <a:pt x="3492" y="16446"/>
                </a:cubicBezTo>
                <a:cubicBezTo>
                  <a:pt x="3485" y="16505"/>
                  <a:pt x="3495" y="16535"/>
                  <a:pt x="3556" y="16542"/>
                </a:cubicBezTo>
                <a:cubicBezTo>
                  <a:pt x="3621" y="16549"/>
                  <a:pt x="3632" y="16527"/>
                  <a:pt x="3683" y="16510"/>
                </a:cubicBezTo>
                <a:cubicBezTo>
                  <a:pt x="3715" y="16499"/>
                  <a:pt x="3770" y="16461"/>
                  <a:pt x="3778" y="16446"/>
                </a:cubicBezTo>
                <a:cubicBezTo>
                  <a:pt x="3788" y="16426"/>
                  <a:pt x="3843" y="16370"/>
                  <a:pt x="3810" y="16415"/>
                </a:cubicBezTo>
                <a:cubicBezTo>
                  <a:pt x="3781" y="16454"/>
                  <a:pt x="3750" y="16492"/>
                  <a:pt x="3746" y="16542"/>
                </a:cubicBezTo>
                <a:cubicBezTo>
                  <a:pt x="3740" y="16623"/>
                  <a:pt x="3715" y="16680"/>
                  <a:pt x="3715" y="16764"/>
                </a:cubicBezTo>
                <a:cubicBezTo>
                  <a:pt x="3715" y="16822"/>
                  <a:pt x="3720" y="16838"/>
                  <a:pt x="3683" y="16859"/>
                </a:cubicBezTo>
                <a:cubicBezTo>
                  <a:pt x="3635" y="16847"/>
                  <a:pt x="3586" y="16811"/>
                  <a:pt x="3556" y="16764"/>
                </a:cubicBezTo>
                <a:cubicBezTo>
                  <a:pt x="3520" y="16708"/>
                  <a:pt x="3486" y="16670"/>
                  <a:pt x="3461" y="16637"/>
                </a:cubicBezTo>
                <a:cubicBezTo>
                  <a:pt x="3450" y="16626"/>
                  <a:pt x="3440" y="16616"/>
                  <a:pt x="3429" y="16605"/>
                </a:cubicBezTo>
              </a:path>
              <a:path w="12224" h="2191">
                <a:moveTo>
                  <a:pt x="2921" y="14796"/>
                </a:moveTo>
                <a:cubicBezTo>
                  <a:pt x="2961" y="14848"/>
                  <a:pt x="2979" y="14919"/>
                  <a:pt x="2984" y="14986"/>
                </a:cubicBezTo>
                <a:cubicBezTo>
                  <a:pt x="2990" y="15059"/>
                  <a:pt x="2968" y="15195"/>
                  <a:pt x="2953" y="15272"/>
                </a:cubicBezTo>
                <a:cubicBezTo>
                  <a:pt x="2930" y="15385"/>
                  <a:pt x="2921" y="15471"/>
                  <a:pt x="2921" y="15589"/>
                </a:cubicBezTo>
                <a:cubicBezTo>
                  <a:pt x="2921" y="15614"/>
                  <a:pt x="2912" y="15876"/>
                  <a:pt x="2953" y="15780"/>
                </a:cubicBezTo>
                <a:cubicBezTo>
                  <a:pt x="2953" y="15769"/>
                  <a:pt x="2953" y="15759"/>
                  <a:pt x="2953" y="15748"/>
                </a:cubicBezTo>
              </a:path>
              <a:path w="12224" h="2191">
                <a:moveTo>
                  <a:pt x="3270" y="14796"/>
                </a:moveTo>
                <a:cubicBezTo>
                  <a:pt x="3210" y="14836"/>
                  <a:pt x="3255" y="14904"/>
                  <a:pt x="3238" y="14986"/>
                </a:cubicBezTo>
                <a:cubicBezTo>
                  <a:pt x="3210" y="15120"/>
                  <a:pt x="3190" y="15264"/>
                  <a:pt x="3175" y="15399"/>
                </a:cubicBezTo>
                <a:cubicBezTo>
                  <a:pt x="3166" y="15480"/>
                  <a:pt x="3180" y="15671"/>
                  <a:pt x="3207" y="15748"/>
                </a:cubicBezTo>
                <a:cubicBezTo>
                  <a:pt x="3235" y="15777"/>
                  <a:pt x="3245" y="15783"/>
                  <a:pt x="3238" y="15812"/>
                </a:cubicBezTo>
              </a:path>
              <a:path w="12224" h="2191">
                <a:moveTo>
                  <a:pt x="2953" y="15335"/>
                </a:moveTo>
                <a:cubicBezTo>
                  <a:pt x="2868" y="15335"/>
                  <a:pt x="3036" y="15363"/>
                  <a:pt x="3048" y="15367"/>
                </a:cubicBezTo>
                <a:cubicBezTo>
                  <a:pt x="3128" y="15395"/>
                  <a:pt x="3215" y="15425"/>
                  <a:pt x="3302" y="15430"/>
                </a:cubicBezTo>
                <a:cubicBezTo>
                  <a:pt x="3387" y="15435"/>
                  <a:pt x="3392" y="15417"/>
                  <a:pt x="3429" y="15399"/>
                </a:cubicBezTo>
                <a:cubicBezTo>
                  <a:pt x="3437" y="15395"/>
                  <a:pt x="3519" y="15374"/>
                  <a:pt x="3524" y="15367"/>
                </a:cubicBezTo>
                <a:cubicBezTo>
                  <a:pt x="3537" y="15351"/>
                  <a:pt x="3610" y="15319"/>
                  <a:pt x="3620" y="15304"/>
                </a:cubicBezTo>
                <a:cubicBezTo>
                  <a:pt x="3640" y="15275"/>
                  <a:pt x="3673" y="15184"/>
                  <a:pt x="3683" y="15145"/>
                </a:cubicBezTo>
                <a:cubicBezTo>
                  <a:pt x="3683" y="15134"/>
                  <a:pt x="3683" y="15124"/>
                  <a:pt x="3683" y="15113"/>
                </a:cubicBezTo>
                <a:cubicBezTo>
                  <a:pt x="3651" y="15097"/>
                  <a:pt x="3585" y="15087"/>
                  <a:pt x="3556" y="15145"/>
                </a:cubicBezTo>
                <a:cubicBezTo>
                  <a:pt x="3522" y="15213"/>
                  <a:pt x="3446" y="15323"/>
                  <a:pt x="3429" y="15399"/>
                </a:cubicBezTo>
                <a:cubicBezTo>
                  <a:pt x="3410" y="15486"/>
                  <a:pt x="3435" y="15558"/>
                  <a:pt x="3492" y="15621"/>
                </a:cubicBezTo>
                <a:cubicBezTo>
                  <a:pt x="3544" y="15680"/>
                  <a:pt x="3611" y="15710"/>
                  <a:pt x="3683" y="15716"/>
                </a:cubicBezTo>
                <a:cubicBezTo>
                  <a:pt x="3719" y="15716"/>
                  <a:pt x="3733" y="15713"/>
                  <a:pt x="3746" y="15684"/>
                </a:cubicBezTo>
              </a:path>
              <a:path w="12224" h="2191">
                <a:moveTo>
                  <a:pt x="3937" y="15081"/>
                </a:moveTo>
                <a:cubicBezTo>
                  <a:pt x="3937" y="15292"/>
                  <a:pt x="3813" y="15824"/>
                  <a:pt x="3937" y="15653"/>
                </a:cubicBezTo>
                <a:cubicBezTo>
                  <a:pt x="3948" y="15642"/>
                  <a:pt x="3958" y="15632"/>
                  <a:pt x="3969" y="15621"/>
                </a:cubicBezTo>
              </a:path>
              <a:path w="12224" h="2191">
                <a:moveTo>
                  <a:pt x="4286" y="15272"/>
                </a:moveTo>
                <a:cubicBezTo>
                  <a:pt x="4310" y="15237"/>
                  <a:pt x="4309" y="15215"/>
                  <a:pt x="4254" y="15208"/>
                </a:cubicBezTo>
                <a:cubicBezTo>
                  <a:pt x="4197" y="15201"/>
                  <a:pt x="4160" y="15223"/>
                  <a:pt x="4128" y="15272"/>
                </a:cubicBezTo>
                <a:cubicBezTo>
                  <a:pt x="4099" y="15317"/>
                  <a:pt x="4072" y="15438"/>
                  <a:pt x="4096" y="15494"/>
                </a:cubicBezTo>
                <a:cubicBezTo>
                  <a:pt x="4108" y="15523"/>
                  <a:pt x="4224" y="15602"/>
                  <a:pt x="4254" y="15589"/>
                </a:cubicBezTo>
                <a:cubicBezTo>
                  <a:pt x="4332" y="15555"/>
                  <a:pt x="4301" y="15535"/>
                  <a:pt x="4350" y="15462"/>
                </a:cubicBezTo>
                <a:cubicBezTo>
                  <a:pt x="4373" y="15428"/>
                  <a:pt x="4382" y="15342"/>
                  <a:pt x="4382" y="15399"/>
                </a:cubicBezTo>
                <a:cubicBezTo>
                  <a:pt x="4382" y="15503"/>
                  <a:pt x="4366" y="15587"/>
                  <a:pt x="4350" y="15684"/>
                </a:cubicBezTo>
                <a:cubicBezTo>
                  <a:pt x="4337" y="15761"/>
                  <a:pt x="4352" y="15841"/>
                  <a:pt x="4318" y="15907"/>
                </a:cubicBezTo>
                <a:cubicBezTo>
                  <a:pt x="4296" y="15950"/>
                  <a:pt x="4287" y="15959"/>
                  <a:pt x="4254" y="15970"/>
                </a:cubicBezTo>
              </a:path>
              <a:path w="12224" h="2191">
                <a:moveTo>
                  <a:pt x="4604" y="14954"/>
                </a:moveTo>
                <a:cubicBezTo>
                  <a:pt x="4604" y="15045"/>
                  <a:pt x="4611" y="15043"/>
                  <a:pt x="4604" y="15145"/>
                </a:cubicBezTo>
                <a:cubicBezTo>
                  <a:pt x="4594" y="15289"/>
                  <a:pt x="4562" y="15392"/>
                  <a:pt x="4540" y="15526"/>
                </a:cubicBezTo>
                <a:cubicBezTo>
                  <a:pt x="4524" y="15620"/>
                  <a:pt x="4501" y="15697"/>
                  <a:pt x="4477" y="15780"/>
                </a:cubicBezTo>
                <a:cubicBezTo>
                  <a:pt x="4477" y="15791"/>
                  <a:pt x="4477" y="15801"/>
                  <a:pt x="4477" y="15812"/>
                </a:cubicBezTo>
                <a:cubicBezTo>
                  <a:pt x="4492" y="15767"/>
                  <a:pt x="4509" y="15722"/>
                  <a:pt x="4540" y="15653"/>
                </a:cubicBezTo>
                <a:cubicBezTo>
                  <a:pt x="4584" y="15554"/>
                  <a:pt x="4642" y="15485"/>
                  <a:pt x="4699" y="15399"/>
                </a:cubicBezTo>
                <a:cubicBezTo>
                  <a:pt x="4748" y="15325"/>
                  <a:pt x="4738" y="15304"/>
                  <a:pt x="4826" y="15304"/>
                </a:cubicBezTo>
                <a:cubicBezTo>
                  <a:pt x="4869" y="15304"/>
                  <a:pt x="4902" y="15379"/>
                  <a:pt x="4890" y="15430"/>
                </a:cubicBezTo>
                <a:cubicBezTo>
                  <a:pt x="4866" y="15532"/>
                  <a:pt x="4858" y="15605"/>
                  <a:pt x="4858" y="15716"/>
                </a:cubicBezTo>
                <a:cubicBezTo>
                  <a:pt x="4858" y="15764"/>
                  <a:pt x="4850" y="15880"/>
                  <a:pt x="4890" y="15907"/>
                </a:cubicBezTo>
                <a:cubicBezTo>
                  <a:pt x="4900" y="15907"/>
                  <a:pt x="4911" y="15907"/>
                  <a:pt x="4921" y="15907"/>
                </a:cubicBezTo>
              </a:path>
              <a:path w="12224" h="2191">
                <a:moveTo>
                  <a:pt x="5207" y="15208"/>
                </a:moveTo>
                <a:cubicBezTo>
                  <a:pt x="5207" y="15073"/>
                  <a:pt x="5194" y="15046"/>
                  <a:pt x="5175" y="15208"/>
                </a:cubicBezTo>
                <a:cubicBezTo>
                  <a:pt x="5160" y="15334"/>
                  <a:pt x="5140" y="15466"/>
                  <a:pt x="5112" y="15589"/>
                </a:cubicBezTo>
                <a:cubicBezTo>
                  <a:pt x="5089" y="15693"/>
                  <a:pt x="5080" y="15768"/>
                  <a:pt x="5080" y="15875"/>
                </a:cubicBezTo>
                <a:cubicBezTo>
                  <a:pt x="5080" y="15886"/>
                  <a:pt x="5080" y="15896"/>
                  <a:pt x="5080" y="15907"/>
                </a:cubicBezTo>
              </a:path>
              <a:path w="12224" h="2191">
                <a:moveTo>
                  <a:pt x="4953" y="15399"/>
                </a:moveTo>
                <a:cubicBezTo>
                  <a:pt x="5046" y="15399"/>
                  <a:pt x="5121" y="15416"/>
                  <a:pt x="5207" y="15430"/>
                </a:cubicBezTo>
                <a:cubicBezTo>
                  <a:pt x="5270" y="15430"/>
                  <a:pt x="5292" y="15430"/>
                  <a:pt x="5334" y="15430"/>
                </a:cubicBezTo>
              </a:path>
              <a:path w="12224" h="2191">
                <a:moveTo>
                  <a:pt x="6255" y="15621"/>
                </a:moveTo>
                <a:cubicBezTo>
                  <a:pt x="6255" y="15589"/>
                  <a:pt x="6255" y="15558"/>
                  <a:pt x="6255" y="15526"/>
                </a:cubicBezTo>
                <a:cubicBezTo>
                  <a:pt x="6190" y="15526"/>
                  <a:pt x="6148" y="15517"/>
                  <a:pt x="6096" y="15558"/>
                </a:cubicBezTo>
                <a:cubicBezTo>
                  <a:pt x="6025" y="15614"/>
                  <a:pt x="5955" y="15706"/>
                  <a:pt x="5906" y="15780"/>
                </a:cubicBezTo>
                <a:cubicBezTo>
                  <a:pt x="5866" y="15839"/>
                  <a:pt x="5854" y="15964"/>
                  <a:pt x="5874" y="16034"/>
                </a:cubicBezTo>
                <a:cubicBezTo>
                  <a:pt x="5899" y="16122"/>
                  <a:pt x="6013" y="16204"/>
                  <a:pt x="6096" y="16192"/>
                </a:cubicBezTo>
                <a:cubicBezTo>
                  <a:pt x="6117" y="16182"/>
                  <a:pt x="6139" y="16171"/>
                  <a:pt x="6160" y="16161"/>
                </a:cubicBezTo>
              </a:path>
              <a:path w="12224" h="2191">
                <a:moveTo>
                  <a:pt x="6191" y="16129"/>
                </a:moveTo>
                <a:cubicBezTo>
                  <a:pt x="6289" y="16059"/>
                  <a:pt x="6289" y="16018"/>
                  <a:pt x="6318" y="15907"/>
                </a:cubicBezTo>
                <a:cubicBezTo>
                  <a:pt x="6350" y="15812"/>
                  <a:pt x="6361" y="15780"/>
                  <a:pt x="6382" y="15716"/>
                </a:cubicBezTo>
              </a:path>
              <a:path w="12224" h="2191">
                <a:moveTo>
                  <a:pt x="6414" y="15621"/>
                </a:moveTo>
                <a:cubicBezTo>
                  <a:pt x="6414" y="15589"/>
                  <a:pt x="6414" y="15558"/>
                  <a:pt x="6414" y="15526"/>
                </a:cubicBezTo>
              </a:path>
              <a:path w="12224" h="2191">
                <a:moveTo>
                  <a:pt x="6445" y="15462"/>
                </a:moveTo>
                <a:cubicBezTo>
                  <a:pt x="6445" y="15399"/>
                  <a:pt x="6445" y="15377"/>
                  <a:pt x="6445" y="15335"/>
                </a:cubicBezTo>
                <a:cubicBezTo>
                  <a:pt x="6445" y="15283"/>
                  <a:pt x="6456" y="15379"/>
                  <a:pt x="6445" y="15430"/>
                </a:cubicBezTo>
                <a:cubicBezTo>
                  <a:pt x="6419" y="15547"/>
                  <a:pt x="6423" y="15667"/>
                  <a:pt x="6382" y="15780"/>
                </a:cubicBezTo>
                <a:cubicBezTo>
                  <a:pt x="6353" y="15859"/>
                  <a:pt x="6360" y="15964"/>
                  <a:pt x="6318" y="16034"/>
                </a:cubicBezTo>
                <a:cubicBezTo>
                  <a:pt x="6307" y="16045"/>
                  <a:pt x="6297" y="16055"/>
                  <a:pt x="6286" y="16066"/>
                </a:cubicBezTo>
                <a:cubicBezTo>
                  <a:pt x="6286" y="16134"/>
                  <a:pt x="6332" y="15973"/>
                  <a:pt x="6350" y="15938"/>
                </a:cubicBezTo>
                <a:cubicBezTo>
                  <a:pt x="6408" y="15823"/>
                  <a:pt x="6446" y="15731"/>
                  <a:pt x="6540" y="15653"/>
                </a:cubicBezTo>
                <a:cubicBezTo>
                  <a:pt x="6619" y="15588"/>
                  <a:pt x="6586" y="15593"/>
                  <a:pt x="6668" y="15621"/>
                </a:cubicBezTo>
                <a:cubicBezTo>
                  <a:pt x="6717" y="15638"/>
                  <a:pt x="6759" y="15655"/>
                  <a:pt x="6763" y="15716"/>
                </a:cubicBezTo>
                <a:cubicBezTo>
                  <a:pt x="6770" y="15813"/>
                  <a:pt x="6746" y="15882"/>
                  <a:pt x="6731" y="15970"/>
                </a:cubicBezTo>
                <a:cubicBezTo>
                  <a:pt x="6719" y="16042"/>
                  <a:pt x="6706" y="16122"/>
                  <a:pt x="6699" y="16192"/>
                </a:cubicBezTo>
                <a:cubicBezTo>
                  <a:pt x="6699" y="16224"/>
                  <a:pt x="6699" y="16235"/>
                  <a:pt x="6699" y="16256"/>
                </a:cubicBezTo>
              </a:path>
              <a:path w="12224" h="2191">
                <a:moveTo>
                  <a:pt x="7080" y="15812"/>
                </a:moveTo>
                <a:cubicBezTo>
                  <a:pt x="7114" y="15767"/>
                  <a:pt x="7112" y="15772"/>
                  <a:pt x="7112" y="15716"/>
                </a:cubicBezTo>
                <a:cubicBezTo>
                  <a:pt x="7062" y="15704"/>
                  <a:pt x="7042" y="15684"/>
                  <a:pt x="6985" y="15684"/>
                </a:cubicBezTo>
                <a:cubicBezTo>
                  <a:pt x="6949" y="15684"/>
                  <a:pt x="6877" y="15693"/>
                  <a:pt x="6858" y="15716"/>
                </a:cubicBezTo>
                <a:cubicBezTo>
                  <a:pt x="6806" y="15780"/>
                  <a:pt x="6794" y="15828"/>
                  <a:pt x="6794" y="15907"/>
                </a:cubicBezTo>
                <a:cubicBezTo>
                  <a:pt x="6794" y="15966"/>
                  <a:pt x="6828" y="16038"/>
                  <a:pt x="6890" y="16066"/>
                </a:cubicBezTo>
                <a:cubicBezTo>
                  <a:pt x="6922" y="16066"/>
                  <a:pt x="6932" y="16066"/>
                  <a:pt x="6953" y="16066"/>
                </a:cubicBezTo>
                <a:cubicBezTo>
                  <a:pt x="6994" y="16011"/>
                  <a:pt x="7015" y="15942"/>
                  <a:pt x="7048" y="15875"/>
                </a:cubicBezTo>
                <a:cubicBezTo>
                  <a:pt x="7066" y="15838"/>
                  <a:pt x="7112" y="15678"/>
                  <a:pt x="7112" y="15748"/>
                </a:cubicBezTo>
                <a:cubicBezTo>
                  <a:pt x="7070" y="15818"/>
                  <a:pt x="7080" y="15883"/>
                  <a:pt x="7080" y="15970"/>
                </a:cubicBezTo>
                <a:cubicBezTo>
                  <a:pt x="7080" y="16022"/>
                  <a:pt x="7070" y="16158"/>
                  <a:pt x="7112" y="16192"/>
                </a:cubicBezTo>
                <a:cubicBezTo>
                  <a:pt x="7123" y="16192"/>
                  <a:pt x="7133" y="16192"/>
                  <a:pt x="7144" y="16192"/>
                </a:cubicBezTo>
              </a:path>
              <a:path w="12224" h="2191">
                <a:moveTo>
                  <a:pt x="7302" y="15621"/>
                </a:moveTo>
                <a:cubicBezTo>
                  <a:pt x="7302" y="15690"/>
                  <a:pt x="7349" y="15743"/>
                  <a:pt x="7334" y="15812"/>
                </a:cubicBezTo>
                <a:cubicBezTo>
                  <a:pt x="7326" y="15846"/>
                  <a:pt x="7315" y="15975"/>
                  <a:pt x="7302" y="16002"/>
                </a:cubicBezTo>
                <a:cubicBezTo>
                  <a:pt x="7257" y="16094"/>
                  <a:pt x="7291" y="16054"/>
                  <a:pt x="7302" y="16002"/>
                </a:cubicBezTo>
                <a:cubicBezTo>
                  <a:pt x="7318" y="15923"/>
                  <a:pt x="7338" y="15877"/>
                  <a:pt x="7398" y="15812"/>
                </a:cubicBezTo>
                <a:cubicBezTo>
                  <a:pt x="7458" y="15747"/>
                  <a:pt x="7474" y="15716"/>
                  <a:pt x="7556" y="15716"/>
                </a:cubicBezTo>
                <a:cubicBezTo>
                  <a:pt x="7630" y="15716"/>
                  <a:pt x="7657" y="15732"/>
                  <a:pt x="7684" y="15812"/>
                </a:cubicBezTo>
                <a:cubicBezTo>
                  <a:pt x="7705" y="15875"/>
                  <a:pt x="7715" y="15933"/>
                  <a:pt x="7715" y="16002"/>
                </a:cubicBezTo>
                <a:cubicBezTo>
                  <a:pt x="7715" y="16055"/>
                  <a:pt x="7715" y="16108"/>
                  <a:pt x="7715" y="16161"/>
                </a:cubicBezTo>
              </a:path>
              <a:path w="12224" h="2191">
                <a:moveTo>
                  <a:pt x="8096" y="15843"/>
                </a:moveTo>
                <a:cubicBezTo>
                  <a:pt x="8096" y="15775"/>
                  <a:pt x="8104" y="15737"/>
                  <a:pt x="8064" y="15684"/>
                </a:cubicBezTo>
                <a:cubicBezTo>
                  <a:pt x="7991" y="15684"/>
                  <a:pt x="7966" y="15712"/>
                  <a:pt x="7906" y="15748"/>
                </a:cubicBezTo>
                <a:cubicBezTo>
                  <a:pt x="7815" y="15802"/>
                  <a:pt x="7810" y="15800"/>
                  <a:pt x="7810" y="15907"/>
                </a:cubicBezTo>
                <a:cubicBezTo>
                  <a:pt x="7810" y="15976"/>
                  <a:pt x="7867" y="15976"/>
                  <a:pt x="7906" y="16002"/>
                </a:cubicBezTo>
                <a:cubicBezTo>
                  <a:pt x="7917" y="16013"/>
                  <a:pt x="7927" y="16023"/>
                  <a:pt x="7938" y="16034"/>
                </a:cubicBezTo>
                <a:cubicBezTo>
                  <a:pt x="7995" y="15976"/>
                  <a:pt x="8053" y="15894"/>
                  <a:pt x="8128" y="15875"/>
                </a:cubicBezTo>
                <a:cubicBezTo>
                  <a:pt x="8113" y="15949"/>
                  <a:pt x="8076" y="16024"/>
                  <a:pt x="8064" y="16097"/>
                </a:cubicBezTo>
                <a:cubicBezTo>
                  <a:pt x="8046" y="16202"/>
                  <a:pt x="8016" y="16310"/>
                  <a:pt x="8001" y="16415"/>
                </a:cubicBezTo>
                <a:cubicBezTo>
                  <a:pt x="7992" y="16480"/>
                  <a:pt x="7988" y="16619"/>
                  <a:pt x="7938" y="16669"/>
                </a:cubicBezTo>
                <a:cubicBezTo>
                  <a:pt x="7906" y="16669"/>
                  <a:pt x="7896" y="16669"/>
                  <a:pt x="7906" y="16700"/>
                </a:cubicBezTo>
                <a:cubicBezTo>
                  <a:pt x="7843" y="16639"/>
                  <a:pt x="7842" y="16631"/>
                  <a:pt x="7842" y="16542"/>
                </a:cubicBezTo>
                <a:cubicBezTo>
                  <a:pt x="7842" y="16467"/>
                  <a:pt x="7874" y="16391"/>
                  <a:pt x="7906" y="16320"/>
                </a:cubicBezTo>
                <a:cubicBezTo>
                  <a:pt x="7940" y="16243"/>
                  <a:pt x="7983" y="16163"/>
                  <a:pt x="8033" y="16097"/>
                </a:cubicBezTo>
                <a:cubicBezTo>
                  <a:pt x="8067" y="16052"/>
                  <a:pt x="8169" y="16012"/>
                  <a:pt x="8223" y="16002"/>
                </a:cubicBezTo>
                <a:cubicBezTo>
                  <a:pt x="8305" y="15988"/>
                  <a:pt x="8367" y="15958"/>
                  <a:pt x="8446" y="15938"/>
                </a:cubicBezTo>
                <a:cubicBezTo>
                  <a:pt x="8499" y="15925"/>
                  <a:pt x="8534" y="15902"/>
                  <a:pt x="8541" y="15843"/>
                </a:cubicBezTo>
                <a:cubicBezTo>
                  <a:pt x="8541" y="15833"/>
                  <a:pt x="8541" y="15822"/>
                  <a:pt x="8541" y="15812"/>
                </a:cubicBezTo>
                <a:cubicBezTo>
                  <a:pt x="8497" y="15797"/>
                  <a:pt x="8502" y="15767"/>
                  <a:pt x="8446" y="15748"/>
                </a:cubicBezTo>
                <a:cubicBezTo>
                  <a:pt x="8395" y="15731"/>
                  <a:pt x="8363" y="15795"/>
                  <a:pt x="8350" y="15812"/>
                </a:cubicBezTo>
                <a:cubicBezTo>
                  <a:pt x="8301" y="15876"/>
                  <a:pt x="8262" y="15907"/>
                  <a:pt x="8287" y="16002"/>
                </a:cubicBezTo>
                <a:cubicBezTo>
                  <a:pt x="8299" y="16048"/>
                  <a:pt x="8373" y="16170"/>
                  <a:pt x="8414" y="16192"/>
                </a:cubicBezTo>
                <a:cubicBezTo>
                  <a:pt x="8450" y="16192"/>
                  <a:pt x="8463" y="16189"/>
                  <a:pt x="8477" y="16161"/>
                </a:cubicBezTo>
              </a:path>
              <a:path w="12224" h="2191">
                <a:moveTo>
                  <a:pt x="8922" y="15812"/>
                </a:moveTo>
                <a:cubicBezTo>
                  <a:pt x="8954" y="15780"/>
                  <a:pt x="8964" y="15770"/>
                  <a:pt x="8985" y="15748"/>
                </a:cubicBezTo>
                <a:cubicBezTo>
                  <a:pt x="8927" y="15748"/>
                  <a:pt x="8910" y="15722"/>
                  <a:pt x="8858" y="15716"/>
                </a:cubicBezTo>
                <a:cubicBezTo>
                  <a:pt x="8830" y="15713"/>
                  <a:pt x="8745" y="15752"/>
                  <a:pt x="8731" y="15780"/>
                </a:cubicBezTo>
                <a:cubicBezTo>
                  <a:pt x="8705" y="15831"/>
                  <a:pt x="8756" y="15896"/>
                  <a:pt x="8763" y="15938"/>
                </a:cubicBezTo>
                <a:cubicBezTo>
                  <a:pt x="8778" y="16022"/>
                  <a:pt x="8816" y="16078"/>
                  <a:pt x="8858" y="16161"/>
                </a:cubicBezTo>
                <a:cubicBezTo>
                  <a:pt x="8896" y="16236"/>
                  <a:pt x="8905" y="16257"/>
                  <a:pt x="8858" y="16320"/>
                </a:cubicBezTo>
                <a:cubicBezTo>
                  <a:pt x="8823" y="16294"/>
                  <a:pt x="8772" y="16242"/>
                  <a:pt x="8731" y="16224"/>
                </a:cubicBezTo>
                <a:cubicBezTo>
                  <a:pt x="8688" y="16205"/>
                  <a:pt x="8642" y="16208"/>
                  <a:pt x="8636" y="16161"/>
                </a:cubicBezTo>
                <a:cubicBezTo>
                  <a:pt x="8636" y="16129"/>
                  <a:pt x="8636" y="16118"/>
                  <a:pt x="8668" y="16129"/>
                </a:cubicBezTo>
              </a:path>
              <a:path w="12224" h="2191">
                <a:moveTo>
                  <a:pt x="9684" y="15272"/>
                </a:moveTo>
                <a:cubicBezTo>
                  <a:pt x="9684" y="15333"/>
                  <a:pt x="9670" y="15407"/>
                  <a:pt x="9652" y="15462"/>
                </a:cubicBezTo>
                <a:cubicBezTo>
                  <a:pt x="9619" y="15562"/>
                  <a:pt x="9590" y="15650"/>
                  <a:pt x="9557" y="15748"/>
                </a:cubicBezTo>
                <a:cubicBezTo>
                  <a:pt x="9526" y="15841"/>
                  <a:pt x="9477" y="15950"/>
                  <a:pt x="9462" y="16034"/>
                </a:cubicBezTo>
                <a:cubicBezTo>
                  <a:pt x="9462" y="16087"/>
                  <a:pt x="9462" y="16097"/>
                  <a:pt x="9462" y="16129"/>
                </a:cubicBezTo>
                <a:cubicBezTo>
                  <a:pt x="9390" y="16105"/>
                  <a:pt x="9472" y="16066"/>
                  <a:pt x="9493" y="16002"/>
                </a:cubicBezTo>
                <a:cubicBezTo>
                  <a:pt x="9514" y="15938"/>
                  <a:pt x="9569" y="15893"/>
                  <a:pt x="9620" y="15843"/>
                </a:cubicBezTo>
                <a:cubicBezTo>
                  <a:pt x="9662" y="15802"/>
                  <a:pt x="9691" y="15812"/>
                  <a:pt x="9747" y="15812"/>
                </a:cubicBezTo>
                <a:cubicBezTo>
                  <a:pt x="9866" y="15812"/>
                  <a:pt x="9839" y="15869"/>
                  <a:pt x="9874" y="15938"/>
                </a:cubicBezTo>
                <a:cubicBezTo>
                  <a:pt x="9898" y="15987"/>
                  <a:pt x="9928" y="16030"/>
                  <a:pt x="9906" y="16097"/>
                </a:cubicBezTo>
                <a:cubicBezTo>
                  <a:pt x="9878" y="16180"/>
                  <a:pt x="9848" y="16218"/>
                  <a:pt x="9779" y="16224"/>
                </a:cubicBezTo>
                <a:cubicBezTo>
                  <a:pt x="9700" y="16231"/>
                  <a:pt x="9650" y="16213"/>
                  <a:pt x="9588" y="16192"/>
                </a:cubicBezTo>
                <a:cubicBezTo>
                  <a:pt x="9552" y="16180"/>
                  <a:pt x="9492" y="16155"/>
                  <a:pt x="9525" y="16097"/>
                </a:cubicBezTo>
                <a:cubicBezTo>
                  <a:pt x="9557" y="16066"/>
                  <a:pt x="9568" y="16056"/>
                  <a:pt x="9588" y="16034"/>
                </a:cubicBezTo>
              </a:path>
              <a:path w="12224" h="2191">
                <a:moveTo>
                  <a:pt x="9970" y="15748"/>
                </a:moveTo>
                <a:cubicBezTo>
                  <a:pt x="9987" y="15713"/>
                  <a:pt x="10028" y="15736"/>
                  <a:pt x="10033" y="15780"/>
                </a:cubicBezTo>
                <a:cubicBezTo>
                  <a:pt x="10040" y="15838"/>
                  <a:pt x="10034" y="15888"/>
                  <a:pt x="10001" y="15938"/>
                </a:cubicBezTo>
                <a:cubicBezTo>
                  <a:pt x="9965" y="15992"/>
                  <a:pt x="9970" y="16031"/>
                  <a:pt x="9970" y="16097"/>
                </a:cubicBezTo>
                <a:cubicBezTo>
                  <a:pt x="9970" y="16125"/>
                  <a:pt x="10024" y="16173"/>
                  <a:pt x="10065" y="16161"/>
                </a:cubicBezTo>
                <a:cubicBezTo>
                  <a:pt x="10141" y="16139"/>
                  <a:pt x="10202" y="16055"/>
                  <a:pt x="10255" y="16002"/>
                </a:cubicBezTo>
                <a:cubicBezTo>
                  <a:pt x="10285" y="15972"/>
                  <a:pt x="10369" y="15894"/>
                  <a:pt x="10382" y="15875"/>
                </a:cubicBezTo>
                <a:cubicBezTo>
                  <a:pt x="10382" y="15864"/>
                  <a:pt x="10382" y="15854"/>
                  <a:pt x="10382" y="15843"/>
                </a:cubicBezTo>
                <a:cubicBezTo>
                  <a:pt x="10367" y="15905"/>
                  <a:pt x="10330" y="15965"/>
                  <a:pt x="10319" y="16034"/>
                </a:cubicBezTo>
                <a:cubicBezTo>
                  <a:pt x="10301" y="16144"/>
                  <a:pt x="10242" y="16242"/>
                  <a:pt x="10224" y="16351"/>
                </a:cubicBezTo>
                <a:cubicBezTo>
                  <a:pt x="10217" y="16397"/>
                  <a:pt x="10198" y="16517"/>
                  <a:pt x="10160" y="16542"/>
                </a:cubicBezTo>
                <a:cubicBezTo>
                  <a:pt x="10126" y="16565"/>
                  <a:pt x="10079" y="16574"/>
                  <a:pt x="10033" y="16574"/>
                </a:cubicBezTo>
                <a:cubicBezTo>
                  <a:pt x="9982" y="16574"/>
                  <a:pt x="9916" y="16508"/>
                  <a:pt x="9906" y="16478"/>
                </a:cubicBezTo>
              </a:path>
              <a:path w="12224" h="2191">
                <a:moveTo>
                  <a:pt x="10700" y="16034"/>
                </a:moveTo>
                <a:cubicBezTo>
                  <a:pt x="10742" y="16028"/>
                  <a:pt x="10754" y="16010"/>
                  <a:pt x="10795" y="16002"/>
                </a:cubicBezTo>
                <a:cubicBezTo>
                  <a:pt x="10948" y="15971"/>
                  <a:pt x="11129" y="15999"/>
                  <a:pt x="11271" y="15970"/>
                </a:cubicBezTo>
                <a:cubicBezTo>
                  <a:pt x="11575" y="15909"/>
                  <a:pt x="11921" y="15989"/>
                  <a:pt x="12224" y="15938"/>
                </a:cubicBezTo>
                <a:cubicBezTo>
                  <a:pt x="12301" y="15925"/>
                  <a:pt x="12374" y="15910"/>
                  <a:pt x="12446" y="15907"/>
                </a:cubicBezTo>
                <a:cubicBezTo>
                  <a:pt x="12561" y="15902"/>
                  <a:pt x="12666" y="15909"/>
                  <a:pt x="12764" y="15938"/>
                </a:cubicBezTo>
                <a:cubicBezTo>
                  <a:pt x="12774" y="15938"/>
                  <a:pt x="12785" y="15938"/>
                  <a:pt x="12795" y="15938"/>
                </a:cubicBezTo>
              </a:path>
              <a:path w="12224" h="2191">
                <a:moveTo>
                  <a:pt x="11462" y="16224"/>
                </a:moveTo>
                <a:cubicBezTo>
                  <a:pt x="11498" y="16224"/>
                  <a:pt x="11512" y="16221"/>
                  <a:pt x="11525" y="16192"/>
                </a:cubicBezTo>
                <a:cubicBezTo>
                  <a:pt x="11476" y="16156"/>
                  <a:pt x="11448" y="16159"/>
                  <a:pt x="11398" y="16192"/>
                </a:cubicBezTo>
                <a:cubicBezTo>
                  <a:pt x="11352" y="16222"/>
                  <a:pt x="11310" y="16228"/>
                  <a:pt x="11303" y="16288"/>
                </a:cubicBezTo>
                <a:cubicBezTo>
                  <a:pt x="11297" y="16342"/>
                  <a:pt x="11314" y="16354"/>
                  <a:pt x="11335" y="16383"/>
                </a:cubicBezTo>
                <a:cubicBezTo>
                  <a:pt x="11374" y="16436"/>
                  <a:pt x="11421" y="16401"/>
                  <a:pt x="11430" y="16478"/>
                </a:cubicBezTo>
                <a:cubicBezTo>
                  <a:pt x="11435" y="16525"/>
                  <a:pt x="11472" y="16513"/>
                  <a:pt x="11430" y="16574"/>
                </a:cubicBezTo>
                <a:cubicBezTo>
                  <a:pt x="11407" y="16607"/>
                  <a:pt x="11350" y="16663"/>
                  <a:pt x="11303" y="16637"/>
                </a:cubicBezTo>
                <a:cubicBezTo>
                  <a:pt x="11286" y="16627"/>
                  <a:pt x="11196" y="16578"/>
                  <a:pt x="11240" y="16542"/>
                </a:cubicBezTo>
                <a:cubicBezTo>
                  <a:pt x="11250" y="16542"/>
                  <a:pt x="11261" y="16542"/>
                  <a:pt x="11271" y="16542"/>
                </a:cubicBezTo>
              </a:path>
              <a:path w="12224" h="2191">
                <a:moveTo>
                  <a:pt x="11652" y="16097"/>
                </a:moveTo>
                <a:cubicBezTo>
                  <a:pt x="11652" y="16171"/>
                  <a:pt x="11632" y="16229"/>
                  <a:pt x="11620" y="16288"/>
                </a:cubicBezTo>
                <a:cubicBezTo>
                  <a:pt x="11606" y="16358"/>
                  <a:pt x="11618" y="16446"/>
                  <a:pt x="11589" y="16510"/>
                </a:cubicBezTo>
                <a:cubicBezTo>
                  <a:pt x="11566" y="16560"/>
                  <a:pt x="11557" y="16546"/>
                  <a:pt x="11557" y="16605"/>
                </a:cubicBezTo>
              </a:path>
              <a:path w="12224" h="2191">
                <a:moveTo>
                  <a:pt x="11811" y="16383"/>
                </a:moveTo>
                <a:cubicBezTo>
                  <a:pt x="11760" y="16400"/>
                  <a:pt x="11778" y="16433"/>
                  <a:pt x="11748" y="16478"/>
                </a:cubicBezTo>
                <a:cubicBezTo>
                  <a:pt x="11738" y="16493"/>
                  <a:pt x="11682" y="16579"/>
                  <a:pt x="11716" y="16605"/>
                </a:cubicBezTo>
                <a:cubicBezTo>
                  <a:pt x="11758" y="16638"/>
                  <a:pt x="11815" y="16637"/>
                  <a:pt x="11843" y="16574"/>
                </a:cubicBezTo>
                <a:cubicBezTo>
                  <a:pt x="11871" y="16512"/>
                  <a:pt x="11874" y="16459"/>
                  <a:pt x="11874" y="16383"/>
                </a:cubicBezTo>
                <a:cubicBezTo>
                  <a:pt x="11874" y="16362"/>
                  <a:pt x="11809" y="16259"/>
                  <a:pt x="11811" y="16256"/>
                </a:cubicBezTo>
                <a:cubicBezTo>
                  <a:pt x="11843" y="16256"/>
                  <a:pt x="11854" y="16256"/>
                  <a:pt x="11843" y="16288"/>
                </a:cubicBezTo>
              </a:path>
              <a:path w="12224" h="2191">
                <a:moveTo>
                  <a:pt x="11938" y="16320"/>
                </a:moveTo>
                <a:cubicBezTo>
                  <a:pt x="11938" y="16434"/>
                  <a:pt x="11926" y="16539"/>
                  <a:pt x="11906" y="16637"/>
                </a:cubicBezTo>
                <a:cubicBezTo>
                  <a:pt x="11892" y="16708"/>
                  <a:pt x="11890" y="16765"/>
                  <a:pt x="11874" y="16828"/>
                </a:cubicBezTo>
                <a:cubicBezTo>
                  <a:pt x="11874" y="16772"/>
                  <a:pt x="11886" y="16719"/>
                  <a:pt x="11906" y="16669"/>
                </a:cubicBezTo>
                <a:cubicBezTo>
                  <a:pt x="11931" y="16607"/>
                  <a:pt x="11946" y="16537"/>
                  <a:pt x="11970" y="16478"/>
                </a:cubicBezTo>
                <a:cubicBezTo>
                  <a:pt x="11994" y="16418"/>
                  <a:pt x="12033" y="16358"/>
                  <a:pt x="12097" y="16351"/>
                </a:cubicBezTo>
                <a:cubicBezTo>
                  <a:pt x="12107" y="16351"/>
                  <a:pt x="12118" y="16351"/>
                  <a:pt x="12128" y="16351"/>
                </a:cubicBezTo>
                <a:cubicBezTo>
                  <a:pt x="12163" y="16397"/>
                  <a:pt x="12186" y="16448"/>
                  <a:pt x="12192" y="16510"/>
                </a:cubicBezTo>
                <a:cubicBezTo>
                  <a:pt x="12195" y="16545"/>
                  <a:pt x="12175" y="16615"/>
                  <a:pt x="12128" y="16605"/>
                </a:cubicBezTo>
                <a:cubicBezTo>
                  <a:pt x="12097" y="16574"/>
                  <a:pt x="12086" y="16563"/>
                  <a:pt x="12065" y="16542"/>
                </a:cubicBezTo>
                <a:cubicBezTo>
                  <a:pt x="11993" y="16542"/>
                  <a:pt x="12104" y="16572"/>
                  <a:pt x="12128" y="16574"/>
                </a:cubicBezTo>
                <a:cubicBezTo>
                  <a:pt x="12203" y="16579"/>
                  <a:pt x="12240" y="16605"/>
                  <a:pt x="12319" y="16605"/>
                </a:cubicBezTo>
                <a:cubicBezTo>
                  <a:pt x="12365" y="16605"/>
                  <a:pt x="12410" y="16577"/>
                  <a:pt x="12414" y="16542"/>
                </a:cubicBezTo>
                <a:cubicBezTo>
                  <a:pt x="12421" y="16489"/>
                  <a:pt x="12412" y="16486"/>
                  <a:pt x="12382" y="16446"/>
                </a:cubicBezTo>
                <a:cubicBezTo>
                  <a:pt x="12346" y="16483"/>
                  <a:pt x="12302" y="16528"/>
                  <a:pt x="12287" y="16574"/>
                </a:cubicBezTo>
                <a:cubicBezTo>
                  <a:pt x="12258" y="16658"/>
                  <a:pt x="12317" y="16756"/>
                  <a:pt x="12351" y="16828"/>
                </a:cubicBezTo>
                <a:cubicBezTo>
                  <a:pt x="12379" y="16887"/>
                  <a:pt x="12406" y="16936"/>
                  <a:pt x="12446" y="16986"/>
                </a:cubicBezTo>
              </a:path>
              <a:path w="12224" h="2191">
                <a:moveTo>
                  <a:pt x="11240" y="15113"/>
                </a:moveTo>
                <a:cubicBezTo>
                  <a:pt x="11255" y="15158"/>
                  <a:pt x="11271" y="15165"/>
                  <a:pt x="11271" y="15240"/>
                </a:cubicBezTo>
                <a:cubicBezTo>
                  <a:pt x="11271" y="15321"/>
                  <a:pt x="11261" y="15419"/>
                  <a:pt x="11240" y="15494"/>
                </a:cubicBezTo>
                <a:cubicBezTo>
                  <a:pt x="11213" y="15589"/>
                  <a:pt x="11183" y="15677"/>
                  <a:pt x="11176" y="15780"/>
                </a:cubicBezTo>
                <a:cubicBezTo>
                  <a:pt x="11172" y="15832"/>
                  <a:pt x="11176" y="15886"/>
                  <a:pt x="11176" y="15938"/>
                </a:cubicBezTo>
              </a:path>
              <a:path w="12224" h="2191">
                <a:moveTo>
                  <a:pt x="11303" y="15589"/>
                </a:moveTo>
                <a:cubicBezTo>
                  <a:pt x="11333" y="15629"/>
                  <a:pt x="11361" y="15666"/>
                  <a:pt x="11366" y="15716"/>
                </a:cubicBezTo>
                <a:cubicBezTo>
                  <a:pt x="11366" y="15748"/>
                  <a:pt x="11366" y="15759"/>
                  <a:pt x="11366" y="15780"/>
                </a:cubicBezTo>
              </a:path>
              <a:path w="12224" h="2191">
                <a:moveTo>
                  <a:pt x="11557" y="15304"/>
                </a:moveTo>
                <a:cubicBezTo>
                  <a:pt x="11565" y="15272"/>
                  <a:pt x="11606" y="15215"/>
                  <a:pt x="11620" y="15208"/>
                </a:cubicBezTo>
                <a:cubicBezTo>
                  <a:pt x="11662" y="15187"/>
                  <a:pt x="11709" y="15154"/>
                  <a:pt x="11748" y="15145"/>
                </a:cubicBezTo>
                <a:cubicBezTo>
                  <a:pt x="11798" y="15134"/>
                  <a:pt x="11817" y="15113"/>
                  <a:pt x="11874" y="15113"/>
                </a:cubicBezTo>
                <a:cubicBezTo>
                  <a:pt x="11906" y="15113"/>
                  <a:pt x="11917" y="15113"/>
                  <a:pt x="11938" y="15113"/>
                </a:cubicBezTo>
                <a:cubicBezTo>
                  <a:pt x="11938" y="15196"/>
                  <a:pt x="11925" y="15228"/>
                  <a:pt x="11906" y="15304"/>
                </a:cubicBezTo>
                <a:cubicBezTo>
                  <a:pt x="11890" y="15366"/>
                  <a:pt x="11857" y="15431"/>
                  <a:pt x="11843" y="15494"/>
                </a:cubicBezTo>
                <a:cubicBezTo>
                  <a:pt x="11824" y="15580"/>
                  <a:pt x="11799" y="15662"/>
                  <a:pt x="11779" y="15748"/>
                </a:cubicBezTo>
                <a:cubicBezTo>
                  <a:pt x="11765" y="15807"/>
                  <a:pt x="11791" y="15814"/>
                  <a:pt x="11748" y="15843"/>
                </a:cubicBezTo>
              </a:path>
              <a:path w="12224" h="2191">
                <a:moveTo>
                  <a:pt x="12256" y="15589"/>
                </a:moveTo>
                <a:cubicBezTo>
                  <a:pt x="12256" y="15650"/>
                  <a:pt x="12228" y="15690"/>
                  <a:pt x="12224" y="15748"/>
                </a:cubicBezTo>
                <a:cubicBezTo>
                  <a:pt x="12219" y="15820"/>
                  <a:pt x="12199" y="15870"/>
                  <a:pt x="12192" y="15938"/>
                </a:cubicBezTo>
                <a:cubicBezTo>
                  <a:pt x="12192" y="15974"/>
                  <a:pt x="12195" y="15982"/>
                  <a:pt x="12224" y="15938"/>
                </a:cubicBezTo>
              </a:path>
              <a:path w="12224" h="2191">
                <a:moveTo>
                  <a:pt x="12414" y="15589"/>
                </a:moveTo>
                <a:cubicBezTo>
                  <a:pt x="12449" y="15601"/>
                  <a:pt x="12469" y="15661"/>
                  <a:pt x="12446" y="15716"/>
                </a:cubicBezTo>
                <a:cubicBezTo>
                  <a:pt x="12422" y="15772"/>
                  <a:pt x="12414" y="15807"/>
                  <a:pt x="12414" y="15875"/>
                </a:cubicBezTo>
                <a:cubicBezTo>
                  <a:pt x="12414" y="15824"/>
                  <a:pt x="12422" y="15756"/>
                  <a:pt x="12446" y="15716"/>
                </a:cubicBezTo>
                <a:cubicBezTo>
                  <a:pt x="12462" y="15689"/>
                  <a:pt x="12525" y="15569"/>
                  <a:pt x="12541" y="15558"/>
                </a:cubicBezTo>
                <a:cubicBezTo>
                  <a:pt x="12589" y="15527"/>
                  <a:pt x="12624" y="15574"/>
                  <a:pt x="12636" y="15589"/>
                </a:cubicBezTo>
                <a:cubicBezTo>
                  <a:pt x="12690" y="15660"/>
                  <a:pt x="12659" y="15647"/>
                  <a:pt x="12636" y="15716"/>
                </a:cubicBezTo>
                <a:cubicBezTo>
                  <a:pt x="12615" y="15780"/>
                  <a:pt x="12632" y="15916"/>
                  <a:pt x="12668" y="15970"/>
                </a:cubicBezTo>
                <a:cubicBezTo>
                  <a:pt x="12700" y="16002"/>
                  <a:pt x="12711" y="16013"/>
                  <a:pt x="12732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51"/>
          <p:cNvSpPr/>
          <p:nvPr/>
        </p:nvSpPr>
        <p:spPr>
          <a:xfrm>
            <a:off x="4879800" y="5521320"/>
            <a:ext cx="1303560" cy="468360"/>
          </a:xfrm>
          <a:custGeom>
            <a:avLst/>
            <a:gdLst/>
            <a:ahLst/>
            <a:rect l="l" t="t" r="r" b="b"/>
            <a:pathLst>
              <a:path w="3621" h="1303">
                <a:moveTo>
                  <a:pt x="14065" y="15621"/>
                </a:moveTo>
                <a:cubicBezTo>
                  <a:pt x="14076" y="15564"/>
                  <a:pt x="14097" y="15522"/>
                  <a:pt x="14097" y="15462"/>
                </a:cubicBezTo>
                <a:cubicBezTo>
                  <a:pt x="14097" y="15390"/>
                  <a:pt x="14105" y="15359"/>
                  <a:pt x="14034" y="15335"/>
                </a:cubicBezTo>
                <a:cubicBezTo>
                  <a:pt x="13987" y="15319"/>
                  <a:pt x="13907" y="15342"/>
                  <a:pt x="13875" y="15367"/>
                </a:cubicBezTo>
                <a:cubicBezTo>
                  <a:pt x="13810" y="15418"/>
                  <a:pt x="13735" y="15539"/>
                  <a:pt x="13716" y="15621"/>
                </a:cubicBezTo>
                <a:cubicBezTo>
                  <a:pt x="13686" y="15754"/>
                  <a:pt x="13698" y="15838"/>
                  <a:pt x="13716" y="15970"/>
                </a:cubicBezTo>
                <a:cubicBezTo>
                  <a:pt x="13730" y="16069"/>
                  <a:pt x="13738" y="16233"/>
                  <a:pt x="13684" y="16320"/>
                </a:cubicBezTo>
                <a:cubicBezTo>
                  <a:pt x="13655" y="16367"/>
                  <a:pt x="13649" y="16399"/>
                  <a:pt x="13621" y="16446"/>
                </a:cubicBezTo>
              </a:path>
              <a:path w="3621" h="1303">
                <a:moveTo>
                  <a:pt x="13557" y="15938"/>
                </a:moveTo>
                <a:cubicBezTo>
                  <a:pt x="13632" y="15953"/>
                  <a:pt x="13712" y="15993"/>
                  <a:pt x="13780" y="16034"/>
                </a:cubicBezTo>
                <a:cubicBezTo>
                  <a:pt x="13846" y="16074"/>
                  <a:pt x="13911" y="16114"/>
                  <a:pt x="13970" y="16161"/>
                </a:cubicBezTo>
              </a:path>
              <a:path w="3621" h="1303">
                <a:moveTo>
                  <a:pt x="14224" y="16034"/>
                </a:moveTo>
                <a:cubicBezTo>
                  <a:pt x="14241" y="15983"/>
                  <a:pt x="14239" y="16021"/>
                  <a:pt x="14256" y="15970"/>
                </a:cubicBezTo>
                <a:cubicBezTo>
                  <a:pt x="14205" y="15983"/>
                  <a:pt x="14143" y="16032"/>
                  <a:pt x="14097" y="16066"/>
                </a:cubicBezTo>
                <a:cubicBezTo>
                  <a:pt x="14048" y="16102"/>
                  <a:pt x="14016" y="16199"/>
                  <a:pt x="14002" y="16256"/>
                </a:cubicBezTo>
                <a:cubicBezTo>
                  <a:pt x="13993" y="16293"/>
                  <a:pt x="14064" y="16369"/>
                  <a:pt x="14097" y="16383"/>
                </a:cubicBezTo>
                <a:cubicBezTo>
                  <a:pt x="14134" y="16399"/>
                  <a:pt x="14206" y="16315"/>
                  <a:pt x="14224" y="16288"/>
                </a:cubicBezTo>
                <a:cubicBezTo>
                  <a:pt x="14264" y="16225"/>
                  <a:pt x="14284" y="16138"/>
                  <a:pt x="14288" y="16066"/>
                </a:cubicBezTo>
                <a:cubicBezTo>
                  <a:pt x="14292" y="16002"/>
                  <a:pt x="14199" y="15935"/>
                  <a:pt x="14256" y="15907"/>
                </a:cubicBezTo>
                <a:cubicBezTo>
                  <a:pt x="14267" y="15907"/>
                  <a:pt x="14277" y="15907"/>
                  <a:pt x="14288" y="15907"/>
                </a:cubicBezTo>
              </a:path>
              <a:path w="3621" h="1303">
                <a:moveTo>
                  <a:pt x="14510" y="15938"/>
                </a:moveTo>
                <a:cubicBezTo>
                  <a:pt x="14510" y="16043"/>
                  <a:pt x="14494" y="16126"/>
                  <a:pt x="14478" y="16224"/>
                </a:cubicBezTo>
                <a:cubicBezTo>
                  <a:pt x="14467" y="16288"/>
                  <a:pt x="14464" y="16369"/>
                  <a:pt x="14478" y="16383"/>
                </a:cubicBezTo>
                <a:cubicBezTo>
                  <a:pt x="14478" y="16310"/>
                  <a:pt x="14488" y="16228"/>
                  <a:pt x="14510" y="16161"/>
                </a:cubicBezTo>
                <a:cubicBezTo>
                  <a:pt x="14537" y="16079"/>
                  <a:pt x="14544" y="16004"/>
                  <a:pt x="14605" y="15938"/>
                </a:cubicBezTo>
                <a:cubicBezTo>
                  <a:pt x="14660" y="15877"/>
                  <a:pt x="14682" y="15875"/>
                  <a:pt x="14764" y="15875"/>
                </a:cubicBezTo>
                <a:cubicBezTo>
                  <a:pt x="14821" y="15875"/>
                  <a:pt x="14838" y="15871"/>
                  <a:pt x="14859" y="15907"/>
                </a:cubicBezTo>
              </a:path>
              <a:path w="3621" h="1303">
                <a:moveTo>
                  <a:pt x="15018" y="16002"/>
                </a:moveTo>
                <a:cubicBezTo>
                  <a:pt x="15068" y="16052"/>
                  <a:pt x="15105" y="16080"/>
                  <a:pt x="15176" y="16097"/>
                </a:cubicBezTo>
                <a:cubicBezTo>
                  <a:pt x="15246" y="16114"/>
                  <a:pt x="15299" y="16130"/>
                  <a:pt x="15367" y="16097"/>
                </a:cubicBezTo>
                <a:cubicBezTo>
                  <a:pt x="15424" y="16069"/>
                  <a:pt x="15524" y="15995"/>
                  <a:pt x="15558" y="15938"/>
                </a:cubicBezTo>
                <a:cubicBezTo>
                  <a:pt x="15580" y="15901"/>
                  <a:pt x="15589" y="15859"/>
                  <a:pt x="15589" y="15812"/>
                </a:cubicBezTo>
                <a:cubicBezTo>
                  <a:pt x="15589" y="15772"/>
                  <a:pt x="15557" y="15758"/>
                  <a:pt x="15526" y="15748"/>
                </a:cubicBezTo>
                <a:cubicBezTo>
                  <a:pt x="15473" y="15801"/>
                  <a:pt x="15443" y="15849"/>
                  <a:pt x="15399" y="15907"/>
                </a:cubicBezTo>
                <a:cubicBezTo>
                  <a:pt x="15361" y="15958"/>
                  <a:pt x="15348" y="16060"/>
                  <a:pt x="15367" y="16129"/>
                </a:cubicBezTo>
                <a:cubicBezTo>
                  <a:pt x="15396" y="16231"/>
                  <a:pt x="15507" y="16300"/>
                  <a:pt x="15589" y="16351"/>
                </a:cubicBezTo>
              </a:path>
              <a:path w="3621" h="1303">
                <a:moveTo>
                  <a:pt x="15875" y="15780"/>
                </a:moveTo>
                <a:cubicBezTo>
                  <a:pt x="15875" y="15854"/>
                  <a:pt x="15885" y="15934"/>
                  <a:pt x="15907" y="16002"/>
                </a:cubicBezTo>
                <a:cubicBezTo>
                  <a:pt x="15928" y="16066"/>
                  <a:pt x="15937" y="16169"/>
                  <a:pt x="15970" y="16224"/>
                </a:cubicBezTo>
                <a:cubicBezTo>
                  <a:pt x="15982" y="16245"/>
                  <a:pt x="16075" y="16284"/>
                  <a:pt x="16097" y="16256"/>
                </a:cubicBezTo>
                <a:cubicBezTo>
                  <a:pt x="16113" y="16235"/>
                  <a:pt x="16185" y="16094"/>
                  <a:pt x="16192" y="16066"/>
                </a:cubicBezTo>
                <a:cubicBezTo>
                  <a:pt x="16210" y="15997"/>
                  <a:pt x="16237" y="15939"/>
                  <a:pt x="16256" y="15875"/>
                </a:cubicBezTo>
                <a:cubicBezTo>
                  <a:pt x="16268" y="15836"/>
                  <a:pt x="16260" y="15794"/>
                  <a:pt x="16288" y="15780"/>
                </a:cubicBezTo>
                <a:cubicBezTo>
                  <a:pt x="16334" y="15757"/>
                  <a:pt x="16342" y="15786"/>
                  <a:pt x="16351" y="15812"/>
                </a:cubicBezTo>
              </a:path>
              <a:path w="3621" h="1303">
                <a:moveTo>
                  <a:pt x="16383" y="16002"/>
                </a:moveTo>
                <a:cubicBezTo>
                  <a:pt x="16427" y="16017"/>
                  <a:pt x="16421" y="16047"/>
                  <a:pt x="16478" y="16066"/>
                </a:cubicBezTo>
                <a:cubicBezTo>
                  <a:pt x="16535" y="16085"/>
                  <a:pt x="16597" y="16070"/>
                  <a:pt x="16637" y="16034"/>
                </a:cubicBezTo>
                <a:cubicBezTo>
                  <a:pt x="16689" y="15988"/>
                  <a:pt x="16725" y="15945"/>
                  <a:pt x="16732" y="15875"/>
                </a:cubicBezTo>
                <a:cubicBezTo>
                  <a:pt x="16737" y="15825"/>
                  <a:pt x="16721" y="15771"/>
                  <a:pt x="16669" y="15748"/>
                </a:cubicBezTo>
                <a:cubicBezTo>
                  <a:pt x="16596" y="15715"/>
                  <a:pt x="16576" y="15771"/>
                  <a:pt x="16542" y="15812"/>
                </a:cubicBezTo>
                <a:cubicBezTo>
                  <a:pt x="16480" y="15887"/>
                  <a:pt x="16478" y="15898"/>
                  <a:pt x="16478" y="16002"/>
                </a:cubicBezTo>
                <a:cubicBezTo>
                  <a:pt x="16478" y="16115"/>
                  <a:pt x="16499" y="16148"/>
                  <a:pt x="16574" y="16224"/>
                </a:cubicBezTo>
                <a:cubicBezTo>
                  <a:pt x="16602" y="16253"/>
                  <a:pt x="16608" y="16264"/>
                  <a:pt x="16637" y="16256"/>
                </a:cubicBezTo>
              </a:path>
              <a:path w="3621" h="1303">
                <a:moveTo>
                  <a:pt x="16859" y="15748"/>
                </a:moveTo>
                <a:cubicBezTo>
                  <a:pt x="16859" y="15883"/>
                  <a:pt x="16852" y="16013"/>
                  <a:pt x="16891" y="16129"/>
                </a:cubicBezTo>
                <a:cubicBezTo>
                  <a:pt x="16891" y="16140"/>
                  <a:pt x="16891" y="16150"/>
                  <a:pt x="16891" y="16161"/>
                </a:cubicBezTo>
                <a:cubicBezTo>
                  <a:pt x="16973" y="16161"/>
                  <a:pt x="16978" y="16141"/>
                  <a:pt x="17018" y="16066"/>
                </a:cubicBezTo>
                <a:cubicBezTo>
                  <a:pt x="17050" y="16005"/>
                  <a:pt x="17129" y="15903"/>
                  <a:pt x="17145" y="15843"/>
                </a:cubicBezTo>
                <a:cubicBezTo>
                  <a:pt x="17145" y="15790"/>
                  <a:pt x="17145" y="15780"/>
                  <a:pt x="17145" y="15748"/>
                </a:cubicBezTo>
                <a:cubicBezTo>
                  <a:pt x="17145" y="15843"/>
                  <a:pt x="17126" y="15910"/>
                  <a:pt x="17113" y="16002"/>
                </a:cubicBezTo>
                <a:cubicBezTo>
                  <a:pt x="17098" y="16107"/>
                  <a:pt x="17087" y="16215"/>
                  <a:pt x="17082" y="16320"/>
                </a:cubicBezTo>
                <a:cubicBezTo>
                  <a:pt x="17078" y="16404"/>
                  <a:pt x="17035" y="16545"/>
                  <a:pt x="16986" y="16605"/>
                </a:cubicBezTo>
                <a:cubicBezTo>
                  <a:pt x="16964" y="16633"/>
                  <a:pt x="16896" y="16658"/>
                  <a:pt x="16859" y="16637"/>
                </a:cubicBezTo>
                <a:cubicBezTo>
                  <a:pt x="16814" y="16611"/>
                  <a:pt x="16787" y="16550"/>
                  <a:pt x="16764" y="16510"/>
                </a:cubicBezTo>
                <a:cubicBezTo>
                  <a:pt x="16729" y="16448"/>
                  <a:pt x="16732" y="16417"/>
                  <a:pt x="16732" y="16351"/>
                </a:cubicBezTo>
                <a:cubicBezTo>
                  <a:pt x="16856" y="16351"/>
                  <a:pt x="16961" y="16370"/>
                  <a:pt x="17082" y="16383"/>
                </a:cubicBezTo>
                <a:cubicBezTo>
                  <a:pt x="17114" y="16383"/>
                  <a:pt x="17145" y="16383"/>
                  <a:pt x="17177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52"/>
          <p:cNvSpPr/>
          <p:nvPr/>
        </p:nvSpPr>
        <p:spPr>
          <a:xfrm>
            <a:off x="6618240" y="5303880"/>
            <a:ext cx="2079720" cy="949320"/>
          </a:xfrm>
          <a:custGeom>
            <a:avLst/>
            <a:gdLst/>
            <a:ahLst/>
            <a:rect l="l" t="t" r="r" b="b"/>
            <a:pathLst>
              <a:path w="5780" h="2636">
                <a:moveTo>
                  <a:pt x="19653" y="16510"/>
                </a:moveTo>
                <a:cubicBezTo>
                  <a:pt x="19643" y="16521"/>
                  <a:pt x="19632" y="16531"/>
                  <a:pt x="19622" y="16542"/>
                </a:cubicBezTo>
                <a:cubicBezTo>
                  <a:pt x="19638" y="16548"/>
                  <a:pt x="19727" y="16612"/>
                  <a:pt x="19748" y="16637"/>
                </a:cubicBezTo>
                <a:cubicBezTo>
                  <a:pt x="19804" y="16701"/>
                  <a:pt x="19818" y="16794"/>
                  <a:pt x="19876" y="16859"/>
                </a:cubicBezTo>
                <a:cubicBezTo>
                  <a:pt x="19925" y="16913"/>
                  <a:pt x="19959" y="16961"/>
                  <a:pt x="20002" y="17018"/>
                </a:cubicBezTo>
                <a:cubicBezTo>
                  <a:pt x="20013" y="17029"/>
                  <a:pt x="20023" y="17039"/>
                  <a:pt x="20034" y="17050"/>
                </a:cubicBezTo>
              </a:path>
              <a:path w="5780" h="2636">
                <a:moveTo>
                  <a:pt x="20066" y="16383"/>
                </a:moveTo>
                <a:cubicBezTo>
                  <a:pt x="19999" y="16400"/>
                  <a:pt x="19980" y="16470"/>
                  <a:pt x="19971" y="16542"/>
                </a:cubicBezTo>
                <a:cubicBezTo>
                  <a:pt x="19952" y="16687"/>
                  <a:pt x="19923" y="16813"/>
                  <a:pt x="19876" y="16954"/>
                </a:cubicBezTo>
                <a:cubicBezTo>
                  <a:pt x="19831" y="17091"/>
                  <a:pt x="19794" y="17230"/>
                  <a:pt x="19748" y="17367"/>
                </a:cubicBezTo>
              </a:path>
              <a:path w="5780" h="2636">
                <a:moveTo>
                  <a:pt x="23178" y="16066"/>
                </a:moveTo>
                <a:cubicBezTo>
                  <a:pt x="23178" y="16097"/>
                  <a:pt x="23178" y="16108"/>
                  <a:pt x="23146" y="16097"/>
                </a:cubicBezTo>
              </a:path>
              <a:path w="5780" h="2636">
                <a:moveTo>
                  <a:pt x="18415" y="15367"/>
                </a:moveTo>
                <a:cubicBezTo>
                  <a:pt x="18408" y="15412"/>
                  <a:pt x="18379" y="15456"/>
                  <a:pt x="18383" y="15494"/>
                </a:cubicBezTo>
                <a:cubicBezTo>
                  <a:pt x="18390" y="15560"/>
                  <a:pt x="18415" y="15604"/>
                  <a:pt x="18415" y="15684"/>
                </a:cubicBezTo>
                <a:cubicBezTo>
                  <a:pt x="18415" y="15798"/>
                  <a:pt x="18428" y="15906"/>
                  <a:pt x="18447" y="16002"/>
                </a:cubicBezTo>
                <a:cubicBezTo>
                  <a:pt x="18464" y="16089"/>
                  <a:pt x="18444" y="16059"/>
                  <a:pt x="18478" y="16129"/>
                </a:cubicBezTo>
                <a:cubicBezTo>
                  <a:pt x="18553" y="16118"/>
                  <a:pt x="18537" y="16125"/>
                  <a:pt x="18574" y="16066"/>
                </a:cubicBezTo>
                <a:cubicBezTo>
                  <a:pt x="18635" y="15970"/>
                  <a:pt x="18640" y="15909"/>
                  <a:pt x="18669" y="15812"/>
                </a:cubicBezTo>
                <a:cubicBezTo>
                  <a:pt x="18692" y="15737"/>
                  <a:pt x="18701" y="15625"/>
                  <a:pt x="18732" y="15558"/>
                </a:cubicBezTo>
                <a:cubicBezTo>
                  <a:pt x="18755" y="15509"/>
                  <a:pt x="18747" y="15481"/>
                  <a:pt x="18764" y="15430"/>
                </a:cubicBezTo>
                <a:cubicBezTo>
                  <a:pt x="18764" y="15441"/>
                  <a:pt x="18764" y="15451"/>
                  <a:pt x="18764" y="15462"/>
                </a:cubicBezTo>
                <a:cubicBezTo>
                  <a:pt x="18806" y="15532"/>
                  <a:pt x="18796" y="15597"/>
                  <a:pt x="18796" y="15684"/>
                </a:cubicBezTo>
                <a:cubicBezTo>
                  <a:pt x="18796" y="15807"/>
                  <a:pt x="18823" y="15915"/>
                  <a:pt x="18828" y="16034"/>
                </a:cubicBezTo>
                <a:cubicBezTo>
                  <a:pt x="18837" y="16239"/>
                  <a:pt x="18829" y="16444"/>
                  <a:pt x="18796" y="16637"/>
                </a:cubicBezTo>
                <a:cubicBezTo>
                  <a:pt x="18778" y="16744"/>
                  <a:pt x="18767" y="16770"/>
                  <a:pt x="18701" y="16828"/>
                </a:cubicBezTo>
                <a:cubicBezTo>
                  <a:pt x="18621" y="16801"/>
                  <a:pt x="18663" y="16844"/>
                  <a:pt x="18637" y="16764"/>
                </a:cubicBezTo>
                <a:cubicBezTo>
                  <a:pt x="18594" y="16632"/>
                  <a:pt x="18618" y="16611"/>
                  <a:pt x="18637" y="16478"/>
                </a:cubicBezTo>
                <a:cubicBezTo>
                  <a:pt x="18650" y="16382"/>
                  <a:pt x="18688" y="16313"/>
                  <a:pt x="18732" y="16224"/>
                </a:cubicBezTo>
                <a:cubicBezTo>
                  <a:pt x="18773" y="16141"/>
                  <a:pt x="18828" y="16070"/>
                  <a:pt x="18891" y="16002"/>
                </a:cubicBezTo>
                <a:cubicBezTo>
                  <a:pt x="18951" y="15937"/>
                  <a:pt x="18995" y="15877"/>
                  <a:pt x="19050" y="15812"/>
                </a:cubicBezTo>
                <a:cubicBezTo>
                  <a:pt x="19090" y="15765"/>
                  <a:pt x="19144" y="15723"/>
                  <a:pt x="19177" y="15684"/>
                </a:cubicBezTo>
                <a:cubicBezTo>
                  <a:pt x="19204" y="15652"/>
                  <a:pt x="19243" y="15619"/>
                  <a:pt x="19240" y="15589"/>
                </a:cubicBezTo>
                <a:cubicBezTo>
                  <a:pt x="19236" y="15551"/>
                  <a:pt x="19227" y="15557"/>
                  <a:pt x="19209" y="15526"/>
                </a:cubicBezTo>
                <a:cubicBezTo>
                  <a:pt x="19141" y="15536"/>
                  <a:pt x="19135" y="15537"/>
                  <a:pt x="19082" y="15589"/>
                </a:cubicBezTo>
                <a:cubicBezTo>
                  <a:pt x="19009" y="15661"/>
                  <a:pt x="18980" y="15688"/>
                  <a:pt x="18955" y="15780"/>
                </a:cubicBezTo>
                <a:cubicBezTo>
                  <a:pt x="18943" y="15825"/>
                  <a:pt x="18907" y="15886"/>
                  <a:pt x="18923" y="15938"/>
                </a:cubicBezTo>
                <a:cubicBezTo>
                  <a:pt x="18938" y="15985"/>
                  <a:pt x="18972" y="16023"/>
                  <a:pt x="19018" y="16034"/>
                </a:cubicBezTo>
                <a:cubicBezTo>
                  <a:pt x="19076" y="16047"/>
                  <a:pt x="19102" y="16028"/>
                  <a:pt x="19145" y="16002"/>
                </a:cubicBezTo>
              </a:path>
              <a:path w="5780" h="2636">
                <a:moveTo>
                  <a:pt x="19463" y="15621"/>
                </a:moveTo>
                <a:cubicBezTo>
                  <a:pt x="19447" y="15573"/>
                  <a:pt x="19425" y="15589"/>
                  <a:pt x="19368" y="15589"/>
                </a:cubicBezTo>
                <a:cubicBezTo>
                  <a:pt x="19368" y="15648"/>
                  <a:pt x="19340" y="15664"/>
                  <a:pt x="19336" y="15716"/>
                </a:cubicBezTo>
                <a:cubicBezTo>
                  <a:pt x="19333" y="15759"/>
                  <a:pt x="19347" y="15869"/>
                  <a:pt x="19368" y="15907"/>
                </a:cubicBezTo>
                <a:cubicBezTo>
                  <a:pt x="19405" y="15975"/>
                  <a:pt x="19447" y="15929"/>
                  <a:pt x="19463" y="15907"/>
                </a:cubicBezTo>
                <a:cubicBezTo>
                  <a:pt x="19504" y="15852"/>
                  <a:pt x="19520" y="15820"/>
                  <a:pt x="19526" y="15748"/>
                </a:cubicBezTo>
                <a:cubicBezTo>
                  <a:pt x="19530" y="15698"/>
                  <a:pt x="19499" y="15646"/>
                  <a:pt x="19526" y="15684"/>
                </a:cubicBezTo>
                <a:cubicBezTo>
                  <a:pt x="19559" y="15730"/>
                  <a:pt x="19586" y="15781"/>
                  <a:pt x="19590" y="15843"/>
                </a:cubicBezTo>
                <a:cubicBezTo>
                  <a:pt x="19595" y="15915"/>
                  <a:pt x="19613" y="15947"/>
                  <a:pt x="19653" y="16002"/>
                </a:cubicBezTo>
              </a:path>
              <a:path w="5780" h="2636">
                <a:moveTo>
                  <a:pt x="19685" y="15621"/>
                </a:moveTo>
                <a:cubicBezTo>
                  <a:pt x="19716" y="15559"/>
                  <a:pt x="19725" y="15649"/>
                  <a:pt x="19748" y="15684"/>
                </a:cubicBezTo>
                <a:cubicBezTo>
                  <a:pt x="19775" y="15725"/>
                  <a:pt x="19788" y="15776"/>
                  <a:pt x="19812" y="15812"/>
                </a:cubicBezTo>
                <a:cubicBezTo>
                  <a:pt x="19823" y="15822"/>
                  <a:pt x="19833" y="15833"/>
                  <a:pt x="19844" y="15843"/>
                </a:cubicBezTo>
                <a:cubicBezTo>
                  <a:pt x="19844" y="15682"/>
                  <a:pt x="19829" y="15508"/>
                  <a:pt x="19876" y="15367"/>
                </a:cubicBezTo>
                <a:cubicBezTo>
                  <a:pt x="19893" y="15316"/>
                  <a:pt x="19909" y="15279"/>
                  <a:pt x="19971" y="15272"/>
                </a:cubicBezTo>
                <a:cubicBezTo>
                  <a:pt x="20030" y="15265"/>
                  <a:pt x="20054" y="15271"/>
                  <a:pt x="20098" y="15304"/>
                </a:cubicBezTo>
              </a:path>
              <a:path w="5780" h="2636">
                <a:moveTo>
                  <a:pt x="20764" y="14859"/>
                </a:moveTo>
                <a:cubicBezTo>
                  <a:pt x="20764" y="15003"/>
                  <a:pt x="20781" y="15132"/>
                  <a:pt x="20796" y="15272"/>
                </a:cubicBezTo>
                <a:cubicBezTo>
                  <a:pt x="20810" y="15401"/>
                  <a:pt x="20810" y="15526"/>
                  <a:pt x="20828" y="15653"/>
                </a:cubicBezTo>
                <a:cubicBezTo>
                  <a:pt x="20839" y="15731"/>
                  <a:pt x="20840" y="15816"/>
                  <a:pt x="20796" y="15875"/>
                </a:cubicBezTo>
              </a:path>
              <a:path w="5780" h="2636">
                <a:moveTo>
                  <a:pt x="20638" y="14859"/>
                </a:moveTo>
                <a:cubicBezTo>
                  <a:pt x="20709" y="14845"/>
                  <a:pt x="20752" y="14827"/>
                  <a:pt x="20828" y="14827"/>
                </a:cubicBezTo>
                <a:cubicBezTo>
                  <a:pt x="20908" y="14827"/>
                  <a:pt x="20978" y="14830"/>
                  <a:pt x="21050" y="14859"/>
                </a:cubicBezTo>
                <a:cubicBezTo>
                  <a:pt x="21143" y="14896"/>
                  <a:pt x="21198" y="14954"/>
                  <a:pt x="21209" y="15050"/>
                </a:cubicBezTo>
                <a:cubicBezTo>
                  <a:pt x="21224" y="15182"/>
                  <a:pt x="21208" y="15305"/>
                  <a:pt x="21177" y="15430"/>
                </a:cubicBezTo>
                <a:cubicBezTo>
                  <a:pt x="21149" y="15546"/>
                  <a:pt x="21093" y="15683"/>
                  <a:pt x="21018" y="15780"/>
                </a:cubicBezTo>
                <a:cubicBezTo>
                  <a:pt x="21001" y="15801"/>
                  <a:pt x="20899" y="15903"/>
                  <a:pt x="20892" y="15907"/>
                </a:cubicBezTo>
                <a:cubicBezTo>
                  <a:pt x="20860" y="15907"/>
                  <a:pt x="20849" y="15907"/>
                  <a:pt x="20860" y="15875"/>
                </a:cubicBezTo>
              </a:path>
              <a:path w="5780" h="2636">
                <a:moveTo>
                  <a:pt x="21336" y="15113"/>
                </a:moveTo>
                <a:cubicBezTo>
                  <a:pt x="21371" y="15113"/>
                  <a:pt x="21323" y="15145"/>
                  <a:pt x="21304" y="15240"/>
                </a:cubicBezTo>
                <a:cubicBezTo>
                  <a:pt x="21288" y="15320"/>
                  <a:pt x="21245" y="15377"/>
                  <a:pt x="21241" y="15462"/>
                </a:cubicBezTo>
                <a:cubicBezTo>
                  <a:pt x="21236" y="15589"/>
                  <a:pt x="21221" y="15657"/>
                  <a:pt x="21241" y="15780"/>
                </a:cubicBezTo>
                <a:cubicBezTo>
                  <a:pt x="21253" y="15855"/>
                  <a:pt x="21233" y="15857"/>
                  <a:pt x="21304" y="15875"/>
                </a:cubicBezTo>
                <a:cubicBezTo>
                  <a:pt x="21365" y="15799"/>
                  <a:pt x="21377" y="15742"/>
                  <a:pt x="21400" y="15653"/>
                </a:cubicBezTo>
                <a:cubicBezTo>
                  <a:pt x="21436" y="15514"/>
                  <a:pt x="21463" y="15418"/>
                  <a:pt x="21463" y="15272"/>
                </a:cubicBezTo>
                <a:cubicBezTo>
                  <a:pt x="21463" y="15198"/>
                  <a:pt x="21463" y="15124"/>
                  <a:pt x="21463" y="15050"/>
                </a:cubicBezTo>
                <a:cubicBezTo>
                  <a:pt x="21477" y="15104"/>
                  <a:pt x="21477" y="15185"/>
                  <a:pt x="21495" y="15240"/>
                </a:cubicBezTo>
                <a:cubicBezTo>
                  <a:pt x="21513" y="15296"/>
                  <a:pt x="21566" y="15410"/>
                  <a:pt x="21590" y="15462"/>
                </a:cubicBezTo>
                <a:cubicBezTo>
                  <a:pt x="21612" y="15510"/>
                  <a:pt x="21674" y="15571"/>
                  <a:pt x="21685" y="15621"/>
                </a:cubicBezTo>
                <a:cubicBezTo>
                  <a:pt x="21696" y="15673"/>
                  <a:pt x="21685" y="15769"/>
                  <a:pt x="21685" y="15716"/>
                </a:cubicBezTo>
                <a:cubicBezTo>
                  <a:pt x="21685" y="15640"/>
                  <a:pt x="21631" y="15578"/>
                  <a:pt x="21654" y="15494"/>
                </a:cubicBezTo>
                <a:cubicBezTo>
                  <a:pt x="21679" y="15401"/>
                  <a:pt x="21687" y="15297"/>
                  <a:pt x="21717" y="15208"/>
                </a:cubicBezTo>
                <a:cubicBezTo>
                  <a:pt x="21736" y="15151"/>
                  <a:pt x="21772" y="15122"/>
                  <a:pt x="21812" y="15081"/>
                </a:cubicBezTo>
                <a:cubicBezTo>
                  <a:pt x="21863" y="15098"/>
                  <a:pt x="21890" y="15123"/>
                  <a:pt x="21908" y="15208"/>
                </a:cubicBezTo>
                <a:cubicBezTo>
                  <a:pt x="21933" y="15324"/>
                  <a:pt x="21939" y="15437"/>
                  <a:pt x="21939" y="15558"/>
                </a:cubicBezTo>
                <a:cubicBezTo>
                  <a:pt x="21939" y="15685"/>
                  <a:pt x="21941" y="15799"/>
                  <a:pt x="21971" y="15907"/>
                </a:cubicBezTo>
                <a:cubicBezTo>
                  <a:pt x="21971" y="15938"/>
                  <a:pt x="21971" y="15949"/>
                  <a:pt x="22003" y="15938"/>
                </a:cubicBezTo>
              </a:path>
              <a:path w="5780" h="2636">
                <a:moveTo>
                  <a:pt x="22542" y="15081"/>
                </a:moveTo>
                <a:cubicBezTo>
                  <a:pt x="22508" y="15047"/>
                  <a:pt x="22399" y="14977"/>
                  <a:pt x="22384" y="14954"/>
                </a:cubicBezTo>
                <a:cubicBezTo>
                  <a:pt x="22384" y="14943"/>
                  <a:pt x="22384" y="14933"/>
                  <a:pt x="22384" y="14922"/>
                </a:cubicBezTo>
                <a:cubicBezTo>
                  <a:pt x="22341" y="14965"/>
                  <a:pt x="22295" y="15017"/>
                  <a:pt x="22288" y="15081"/>
                </a:cubicBezTo>
                <a:cubicBezTo>
                  <a:pt x="22271" y="15235"/>
                  <a:pt x="22243" y="15558"/>
                  <a:pt x="22320" y="15684"/>
                </a:cubicBezTo>
                <a:cubicBezTo>
                  <a:pt x="22394" y="15666"/>
                  <a:pt x="22419" y="15599"/>
                  <a:pt x="22447" y="15526"/>
                </a:cubicBezTo>
                <a:cubicBezTo>
                  <a:pt x="22494" y="15404"/>
                  <a:pt x="22525" y="15272"/>
                  <a:pt x="22542" y="15145"/>
                </a:cubicBezTo>
                <a:cubicBezTo>
                  <a:pt x="22549" y="15092"/>
                  <a:pt x="22542" y="14997"/>
                  <a:pt x="22542" y="15050"/>
                </a:cubicBezTo>
                <a:cubicBezTo>
                  <a:pt x="22542" y="15236"/>
                  <a:pt x="22549" y="15409"/>
                  <a:pt x="22574" y="15589"/>
                </a:cubicBezTo>
                <a:cubicBezTo>
                  <a:pt x="22583" y="15652"/>
                  <a:pt x="22592" y="15662"/>
                  <a:pt x="22606" y="15716"/>
                </a:cubicBezTo>
              </a:path>
              <a:path w="5780" h="2636">
                <a:moveTo>
                  <a:pt x="22860" y="15145"/>
                </a:moveTo>
                <a:cubicBezTo>
                  <a:pt x="22860" y="15055"/>
                  <a:pt x="22871" y="14993"/>
                  <a:pt x="22828" y="14922"/>
                </a:cubicBezTo>
                <a:cubicBezTo>
                  <a:pt x="22733" y="14977"/>
                  <a:pt x="22758" y="14957"/>
                  <a:pt x="22733" y="15081"/>
                </a:cubicBezTo>
                <a:cubicBezTo>
                  <a:pt x="22701" y="15238"/>
                  <a:pt x="22670" y="15365"/>
                  <a:pt x="22670" y="15526"/>
                </a:cubicBezTo>
                <a:cubicBezTo>
                  <a:pt x="22670" y="15621"/>
                  <a:pt x="22686" y="15677"/>
                  <a:pt x="22733" y="15748"/>
                </a:cubicBezTo>
                <a:cubicBezTo>
                  <a:pt x="22796" y="15711"/>
                  <a:pt x="22819" y="15698"/>
                  <a:pt x="22860" y="15621"/>
                </a:cubicBezTo>
                <a:cubicBezTo>
                  <a:pt x="22906" y="15535"/>
                  <a:pt x="22899" y="15427"/>
                  <a:pt x="22924" y="15335"/>
                </a:cubicBezTo>
                <a:cubicBezTo>
                  <a:pt x="22957" y="15385"/>
                  <a:pt x="23005" y="15463"/>
                  <a:pt x="23019" y="15526"/>
                </a:cubicBezTo>
                <a:cubicBezTo>
                  <a:pt x="23047" y="15649"/>
                  <a:pt x="23077" y="15779"/>
                  <a:pt x="23082" y="15907"/>
                </a:cubicBezTo>
                <a:cubicBezTo>
                  <a:pt x="23089" y="16089"/>
                  <a:pt x="23096" y="16231"/>
                  <a:pt x="23082" y="16415"/>
                </a:cubicBezTo>
                <a:cubicBezTo>
                  <a:pt x="23071" y="16561"/>
                  <a:pt x="23100" y="16694"/>
                  <a:pt x="23019" y="16828"/>
                </a:cubicBezTo>
                <a:cubicBezTo>
                  <a:pt x="22993" y="16871"/>
                  <a:pt x="22956" y="16873"/>
                  <a:pt x="22924" y="16891"/>
                </a:cubicBezTo>
                <a:cubicBezTo>
                  <a:pt x="22901" y="16816"/>
                  <a:pt x="22868" y="16720"/>
                  <a:pt x="22860" y="16637"/>
                </a:cubicBezTo>
                <a:cubicBezTo>
                  <a:pt x="22846" y="16496"/>
                  <a:pt x="22898" y="16299"/>
                  <a:pt x="22924" y="16161"/>
                </a:cubicBezTo>
                <a:cubicBezTo>
                  <a:pt x="22954" y="16001"/>
                  <a:pt x="23029" y="15862"/>
                  <a:pt x="23082" y="15716"/>
                </a:cubicBezTo>
                <a:cubicBezTo>
                  <a:pt x="23131" y="15581"/>
                  <a:pt x="23158" y="15451"/>
                  <a:pt x="23241" y="15335"/>
                </a:cubicBezTo>
                <a:cubicBezTo>
                  <a:pt x="23304" y="15246"/>
                  <a:pt x="23376" y="15163"/>
                  <a:pt x="23400" y="15050"/>
                </a:cubicBezTo>
                <a:cubicBezTo>
                  <a:pt x="23409" y="15008"/>
                  <a:pt x="23447" y="14937"/>
                  <a:pt x="23432" y="14891"/>
                </a:cubicBezTo>
                <a:cubicBezTo>
                  <a:pt x="23400" y="14891"/>
                  <a:pt x="23389" y="14891"/>
                  <a:pt x="23400" y="14859"/>
                </a:cubicBezTo>
                <a:cubicBezTo>
                  <a:pt x="23315" y="14895"/>
                  <a:pt x="23362" y="14844"/>
                  <a:pt x="23304" y="14954"/>
                </a:cubicBezTo>
                <a:cubicBezTo>
                  <a:pt x="23241" y="15074"/>
                  <a:pt x="23193" y="15234"/>
                  <a:pt x="23178" y="15367"/>
                </a:cubicBezTo>
                <a:cubicBezTo>
                  <a:pt x="23163" y="15495"/>
                  <a:pt x="23138" y="15760"/>
                  <a:pt x="23209" y="15875"/>
                </a:cubicBezTo>
                <a:cubicBezTo>
                  <a:pt x="23220" y="15886"/>
                  <a:pt x="23230" y="15896"/>
                  <a:pt x="23241" y="15907"/>
                </a:cubicBezTo>
                <a:cubicBezTo>
                  <a:pt x="23299" y="15883"/>
                  <a:pt x="23360" y="15874"/>
                  <a:pt x="23400" y="15812"/>
                </a:cubicBezTo>
                <a:cubicBezTo>
                  <a:pt x="23458" y="15722"/>
                  <a:pt x="23506" y="15620"/>
                  <a:pt x="23558" y="15526"/>
                </a:cubicBezTo>
              </a:path>
              <a:path w="5780" h="2636">
                <a:moveTo>
                  <a:pt x="23717" y="14891"/>
                </a:moveTo>
                <a:cubicBezTo>
                  <a:pt x="23717" y="14817"/>
                  <a:pt x="23727" y="14788"/>
                  <a:pt x="23686" y="14732"/>
                </a:cubicBezTo>
                <a:cubicBezTo>
                  <a:pt x="23620" y="14798"/>
                  <a:pt x="23618" y="14811"/>
                  <a:pt x="23590" y="14891"/>
                </a:cubicBezTo>
                <a:cubicBezTo>
                  <a:pt x="23563" y="14967"/>
                  <a:pt x="23499" y="15032"/>
                  <a:pt x="23495" y="15113"/>
                </a:cubicBezTo>
                <a:cubicBezTo>
                  <a:pt x="23492" y="15165"/>
                  <a:pt x="23503" y="15244"/>
                  <a:pt x="23558" y="15272"/>
                </a:cubicBezTo>
                <a:cubicBezTo>
                  <a:pt x="23612" y="15299"/>
                  <a:pt x="23650" y="15304"/>
                  <a:pt x="23717" y="15304"/>
                </a:cubicBezTo>
                <a:cubicBezTo>
                  <a:pt x="23762" y="15304"/>
                  <a:pt x="23811" y="15338"/>
                  <a:pt x="23844" y="15367"/>
                </a:cubicBezTo>
                <a:cubicBezTo>
                  <a:pt x="23909" y="15425"/>
                  <a:pt x="23908" y="15440"/>
                  <a:pt x="23908" y="15526"/>
                </a:cubicBezTo>
                <a:cubicBezTo>
                  <a:pt x="23908" y="15610"/>
                  <a:pt x="23852" y="15675"/>
                  <a:pt x="23812" y="15748"/>
                </a:cubicBezTo>
                <a:cubicBezTo>
                  <a:pt x="23774" y="15817"/>
                  <a:pt x="23802" y="15826"/>
                  <a:pt x="23749" y="15843"/>
                </a:cubicBezTo>
                <a:cubicBezTo>
                  <a:pt x="23749" y="15801"/>
                  <a:pt x="23749" y="15780"/>
                  <a:pt x="23749" y="15748"/>
                </a:cubicBezTo>
              </a:path>
              <a:path w="5780" h="2636">
                <a:moveTo>
                  <a:pt x="24162" y="15716"/>
                </a:moveTo>
                <a:cubicBezTo>
                  <a:pt x="24162" y="15811"/>
                  <a:pt x="24162" y="15907"/>
                  <a:pt x="24162" y="16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53"/>
          <p:cNvSpPr/>
          <p:nvPr/>
        </p:nvSpPr>
        <p:spPr>
          <a:xfrm>
            <a:off x="6308640" y="5692680"/>
            <a:ext cx="1932120" cy="217440"/>
          </a:xfrm>
          <a:custGeom>
            <a:avLst/>
            <a:gdLst/>
            <a:ahLst/>
            <a:rect l="l" t="t" r="r" b="b"/>
            <a:pathLst>
              <a:path w="5367" h="604">
                <a:moveTo>
                  <a:pt x="17526" y="16383"/>
                </a:moveTo>
                <a:cubicBezTo>
                  <a:pt x="17573" y="16387"/>
                  <a:pt x="17620" y="16411"/>
                  <a:pt x="17653" y="16415"/>
                </a:cubicBezTo>
                <a:cubicBezTo>
                  <a:pt x="17729" y="16424"/>
                  <a:pt x="17787" y="16389"/>
                  <a:pt x="17844" y="16383"/>
                </a:cubicBezTo>
                <a:cubicBezTo>
                  <a:pt x="17940" y="16372"/>
                  <a:pt x="18006" y="16378"/>
                  <a:pt x="18098" y="16351"/>
                </a:cubicBezTo>
                <a:cubicBezTo>
                  <a:pt x="18194" y="16323"/>
                  <a:pt x="18287" y="16283"/>
                  <a:pt x="18383" y="16256"/>
                </a:cubicBezTo>
                <a:cubicBezTo>
                  <a:pt x="18502" y="16223"/>
                  <a:pt x="18608" y="16211"/>
                  <a:pt x="18732" y="16192"/>
                </a:cubicBezTo>
                <a:cubicBezTo>
                  <a:pt x="18841" y="16175"/>
                  <a:pt x="18936" y="16133"/>
                  <a:pt x="19050" y="16129"/>
                </a:cubicBezTo>
                <a:cubicBezTo>
                  <a:pt x="19172" y="16125"/>
                  <a:pt x="19278" y="16079"/>
                  <a:pt x="19399" y="16066"/>
                </a:cubicBezTo>
                <a:cubicBezTo>
                  <a:pt x="19528" y="16052"/>
                  <a:pt x="19653" y="16016"/>
                  <a:pt x="19780" y="16002"/>
                </a:cubicBezTo>
                <a:cubicBezTo>
                  <a:pt x="19919" y="15987"/>
                  <a:pt x="20054" y="15952"/>
                  <a:pt x="20193" y="15938"/>
                </a:cubicBezTo>
                <a:cubicBezTo>
                  <a:pt x="20309" y="15926"/>
                  <a:pt x="20497" y="15900"/>
                  <a:pt x="20606" y="15907"/>
                </a:cubicBezTo>
                <a:cubicBezTo>
                  <a:pt x="20742" y="15916"/>
                  <a:pt x="20876" y="15938"/>
                  <a:pt x="21018" y="15938"/>
                </a:cubicBezTo>
                <a:cubicBezTo>
                  <a:pt x="21192" y="15938"/>
                  <a:pt x="21358" y="15922"/>
                  <a:pt x="21526" y="15907"/>
                </a:cubicBezTo>
                <a:cubicBezTo>
                  <a:pt x="21664" y="15894"/>
                  <a:pt x="21803" y="15880"/>
                  <a:pt x="21939" y="15875"/>
                </a:cubicBezTo>
                <a:cubicBezTo>
                  <a:pt x="22070" y="15870"/>
                  <a:pt x="22186" y="15843"/>
                  <a:pt x="22320" y="15843"/>
                </a:cubicBezTo>
                <a:cubicBezTo>
                  <a:pt x="22432" y="15843"/>
                  <a:pt x="22543" y="15843"/>
                  <a:pt x="22638" y="15843"/>
                </a:cubicBezTo>
                <a:cubicBezTo>
                  <a:pt x="22738" y="15843"/>
                  <a:pt x="22801" y="15855"/>
                  <a:pt x="22892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54"/>
          <p:cNvSpPr/>
          <p:nvPr/>
        </p:nvSpPr>
        <p:spPr>
          <a:xfrm>
            <a:off x="353880" y="3017880"/>
            <a:ext cx="2961000" cy="765000"/>
          </a:xfrm>
          <a:custGeom>
            <a:avLst/>
            <a:gdLst/>
            <a:ahLst/>
            <a:rect l="l" t="t" r="r" b="b"/>
            <a:pathLst>
              <a:path w="8225" h="2128">
                <a:moveTo>
                  <a:pt x="1429" y="8541"/>
                </a:moveTo>
                <a:cubicBezTo>
                  <a:pt x="1429" y="8499"/>
                  <a:pt x="1429" y="8456"/>
                  <a:pt x="1429" y="8414"/>
                </a:cubicBezTo>
                <a:cubicBezTo>
                  <a:pt x="1429" y="8456"/>
                  <a:pt x="1442" y="8437"/>
                  <a:pt x="1429" y="8477"/>
                </a:cubicBezTo>
                <a:cubicBezTo>
                  <a:pt x="1396" y="8583"/>
                  <a:pt x="1389" y="8687"/>
                  <a:pt x="1365" y="8795"/>
                </a:cubicBezTo>
                <a:cubicBezTo>
                  <a:pt x="1334" y="8935"/>
                  <a:pt x="1307" y="9063"/>
                  <a:pt x="1302" y="9208"/>
                </a:cubicBezTo>
                <a:cubicBezTo>
                  <a:pt x="1298" y="9334"/>
                  <a:pt x="1280" y="9484"/>
                  <a:pt x="1334" y="9588"/>
                </a:cubicBezTo>
                <a:cubicBezTo>
                  <a:pt x="1359" y="9635"/>
                  <a:pt x="1358" y="9624"/>
                  <a:pt x="1397" y="9652"/>
                </a:cubicBezTo>
                <a:cubicBezTo>
                  <a:pt x="1472" y="9598"/>
                  <a:pt x="1486" y="9570"/>
                  <a:pt x="1524" y="9462"/>
                </a:cubicBezTo>
                <a:cubicBezTo>
                  <a:pt x="1572" y="9325"/>
                  <a:pt x="1591" y="9220"/>
                  <a:pt x="1619" y="9080"/>
                </a:cubicBezTo>
                <a:cubicBezTo>
                  <a:pt x="1641" y="8972"/>
                  <a:pt x="1677" y="8871"/>
                  <a:pt x="1683" y="8763"/>
                </a:cubicBezTo>
                <a:cubicBezTo>
                  <a:pt x="1683" y="8742"/>
                  <a:pt x="1683" y="8721"/>
                  <a:pt x="1683" y="8700"/>
                </a:cubicBezTo>
                <a:cubicBezTo>
                  <a:pt x="1658" y="8790"/>
                  <a:pt x="1651" y="8855"/>
                  <a:pt x="1651" y="8954"/>
                </a:cubicBezTo>
                <a:cubicBezTo>
                  <a:pt x="1651" y="9127"/>
                  <a:pt x="1623" y="9290"/>
                  <a:pt x="1619" y="9462"/>
                </a:cubicBezTo>
                <a:cubicBezTo>
                  <a:pt x="1614" y="9657"/>
                  <a:pt x="1604" y="9842"/>
                  <a:pt x="1588" y="10033"/>
                </a:cubicBezTo>
                <a:cubicBezTo>
                  <a:pt x="1575" y="10191"/>
                  <a:pt x="1567" y="10293"/>
                  <a:pt x="1460" y="10414"/>
                </a:cubicBezTo>
                <a:cubicBezTo>
                  <a:pt x="1377" y="10508"/>
                  <a:pt x="1323" y="10509"/>
                  <a:pt x="1206" y="10509"/>
                </a:cubicBezTo>
                <a:cubicBezTo>
                  <a:pt x="1155" y="10509"/>
                  <a:pt x="1004" y="10489"/>
                  <a:pt x="984" y="10414"/>
                </a:cubicBezTo>
                <a:cubicBezTo>
                  <a:pt x="967" y="10350"/>
                  <a:pt x="984" y="10227"/>
                  <a:pt x="984" y="10160"/>
                </a:cubicBezTo>
              </a:path>
              <a:path w="8225" h="2128">
                <a:moveTo>
                  <a:pt x="1778" y="9334"/>
                </a:moveTo>
                <a:cubicBezTo>
                  <a:pt x="1778" y="9324"/>
                  <a:pt x="1778" y="9313"/>
                  <a:pt x="1778" y="9303"/>
                </a:cubicBezTo>
                <a:cubicBezTo>
                  <a:pt x="1808" y="9293"/>
                  <a:pt x="1837" y="9291"/>
                  <a:pt x="1873" y="9271"/>
                </a:cubicBezTo>
                <a:cubicBezTo>
                  <a:pt x="1923" y="9243"/>
                  <a:pt x="1979" y="9223"/>
                  <a:pt x="2032" y="9208"/>
                </a:cubicBezTo>
                <a:cubicBezTo>
                  <a:pt x="2064" y="9208"/>
                  <a:pt x="2075" y="9208"/>
                  <a:pt x="2096" y="9208"/>
                </a:cubicBezTo>
              </a:path>
              <a:path w="8225" h="2128">
                <a:moveTo>
                  <a:pt x="2254" y="8890"/>
                </a:moveTo>
                <a:cubicBezTo>
                  <a:pt x="2254" y="9063"/>
                  <a:pt x="2242" y="9234"/>
                  <a:pt x="2222" y="9398"/>
                </a:cubicBezTo>
                <a:cubicBezTo>
                  <a:pt x="2209" y="9503"/>
                  <a:pt x="2117" y="9608"/>
                  <a:pt x="2191" y="9684"/>
                </a:cubicBezTo>
                <a:cubicBezTo>
                  <a:pt x="2227" y="9684"/>
                  <a:pt x="2234" y="9681"/>
                  <a:pt x="2191" y="9652"/>
                </a:cubicBezTo>
              </a:path>
              <a:path w="8225" h="2128">
                <a:moveTo>
                  <a:pt x="2413" y="8954"/>
                </a:moveTo>
                <a:cubicBezTo>
                  <a:pt x="2478" y="8921"/>
                  <a:pt x="2476" y="8945"/>
                  <a:pt x="2476" y="9017"/>
                </a:cubicBezTo>
                <a:cubicBezTo>
                  <a:pt x="2476" y="9123"/>
                  <a:pt x="2462" y="9260"/>
                  <a:pt x="2445" y="9366"/>
                </a:cubicBezTo>
                <a:cubicBezTo>
                  <a:pt x="2426" y="9489"/>
                  <a:pt x="2413" y="9591"/>
                  <a:pt x="2413" y="9716"/>
                </a:cubicBezTo>
                <a:cubicBezTo>
                  <a:pt x="2413" y="9726"/>
                  <a:pt x="2413" y="9737"/>
                  <a:pt x="2413" y="9747"/>
                </a:cubicBezTo>
                <a:cubicBezTo>
                  <a:pt x="2460" y="9623"/>
                  <a:pt x="2438" y="9499"/>
                  <a:pt x="2476" y="9366"/>
                </a:cubicBezTo>
                <a:cubicBezTo>
                  <a:pt x="2509" y="9251"/>
                  <a:pt x="2572" y="9174"/>
                  <a:pt x="2635" y="9080"/>
                </a:cubicBezTo>
                <a:cubicBezTo>
                  <a:pt x="2687" y="9002"/>
                  <a:pt x="2696" y="8973"/>
                  <a:pt x="2794" y="8954"/>
                </a:cubicBezTo>
                <a:cubicBezTo>
                  <a:pt x="2829" y="9000"/>
                  <a:pt x="2849" y="9083"/>
                  <a:pt x="2858" y="9144"/>
                </a:cubicBezTo>
                <a:cubicBezTo>
                  <a:pt x="2873" y="9244"/>
                  <a:pt x="2826" y="9385"/>
                  <a:pt x="2826" y="9493"/>
                </a:cubicBezTo>
                <a:cubicBezTo>
                  <a:pt x="2826" y="9612"/>
                  <a:pt x="2832" y="9702"/>
                  <a:pt x="2858" y="9811"/>
                </a:cubicBezTo>
                <a:cubicBezTo>
                  <a:pt x="2858" y="9821"/>
                  <a:pt x="2858" y="9832"/>
                  <a:pt x="2858" y="9842"/>
                </a:cubicBezTo>
                <a:cubicBezTo>
                  <a:pt x="2923" y="9826"/>
                  <a:pt x="2957" y="9783"/>
                  <a:pt x="2984" y="9716"/>
                </a:cubicBezTo>
                <a:cubicBezTo>
                  <a:pt x="2995" y="9684"/>
                  <a:pt x="3005" y="9652"/>
                  <a:pt x="3016" y="9620"/>
                </a:cubicBezTo>
              </a:path>
              <a:path w="8225" h="2128">
                <a:moveTo>
                  <a:pt x="3270" y="8826"/>
                </a:moveTo>
                <a:cubicBezTo>
                  <a:pt x="3307" y="8924"/>
                  <a:pt x="3319" y="9036"/>
                  <a:pt x="3302" y="9144"/>
                </a:cubicBezTo>
                <a:cubicBezTo>
                  <a:pt x="3276" y="9307"/>
                  <a:pt x="3270" y="9453"/>
                  <a:pt x="3270" y="9620"/>
                </a:cubicBezTo>
                <a:cubicBezTo>
                  <a:pt x="3270" y="9663"/>
                  <a:pt x="3270" y="9874"/>
                  <a:pt x="3270" y="9811"/>
                </a:cubicBezTo>
              </a:path>
              <a:path w="8225" h="2128">
                <a:moveTo>
                  <a:pt x="3016" y="9366"/>
                </a:moveTo>
                <a:cubicBezTo>
                  <a:pt x="3047" y="9412"/>
                  <a:pt x="3102" y="9398"/>
                  <a:pt x="3175" y="9398"/>
                </a:cubicBezTo>
                <a:cubicBezTo>
                  <a:pt x="3321" y="9398"/>
                  <a:pt x="3448" y="9386"/>
                  <a:pt x="3588" y="9366"/>
                </a:cubicBezTo>
                <a:cubicBezTo>
                  <a:pt x="3674" y="9354"/>
                  <a:pt x="3706" y="9367"/>
                  <a:pt x="3778" y="9303"/>
                </a:cubicBezTo>
                <a:cubicBezTo>
                  <a:pt x="3833" y="9254"/>
                  <a:pt x="3837" y="9150"/>
                  <a:pt x="3842" y="9080"/>
                </a:cubicBezTo>
                <a:cubicBezTo>
                  <a:pt x="3845" y="9030"/>
                  <a:pt x="3808" y="8995"/>
                  <a:pt x="3778" y="8985"/>
                </a:cubicBezTo>
                <a:cubicBezTo>
                  <a:pt x="3714" y="8985"/>
                  <a:pt x="3674" y="9016"/>
                  <a:pt x="3651" y="9080"/>
                </a:cubicBezTo>
                <a:cubicBezTo>
                  <a:pt x="3614" y="9183"/>
                  <a:pt x="3573" y="9384"/>
                  <a:pt x="3588" y="9493"/>
                </a:cubicBezTo>
                <a:cubicBezTo>
                  <a:pt x="3601" y="9586"/>
                  <a:pt x="3619" y="9653"/>
                  <a:pt x="3683" y="9716"/>
                </a:cubicBezTo>
                <a:cubicBezTo>
                  <a:pt x="3763" y="9795"/>
                  <a:pt x="3804" y="9725"/>
                  <a:pt x="3842" y="9652"/>
                </a:cubicBezTo>
                <a:cubicBezTo>
                  <a:pt x="3853" y="9631"/>
                  <a:pt x="3863" y="9609"/>
                  <a:pt x="3874" y="9588"/>
                </a:cubicBezTo>
              </a:path>
              <a:path w="8225" h="2128">
                <a:moveTo>
                  <a:pt x="4064" y="8985"/>
                </a:moveTo>
                <a:cubicBezTo>
                  <a:pt x="4064" y="9225"/>
                  <a:pt x="4012" y="9527"/>
                  <a:pt x="4096" y="9747"/>
                </a:cubicBezTo>
                <a:cubicBezTo>
                  <a:pt x="4096" y="9800"/>
                  <a:pt x="4096" y="9705"/>
                  <a:pt x="4096" y="9652"/>
                </a:cubicBezTo>
                <a:cubicBezTo>
                  <a:pt x="4096" y="9511"/>
                  <a:pt x="4081" y="9374"/>
                  <a:pt x="4128" y="9239"/>
                </a:cubicBezTo>
                <a:cubicBezTo>
                  <a:pt x="4151" y="9173"/>
                  <a:pt x="4181" y="9050"/>
                  <a:pt x="4254" y="9017"/>
                </a:cubicBezTo>
                <a:cubicBezTo>
                  <a:pt x="4275" y="9008"/>
                  <a:pt x="4327" y="9017"/>
                  <a:pt x="4350" y="9017"/>
                </a:cubicBezTo>
              </a:path>
              <a:path w="8225" h="2128">
                <a:moveTo>
                  <a:pt x="4762" y="9017"/>
                </a:moveTo>
                <a:cubicBezTo>
                  <a:pt x="4753" y="8951"/>
                  <a:pt x="4767" y="8944"/>
                  <a:pt x="4699" y="8922"/>
                </a:cubicBezTo>
                <a:cubicBezTo>
                  <a:pt x="4613" y="8895"/>
                  <a:pt x="4526" y="8953"/>
                  <a:pt x="4477" y="9017"/>
                </a:cubicBezTo>
                <a:cubicBezTo>
                  <a:pt x="4407" y="9108"/>
                  <a:pt x="4386" y="9257"/>
                  <a:pt x="4382" y="9366"/>
                </a:cubicBezTo>
                <a:cubicBezTo>
                  <a:pt x="4379" y="9462"/>
                  <a:pt x="4388" y="9588"/>
                  <a:pt x="4477" y="9652"/>
                </a:cubicBezTo>
                <a:cubicBezTo>
                  <a:pt x="4583" y="9729"/>
                  <a:pt x="4645" y="9673"/>
                  <a:pt x="4731" y="9620"/>
                </a:cubicBezTo>
                <a:cubicBezTo>
                  <a:pt x="4841" y="9552"/>
                  <a:pt x="4907" y="9449"/>
                  <a:pt x="4953" y="9334"/>
                </a:cubicBezTo>
                <a:cubicBezTo>
                  <a:pt x="4988" y="9247"/>
                  <a:pt x="5053" y="9053"/>
                  <a:pt x="5016" y="8954"/>
                </a:cubicBezTo>
                <a:cubicBezTo>
                  <a:pt x="4985" y="8922"/>
                  <a:pt x="4974" y="8911"/>
                  <a:pt x="4953" y="8890"/>
                </a:cubicBezTo>
                <a:cubicBezTo>
                  <a:pt x="4864" y="8926"/>
                  <a:pt x="4843" y="8926"/>
                  <a:pt x="4794" y="9017"/>
                </a:cubicBezTo>
                <a:cubicBezTo>
                  <a:pt x="4755" y="9091"/>
                  <a:pt x="4732" y="9252"/>
                  <a:pt x="4762" y="9334"/>
                </a:cubicBezTo>
                <a:cubicBezTo>
                  <a:pt x="4795" y="9424"/>
                  <a:pt x="4838" y="9477"/>
                  <a:pt x="4921" y="9525"/>
                </a:cubicBezTo>
                <a:cubicBezTo>
                  <a:pt x="5027" y="9510"/>
                  <a:pt x="5051" y="9467"/>
                  <a:pt x="5112" y="9366"/>
                </a:cubicBezTo>
                <a:cubicBezTo>
                  <a:pt x="5175" y="9262"/>
                  <a:pt x="5217" y="9150"/>
                  <a:pt x="5270" y="9049"/>
                </a:cubicBezTo>
                <a:cubicBezTo>
                  <a:pt x="5281" y="9028"/>
                  <a:pt x="5291" y="9006"/>
                  <a:pt x="5302" y="8985"/>
                </a:cubicBezTo>
                <a:cubicBezTo>
                  <a:pt x="5302" y="8876"/>
                  <a:pt x="5318" y="8965"/>
                  <a:pt x="5302" y="9017"/>
                </a:cubicBezTo>
                <a:cubicBezTo>
                  <a:pt x="5269" y="9121"/>
                  <a:pt x="5248" y="9255"/>
                  <a:pt x="5239" y="9366"/>
                </a:cubicBezTo>
                <a:cubicBezTo>
                  <a:pt x="5219" y="9617"/>
                  <a:pt x="5276" y="9899"/>
                  <a:pt x="5207" y="10128"/>
                </a:cubicBezTo>
                <a:cubicBezTo>
                  <a:pt x="5207" y="10139"/>
                  <a:pt x="5207" y="10149"/>
                  <a:pt x="5207" y="10160"/>
                </a:cubicBezTo>
                <a:cubicBezTo>
                  <a:pt x="5155" y="10073"/>
                  <a:pt x="5147" y="9983"/>
                  <a:pt x="5144" y="9874"/>
                </a:cubicBezTo>
                <a:cubicBezTo>
                  <a:pt x="5139" y="9699"/>
                  <a:pt x="5161" y="9537"/>
                  <a:pt x="5175" y="9366"/>
                </a:cubicBezTo>
                <a:cubicBezTo>
                  <a:pt x="5185" y="9241"/>
                  <a:pt x="5190" y="9094"/>
                  <a:pt x="5270" y="8985"/>
                </a:cubicBezTo>
                <a:cubicBezTo>
                  <a:pt x="5323" y="8914"/>
                  <a:pt x="5431" y="8811"/>
                  <a:pt x="5524" y="8795"/>
                </a:cubicBezTo>
                <a:cubicBezTo>
                  <a:pt x="5567" y="8795"/>
                  <a:pt x="5588" y="8795"/>
                  <a:pt x="5620" y="8795"/>
                </a:cubicBezTo>
                <a:cubicBezTo>
                  <a:pt x="5678" y="8896"/>
                  <a:pt x="5683" y="8926"/>
                  <a:pt x="5683" y="9049"/>
                </a:cubicBezTo>
                <a:cubicBezTo>
                  <a:pt x="5683" y="9206"/>
                  <a:pt x="5619" y="9272"/>
                  <a:pt x="5556" y="9398"/>
                </a:cubicBezTo>
                <a:cubicBezTo>
                  <a:pt x="5507" y="9496"/>
                  <a:pt x="5457" y="9618"/>
                  <a:pt x="5334" y="9652"/>
                </a:cubicBezTo>
                <a:cubicBezTo>
                  <a:pt x="5246" y="9676"/>
                  <a:pt x="5200" y="9644"/>
                  <a:pt x="5144" y="9588"/>
                </a:cubicBezTo>
                <a:cubicBezTo>
                  <a:pt x="5082" y="9526"/>
                  <a:pt x="5115" y="9443"/>
                  <a:pt x="5144" y="9366"/>
                </a:cubicBezTo>
                <a:cubicBezTo>
                  <a:pt x="5154" y="9345"/>
                  <a:pt x="5165" y="9324"/>
                  <a:pt x="5175" y="9303"/>
                </a:cubicBezTo>
              </a:path>
              <a:path w="8225" h="2128">
                <a:moveTo>
                  <a:pt x="5969" y="8572"/>
                </a:moveTo>
                <a:cubicBezTo>
                  <a:pt x="5969" y="8644"/>
                  <a:pt x="5946" y="8698"/>
                  <a:pt x="5937" y="8763"/>
                </a:cubicBezTo>
                <a:cubicBezTo>
                  <a:pt x="5918" y="8910"/>
                  <a:pt x="5888" y="9060"/>
                  <a:pt x="5874" y="9208"/>
                </a:cubicBezTo>
                <a:cubicBezTo>
                  <a:pt x="5859" y="9364"/>
                  <a:pt x="5874" y="9527"/>
                  <a:pt x="5874" y="9684"/>
                </a:cubicBezTo>
              </a:path>
              <a:path w="8225" h="2128">
                <a:moveTo>
                  <a:pt x="5652" y="9176"/>
                </a:moveTo>
                <a:cubicBezTo>
                  <a:pt x="5694" y="9165"/>
                  <a:pt x="5806" y="9164"/>
                  <a:pt x="5842" y="9144"/>
                </a:cubicBezTo>
                <a:cubicBezTo>
                  <a:pt x="5941" y="9089"/>
                  <a:pt x="5944" y="9080"/>
                  <a:pt x="6064" y="9080"/>
                </a:cubicBezTo>
              </a:path>
              <a:path w="8225" h="2128">
                <a:moveTo>
                  <a:pt x="6191" y="8954"/>
                </a:moveTo>
                <a:cubicBezTo>
                  <a:pt x="6191" y="8964"/>
                  <a:pt x="6191" y="8975"/>
                  <a:pt x="6191" y="8985"/>
                </a:cubicBezTo>
              </a:path>
              <a:path w="8225" h="2128">
                <a:moveTo>
                  <a:pt x="6191" y="9398"/>
                </a:moveTo>
                <a:cubicBezTo>
                  <a:pt x="6191" y="9387"/>
                  <a:pt x="6191" y="9377"/>
                  <a:pt x="6191" y="9366"/>
                </a:cubicBezTo>
              </a:path>
              <a:path w="8225" h="2128">
                <a:moveTo>
                  <a:pt x="6191" y="9398"/>
                </a:moveTo>
                <a:lnTo>
                  <a:pt x="6191" y="9398"/>
                </a:lnTo>
              </a:path>
              <a:path w="8225" h="2128">
                <a:moveTo>
                  <a:pt x="6160" y="9366"/>
                </a:moveTo>
                <a:cubicBezTo>
                  <a:pt x="6089" y="9390"/>
                  <a:pt x="6158" y="9468"/>
                  <a:pt x="6160" y="9462"/>
                </a:cubicBezTo>
                <a:cubicBezTo>
                  <a:pt x="6182" y="9404"/>
                  <a:pt x="6191" y="9397"/>
                  <a:pt x="6191" y="9334"/>
                </a:cubicBezTo>
                <a:cubicBezTo>
                  <a:pt x="6148" y="9345"/>
                  <a:pt x="6083" y="9399"/>
                  <a:pt x="6128" y="9462"/>
                </a:cubicBezTo>
                <a:cubicBezTo>
                  <a:pt x="6173" y="9525"/>
                  <a:pt x="6219" y="9387"/>
                  <a:pt x="6223" y="9366"/>
                </a:cubicBezTo>
              </a:path>
              <a:path w="8225" h="2128">
                <a:moveTo>
                  <a:pt x="6191" y="9049"/>
                </a:moveTo>
                <a:cubicBezTo>
                  <a:pt x="6174" y="8997"/>
                  <a:pt x="6177" y="9037"/>
                  <a:pt x="6160" y="8985"/>
                </a:cubicBezTo>
                <a:cubicBezTo>
                  <a:pt x="6132" y="9022"/>
                  <a:pt x="6095" y="9072"/>
                  <a:pt x="6160" y="9080"/>
                </a:cubicBezTo>
                <a:cubicBezTo>
                  <a:pt x="6248" y="9091"/>
                  <a:pt x="6196" y="9066"/>
                  <a:pt x="6223" y="9017"/>
                </a:cubicBezTo>
                <a:cubicBezTo>
                  <a:pt x="6260" y="8951"/>
                  <a:pt x="6245" y="9017"/>
                  <a:pt x="6223" y="8954"/>
                </a:cubicBezTo>
                <a:cubicBezTo>
                  <a:pt x="6192" y="8962"/>
                  <a:pt x="6104" y="8995"/>
                  <a:pt x="6128" y="9049"/>
                </a:cubicBezTo>
                <a:cubicBezTo>
                  <a:pt x="6165" y="9130"/>
                  <a:pt x="6213" y="9056"/>
                  <a:pt x="6223" y="9017"/>
                </a:cubicBezTo>
              </a:path>
              <a:path w="8225" h="2128">
                <a:moveTo>
                  <a:pt x="6540" y="9620"/>
                </a:moveTo>
                <a:cubicBezTo>
                  <a:pt x="6591" y="9614"/>
                  <a:pt x="6629" y="9596"/>
                  <a:pt x="6668" y="9588"/>
                </a:cubicBezTo>
                <a:cubicBezTo>
                  <a:pt x="6802" y="9561"/>
                  <a:pt x="6977" y="9569"/>
                  <a:pt x="7112" y="9557"/>
                </a:cubicBezTo>
                <a:cubicBezTo>
                  <a:pt x="7270" y="9543"/>
                  <a:pt x="7431" y="9529"/>
                  <a:pt x="7588" y="9525"/>
                </a:cubicBezTo>
                <a:cubicBezTo>
                  <a:pt x="7762" y="9520"/>
                  <a:pt x="7926" y="9507"/>
                  <a:pt x="8096" y="9493"/>
                </a:cubicBezTo>
                <a:cubicBezTo>
                  <a:pt x="8254" y="9480"/>
                  <a:pt x="8417" y="9476"/>
                  <a:pt x="8572" y="9462"/>
                </a:cubicBezTo>
                <a:cubicBezTo>
                  <a:pt x="8728" y="9448"/>
                  <a:pt x="8840" y="9411"/>
                  <a:pt x="8985" y="9398"/>
                </a:cubicBezTo>
                <a:cubicBezTo>
                  <a:pt x="9058" y="9391"/>
                  <a:pt x="9135" y="9398"/>
                  <a:pt x="9208" y="9398"/>
                </a:cubicBezTo>
              </a:path>
              <a:path w="8225" h="2128">
                <a:moveTo>
                  <a:pt x="7715" y="9747"/>
                </a:moveTo>
                <a:cubicBezTo>
                  <a:pt x="7715" y="9716"/>
                  <a:pt x="7715" y="9705"/>
                  <a:pt x="7747" y="9716"/>
                </a:cubicBezTo>
                <a:cubicBezTo>
                  <a:pt x="7731" y="9780"/>
                  <a:pt x="7715" y="9797"/>
                  <a:pt x="7715" y="9874"/>
                </a:cubicBezTo>
                <a:cubicBezTo>
                  <a:pt x="7715" y="9914"/>
                  <a:pt x="7725" y="9959"/>
                  <a:pt x="7747" y="9970"/>
                </a:cubicBezTo>
                <a:cubicBezTo>
                  <a:pt x="7793" y="9993"/>
                  <a:pt x="7833" y="9918"/>
                  <a:pt x="7842" y="9906"/>
                </a:cubicBezTo>
                <a:cubicBezTo>
                  <a:pt x="7873" y="9865"/>
                  <a:pt x="7870" y="9742"/>
                  <a:pt x="7906" y="9779"/>
                </a:cubicBezTo>
                <a:cubicBezTo>
                  <a:pt x="7942" y="9816"/>
                  <a:pt x="7927" y="10261"/>
                  <a:pt x="7874" y="10287"/>
                </a:cubicBezTo>
                <a:cubicBezTo>
                  <a:pt x="7828" y="10310"/>
                  <a:pt x="7757" y="10263"/>
                  <a:pt x="7715" y="10255"/>
                </a:cubicBezTo>
              </a:path>
              <a:path w="8225" h="2128">
                <a:moveTo>
                  <a:pt x="7017" y="8700"/>
                </a:moveTo>
                <a:cubicBezTo>
                  <a:pt x="7034" y="8767"/>
                  <a:pt x="7048" y="8810"/>
                  <a:pt x="7048" y="8890"/>
                </a:cubicBezTo>
                <a:cubicBezTo>
                  <a:pt x="7048" y="9091"/>
                  <a:pt x="7048" y="9292"/>
                  <a:pt x="7048" y="9493"/>
                </a:cubicBezTo>
              </a:path>
              <a:path w="8225" h="2128">
                <a:moveTo>
                  <a:pt x="7271" y="8763"/>
                </a:moveTo>
                <a:cubicBezTo>
                  <a:pt x="7287" y="8830"/>
                  <a:pt x="7302" y="8873"/>
                  <a:pt x="7302" y="8954"/>
                </a:cubicBezTo>
                <a:cubicBezTo>
                  <a:pt x="7302" y="9109"/>
                  <a:pt x="7307" y="9262"/>
                  <a:pt x="7334" y="9398"/>
                </a:cubicBezTo>
                <a:cubicBezTo>
                  <a:pt x="7334" y="9419"/>
                  <a:pt x="7334" y="9441"/>
                  <a:pt x="7334" y="9462"/>
                </a:cubicBezTo>
              </a:path>
              <a:path w="8225" h="2128">
                <a:moveTo>
                  <a:pt x="7017" y="9239"/>
                </a:moveTo>
                <a:cubicBezTo>
                  <a:pt x="7053" y="9227"/>
                  <a:pt x="7092" y="9187"/>
                  <a:pt x="7144" y="9176"/>
                </a:cubicBezTo>
                <a:cubicBezTo>
                  <a:pt x="7189" y="9167"/>
                  <a:pt x="7367" y="9168"/>
                  <a:pt x="7398" y="9144"/>
                </a:cubicBezTo>
                <a:cubicBezTo>
                  <a:pt x="7409" y="9123"/>
                  <a:pt x="7419" y="9101"/>
                  <a:pt x="7430" y="9080"/>
                </a:cubicBezTo>
              </a:path>
              <a:path w="8225" h="2128">
                <a:moveTo>
                  <a:pt x="7493" y="9144"/>
                </a:moveTo>
                <a:cubicBezTo>
                  <a:pt x="7525" y="9144"/>
                  <a:pt x="7535" y="9144"/>
                  <a:pt x="7556" y="9144"/>
                </a:cubicBezTo>
                <a:cubicBezTo>
                  <a:pt x="7574" y="9036"/>
                  <a:pt x="7579" y="9114"/>
                  <a:pt x="7652" y="9049"/>
                </a:cubicBezTo>
                <a:cubicBezTo>
                  <a:pt x="7702" y="9005"/>
                  <a:pt x="7715" y="8986"/>
                  <a:pt x="7715" y="8922"/>
                </a:cubicBezTo>
                <a:cubicBezTo>
                  <a:pt x="7715" y="8911"/>
                  <a:pt x="7715" y="8901"/>
                  <a:pt x="7715" y="8890"/>
                </a:cubicBezTo>
                <a:cubicBezTo>
                  <a:pt x="7669" y="8902"/>
                  <a:pt x="7617" y="8939"/>
                  <a:pt x="7588" y="8985"/>
                </a:cubicBezTo>
                <a:cubicBezTo>
                  <a:pt x="7541" y="9057"/>
                  <a:pt x="7473" y="9146"/>
                  <a:pt x="7493" y="9239"/>
                </a:cubicBezTo>
                <a:cubicBezTo>
                  <a:pt x="7505" y="9296"/>
                  <a:pt x="7529" y="9362"/>
                  <a:pt x="7588" y="9366"/>
                </a:cubicBezTo>
                <a:cubicBezTo>
                  <a:pt x="7666" y="9372"/>
                  <a:pt x="7676" y="9365"/>
                  <a:pt x="7747" y="9334"/>
                </a:cubicBezTo>
              </a:path>
              <a:path w="8225" h="2128">
                <a:moveTo>
                  <a:pt x="8001" y="9080"/>
                </a:moveTo>
                <a:cubicBezTo>
                  <a:pt x="8001" y="9009"/>
                  <a:pt x="8009" y="8985"/>
                  <a:pt x="7969" y="8954"/>
                </a:cubicBezTo>
                <a:cubicBezTo>
                  <a:pt x="7914" y="8912"/>
                  <a:pt x="7885" y="8918"/>
                  <a:pt x="7842" y="8985"/>
                </a:cubicBezTo>
                <a:cubicBezTo>
                  <a:pt x="7806" y="9041"/>
                  <a:pt x="7758" y="9120"/>
                  <a:pt x="7747" y="9176"/>
                </a:cubicBezTo>
                <a:cubicBezTo>
                  <a:pt x="7736" y="9231"/>
                  <a:pt x="7768" y="9298"/>
                  <a:pt x="7810" y="9303"/>
                </a:cubicBezTo>
                <a:cubicBezTo>
                  <a:pt x="7849" y="9308"/>
                  <a:pt x="7897" y="9289"/>
                  <a:pt x="7906" y="9271"/>
                </a:cubicBezTo>
                <a:cubicBezTo>
                  <a:pt x="7925" y="9233"/>
                  <a:pt x="7945" y="9192"/>
                  <a:pt x="7906" y="9208"/>
                </a:cubicBezTo>
                <a:cubicBezTo>
                  <a:pt x="7874" y="9208"/>
                  <a:pt x="7864" y="9208"/>
                  <a:pt x="7874" y="9239"/>
                </a:cubicBezTo>
              </a:path>
              <a:path w="8225" h="2128">
                <a:moveTo>
                  <a:pt x="7779" y="8890"/>
                </a:moveTo>
                <a:cubicBezTo>
                  <a:pt x="7779" y="8970"/>
                  <a:pt x="7750" y="9005"/>
                  <a:pt x="7747" y="9080"/>
                </a:cubicBezTo>
                <a:cubicBezTo>
                  <a:pt x="7741" y="9207"/>
                  <a:pt x="7747" y="9335"/>
                  <a:pt x="7747" y="9462"/>
                </a:cubicBezTo>
              </a:path>
              <a:path w="8225" h="2128">
                <a:moveTo>
                  <a:pt x="7969" y="9080"/>
                </a:moveTo>
                <a:cubicBezTo>
                  <a:pt x="7969" y="9035"/>
                  <a:pt x="7961" y="8988"/>
                  <a:pt x="7938" y="8954"/>
                </a:cubicBezTo>
                <a:cubicBezTo>
                  <a:pt x="7899" y="8895"/>
                  <a:pt x="7859" y="8918"/>
                  <a:pt x="7842" y="8954"/>
                </a:cubicBezTo>
                <a:cubicBezTo>
                  <a:pt x="7802" y="9039"/>
                  <a:pt x="7810" y="9078"/>
                  <a:pt x="7810" y="9176"/>
                </a:cubicBezTo>
                <a:cubicBezTo>
                  <a:pt x="7810" y="9218"/>
                  <a:pt x="7810" y="9239"/>
                  <a:pt x="7810" y="9271"/>
                </a:cubicBezTo>
                <a:cubicBezTo>
                  <a:pt x="7854" y="9271"/>
                  <a:pt x="7913" y="9288"/>
                  <a:pt x="7938" y="9239"/>
                </a:cubicBezTo>
                <a:cubicBezTo>
                  <a:pt x="7963" y="9190"/>
                  <a:pt x="7986" y="9097"/>
                  <a:pt x="8001" y="9049"/>
                </a:cubicBezTo>
                <a:cubicBezTo>
                  <a:pt x="8017" y="8996"/>
                  <a:pt x="7979" y="9089"/>
                  <a:pt x="7969" y="9144"/>
                </a:cubicBezTo>
                <a:cubicBezTo>
                  <a:pt x="7949" y="9257"/>
                  <a:pt x="7983" y="9359"/>
                  <a:pt x="8001" y="9462"/>
                </a:cubicBezTo>
                <a:cubicBezTo>
                  <a:pt x="8008" y="9499"/>
                  <a:pt x="8001" y="9549"/>
                  <a:pt x="8001" y="9588"/>
                </a:cubicBezTo>
              </a:path>
              <a:path w="8225" h="2128">
                <a:moveTo>
                  <a:pt x="8096" y="8826"/>
                </a:moveTo>
                <a:cubicBezTo>
                  <a:pt x="8142" y="8857"/>
                  <a:pt x="8128" y="8912"/>
                  <a:pt x="8128" y="8985"/>
                </a:cubicBezTo>
                <a:cubicBezTo>
                  <a:pt x="8128" y="9088"/>
                  <a:pt x="8093" y="9408"/>
                  <a:pt x="8128" y="9303"/>
                </a:cubicBezTo>
                <a:cubicBezTo>
                  <a:pt x="8160" y="9208"/>
                  <a:pt x="8142" y="9105"/>
                  <a:pt x="8192" y="9017"/>
                </a:cubicBezTo>
                <a:cubicBezTo>
                  <a:pt x="8216" y="8975"/>
                  <a:pt x="8248" y="8963"/>
                  <a:pt x="8287" y="8954"/>
                </a:cubicBezTo>
                <a:cubicBezTo>
                  <a:pt x="8331" y="9013"/>
                  <a:pt x="8318" y="9066"/>
                  <a:pt x="8318" y="9144"/>
                </a:cubicBezTo>
                <a:cubicBezTo>
                  <a:pt x="8318" y="9240"/>
                  <a:pt x="8361" y="9318"/>
                  <a:pt x="8382" y="9366"/>
                </a:cubicBezTo>
                <a:cubicBezTo>
                  <a:pt x="8408" y="9426"/>
                  <a:pt x="8427" y="9537"/>
                  <a:pt x="8477" y="9398"/>
                </a:cubicBezTo>
                <a:cubicBezTo>
                  <a:pt x="8477" y="9387"/>
                  <a:pt x="8477" y="9377"/>
                  <a:pt x="8477" y="9366"/>
                </a:cubicBezTo>
              </a:path>
              <a:path w="8225" h="2128">
                <a:moveTo>
                  <a:pt x="8636" y="8826"/>
                </a:moveTo>
                <a:cubicBezTo>
                  <a:pt x="8584" y="8843"/>
                  <a:pt x="8604" y="8889"/>
                  <a:pt x="8604" y="8954"/>
                </a:cubicBezTo>
                <a:cubicBezTo>
                  <a:pt x="8604" y="9095"/>
                  <a:pt x="8597" y="9275"/>
                  <a:pt x="8636" y="9366"/>
                </a:cubicBezTo>
                <a:cubicBezTo>
                  <a:pt x="8636" y="9398"/>
                  <a:pt x="8636" y="9409"/>
                  <a:pt x="8668" y="9398"/>
                </a:cubicBezTo>
              </a:path>
              <a:path w="8225" h="2128">
                <a:moveTo>
                  <a:pt x="8446" y="9080"/>
                </a:moveTo>
                <a:cubicBezTo>
                  <a:pt x="8552" y="9080"/>
                  <a:pt x="8657" y="9080"/>
                  <a:pt x="8763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55"/>
          <p:cNvSpPr/>
          <p:nvPr/>
        </p:nvSpPr>
        <p:spPr>
          <a:xfrm>
            <a:off x="3600360" y="3257640"/>
            <a:ext cx="195480" cy="241200"/>
          </a:xfrm>
          <a:custGeom>
            <a:avLst/>
            <a:gdLst/>
            <a:ahLst/>
            <a:rect l="l" t="t" r="r" b="b"/>
            <a:pathLst>
              <a:path w="541" h="668">
                <a:moveTo>
                  <a:pt x="10033" y="9049"/>
                </a:moveTo>
                <a:cubicBezTo>
                  <a:pt x="10033" y="9204"/>
                  <a:pt x="10019" y="9344"/>
                  <a:pt x="10001" y="9493"/>
                </a:cubicBezTo>
                <a:cubicBezTo>
                  <a:pt x="9992" y="9563"/>
                  <a:pt x="10001" y="9645"/>
                  <a:pt x="10001" y="9716"/>
                </a:cubicBezTo>
              </a:path>
              <a:path w="541" h="668">
                <a:moveTo>
                  <a:pt x="10414" y="9080"/>
                </a:moveTo>
                <a:cubicBezTo>
                  <a:pt x="10401" y="9043"/>
                  <a:pt x="10339" y="9024"/>
                  <a:pt x="10287" y="9049"/>
                </a:cubicBezTo>
                <a:cubicBezTo>
                  <a:pt x="10233" y="9075"/>
                  <a:pt x="10203" y="9120"/>
                  <a:pt x="10192" y="9176"/>
                </a:cubicBezTo>
                <a:cubicBezTo>
                  <a:pt x="10182" y="9227"/>
                  <a:pt x="10192" y="9316"/>
                  <a:pt x="10255" y="9334"/>
                </a:cubicBezTo>
                <a:cubicBezTo>
                  <a:pt x="10403" y="9376"/>
                  <a:pt x="10392" y="9341"/>
                  <a:pt x="10478" y="9462"/>
                </a:cubicBezTo>
                <a:cubicBezTo>
                  <a:pt x="10503" y="9497"/>
                  <a:pt x="10572" y="9532"/>
                  <a:pt x="10541" y="9588"/>
                </a:cubicBezTo>
                <a:cubicBezTo>
                  <a:pt x="10496" y="9668"/>
                  <a:pt x="10449" y="9629"/>
                  <a:pt x="10382" y="9652"/>
                </a:cubicBezTo>
                <a:cubicBezTo>
                  <a:pt x="10299" y="9680"/>
                  <a:pt x="10286" y="9652"/>
                  <a:pt x="10192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56"/>
          <p:cNvSpPr/>
          <p:nvPr/>
        </p:nvSpPr>
        <p:spPr>
          <a:xfrm>
            <a:off x="4011480" y="3143160"/>
            <a:ext cx="2171880" cy="595440"/>
          </a:xfrm>
          <a:custGeom>
            <a:avLst/>
            <a:gdLst/>
            <a:ahLst/>
            <a:rect l="l" t="t" r="r" b="b"/>
            <a:pathLst>
              <a:path w="6034" h="1652">
                <a:moveTo>
                  <a:pt x="11144" y="9588"/>
                </a:moveTo>
                <a:cubicBezTo>
                  <a:pt x="11268" y="9588"/>
                  <a:pt x="11374" y="9574"/>
                  <a:pt x="11494" y="9557"/>
                </a:cubicBezTo>
                <a:cubicBezTo>
                  <a:pt x="11629" y="9538"/>
                  <a:pt x="11773" y="9551"/>
                  <a:pt x="11906" y="9525"/>
                </a:cubicBezTo>
                <a:cubicBezTo>
                  <a:pt x="12073" y="9492"/>
                  <a:pt x="12240" y="9467"/>
                  <a:pt x="12414" y="9462"/>
                </a:cubicBezTo>
                <a:cubicBezTo>
                  <a:pt x="12693" y="9455"/>
                  <a:pt x="12966" y="9471"/>
                  <a:pt x="13240" y="9493"/>
                </a:cubicBezTo>
                <a:cubicBezTo>
                  <a:pt x="13360" y="9503"/>
                  <a:pt x="13477" y="9487"/>
                  <a:pt x="13589" y="9525"/>
                </a:cubicBezTo>
                <a:cubicBezTo>
                  <a:pt x="13610" y="9536"/>
                  <a:pt x="13631" y="9546"/>
                  <a:pt x="13652" y="9557"/>
                </a:cubicBezTo>
              </a:path>
              <a:path w="6034" h="1652">
                <a:moveTo>
                  <a:pt x="11494" y="9747"/>
                </a:moveTo>
                <a:cubicBezTo>
                  <a:pt x="11494" y="9813"/>
                  <a:pt x="11458" y="10031"/>
                  <a:pt x="11525" y="10065"/>
                </a:cubicBezTo>
                <a:cubicBezTo>
                  <a:pt x="11570" y="10088"/>
                  <a:pt x="11635" y="10039"/>
                  <a:pt x="11652" y="10001"/>
                </a:cubicBezTo>
                <a:cubicBezTo>
                  <a:pt x="11673" y="9953"/>
                  <a:pt x="11701" y="9891"/>
                  <a:pt x="11716" y="9842"/>
                </a:cubicBezTo>
                <a:cubicBezTo>
                  <a:pt x="11739" y="9766"/>
                  <a:pt x="11703" y="9784"/>
                  <a:pt x="11684" y="9842"/>
                </a:cubicBezTo>
                <a:cubicBezTo>
                  <a:pt x="11662" y="9908"/>
                  <a:pt x="11652" y="9961"/>
                  <a:pt x="11652" y="10033"/>
                </a:cubicBezTo>
                <a:cubicBezTo>
                  <a:pt x="11652" y="10152"/>
                  <a:pt x="11653" y="10251"/>
                  <a:pt x="11620" y="10350"/>
                </a:cubicBezTo>
                <a:cubicBezTo>
                  <a:pt x="11597" y="10417"/>
                  <a:pt x="11567" y="10360"/>
                  <a:pt x="11525" y="10319"/>
                </a:cubicBezTo>
              </a:path>
              <a:path w="6034" h="1652">
                <a:moveTo>
                  <a:pt x="11906" y="9970"/>
                </a:moveTo>
                <a:cubicBezTo>
                  <a:pt x="11906" y="9917"/>
                  <a:pt x="11957" y="9938"/>
                  <a:pt x="12002" y="9938"/>
                </a:cubicBezTo>
              </a:path>
              <a:path w="6034" h="1652">
                <a:moveTo>
                  <a:pt x="12128" y="9779"/>
                </a:moveTo>
                <a:cubicBezTo>
                  <a:pt x="12162" y="9835"/>
                  <a:pt x="12160" y="9870"/>
                  <a:pt x="12160" y="9938"/>
                </a:cubicBezTo>
                <a:cubicBezTo>
                  <a:pt x="12160" y="10009"/>
                  <a:pt x="12128" y="10027"/>
                  <a:pt x="12128" y="10096"/>
                </a:cubicBezTo>
                <a:cubicBezTo>
                  <a:pt x="12128" y="10107"/>
                  <a:pt x="12128" y="10117"/>
                  <a:pt x="12128" y="10128"/>
                </a:cubicBezTo>
              </a:path>
              <a:path w="6034" h="1652">
                <a:moveTo>
                  <a:pt x="12256" y="9779"/>
                </a:moveTo>
                <a:cubicBezTo>
                  <a:pt x="12256" y="9837"/>
                  <a:pt x="12281" y="9855"/>
                  <a:pt x="12287" y="9906"/>
                </a:cubicBezTo>
                <a:cubicBezTo>
                  <a:pt x="12293" y="9958"/>
                  <a:pt x="12287" y="10013"/>
                  <a:pt x="12287" y="10065"/>
                </a:cubicBezTo>
                <a:cubicBezTo>
                  <a:pt x="12287" y="10005"/>
                  <a:pt x="12294" y="9924"/>
                  <a:pt x="12319" y="9874"/>
                </a:cubicBezTo>
                <a:cubicBezTo>
                  <a:pt x="12339" y="9834"/>
                  <a:pt x="12389" y="9787"/>
                  <a:pt x="12414" y="9779"/>
                </a:cubicBezTo>
                <a:cubicBezTo>
                  <a:pt x="12444" y="9819"/>
                  <a:pt x="12472" y="9856"/>
                  <a:pt x="12478" y="9906"/>
                </a:cubicBezTo>
                <a:cubicBezTo>
                  <a:pt x="12485" y="9969"/>
                  <a:pt x="12504" y="10011"/>
                  <a:pt x="12510" y="10065"/>
                </a:cubicBezTo>
                <a:cubicBezTo>
                  <a:pt x="12510" y="10075"/>
                  <a:pt x="12510" y="10086"/>
                  <a:pt x="12510" y="10096"/>
                </a:cubicBezTo>
              </a:path>
              <a:path w="6034" h="1652">
                <a:moveTo>
                  <a:pt x="12668" y="9716"/>
                </a:moveTo>
                <a:cubicBezTo>
                  <a:pt x="12668" y="9841"/>
                  <a:pt x="12667" y="9957"/>
                  <a:pt x="12700" y="10065"/>
                </a:cubicBezTo>
                <a:cubicBezTo>
                  <a:pt x="12700" y="10096"/>
                  <a:pt x="12700" y="10107"/>
                  <a:pt x="12700" y="10128"/>
                </a:cubicBezTo>
              </a:path>
              <a:path w="6034" h="1652">
                <a:moveTo>
                  <a:pt x="12573" y="9906"/>
                </a:moveTo>
                <a:cubicBezTo>
                  <a:pt x="12589" y="9954"/>
                  <a:pt x="12611" y="9938"/>
                  <a:pt x="12668" y="9938"/>
                </a:cubicBezTo>
                <a:cubicBezTo>
                  <a:pt x="12757" y="9938"/>
                  <a:pt x="12887" y="9966"/>
                  <a:pt x="12954" y="9906"/>
                </a:cubicBezTo>
                <a:cubicBezTo>
                  <a:pt x="12998" y="9867"/>
                  <a:pt x="12986" y="9834"/>
                  <a:pt x="12986" y="9779"/>
                </a:cubicBezTo>
                <a:cubicBezTo>
                  <a:pt x="12893" y="9802"/>
                  <a:pt x="12924" y="9836"/>
                  <a:pt x="12890" y="9906"/>
                </a:cubicBezTo>
                <a:cubicBezTo>
                  <a:pt x="12868" y="9951"/>
                  <a:pt x="12830" y="10037"/>
                  <a:pt x="12859" y="10096"/>
                </a:cubicBezTo>
                <a:cubicBezTo>
                  <a:pt x="12875" y="10129"/>
                  <a:pt x="12953" y="10146"/>
                  <a:pt x="12986" y="10128"/>
                </a:cubicBezTo>
                <a:cubicBezTo>
                  <a:pt x="12997" y="10117"/>
                  <a:pt x="13007" y="10107"/>
                  <a:pt x="13018" y="10096"/>
                </a:cubicBezTo>
              </a:path>
              <a:path w="6034" h="1652">
                <a:moveTo>
                  <a:pt x="13113" y="9842"/>
                </a:moveTo>
                <a:cubicBezTo>
                  <a:pt x="13113" y="9920"/>
                  <a:pt x="13123" y="9969"/>
                  <a:pt x="13144" y="10033"/>
                </a:cubicBezTo>
                <a:cubicBezTo>
                  <a:pt x="13162" y="10088"/>
                  <a:pt x="13144" y="10113"/>
                  <a:pt x="13144" y="10033"/>
                </a:cubicBezTo>
                <a:cubicBezTo>
                  <a:pt x="13144" y="9977"/>
                  <a:pt x="13173" y="9914"/>
                  <a:pt x="13208" y="9874"/>
                </a:cubicBezTo>
                <a:cubicBezTo>
                  <a:pt x="13249" y="9828"/>
                  <a:pt x="13287" y="9826"/>
                  <a:pt x="13303" y="9874"/>
                </a:cubicBezTo>
              </a:path>
              <a:path w="6034" h="1652">
                <a:moveTo>
                  <a:pt x="13462" y="9842"/>
                </a:moveTo>
                <a:cubicBezTo>
                  <a:pt x="13444" y="9790"/>
                  <a:pt x="13410" y="9803"/>
                  <a:pt x="13367" y="9842"/>
                </a:cubicBezTo>
                <a:cubicBezTo>
                  <a:pt x="13327" y="9877"/>
                  <a:pt x="13308" y="9948"/>
                  <a:pt x="13303" y="10001"/>
                </a:cubicBezTo>
                <a:cubicBezTo>
                  <a:pt x="13298" y="10055"/>
                  <a:pt x="13352" y="10091"/>
                  <a:pt x="13398" y="10096"/>
                </a:cubicBezTo>
                <a:cubicBezTo>
                  <a:pt x="13442" y="10101"/>
                  <a:pt x="13524" y="10060"/>
                  <a:pt x="13557" y="10033"/>
                </a:cubicBezTo>
                <a:cubicBezTo>
                  <a:pt x="13611" y="9990"/>
                  <a:pt x="13645" y="9943"/>
                  <a:pt x="13652" y="9874"/>
                </a:cubicBezTo>
                <a:cubicBezTo>
                  <a:pt x="13657" y="9822"/>
                  <a:pt x="13661" y="9824"/>
                  <a:pt x="13621" y="9811"/>
                </a:cubicBezTo>
                <a:cubicBezTo>
                  <a:pt x="13573" y="9827"/>
                  <a:pt x="13589" y="9849"/>
                  <a:pt x="13589" y="9906"/>
                </a:cubicBezTo>
                <a:cubicBezTo>
                  <a:pt x="13589" y="9974"/>
                  <a:pt x="13573" y="10024"/>
                  <a:pt x="13652" y="10033"/>
                </a:cubicBezTo>
                <a:cubicBezTo>
                  <a:pt x="13708" y="10039"/>
                  <a:pt x="13739" y="10037"/>
                  <a:pt x="13780" y="10001"/>
                </a:cubicBezTo>
                <a:cubicBezTo>
                  <a:pt x="13832" y="9955"/>
                  <a:pt x="13857" y="9900"/>
                  <a:pt x="13875" y="9842"/>
                </a:cubicBezTo>
                <a:cubicBezTo>
                  <a:pt x="13875" y="9811"/>
                  <a:pt x="13875" y="9800"/>
                  <a:pt x="13843" y="9811"/>
                </a:cubicBezTo>
                <a:cubicBezTo>
                  <a:pt x="13843" y="9908"/>
                  <a:pt x="13826" y="9976"/>
                  <a:pt x="13811" y="10065"/>
                </a:cubicBezTo>
                <a:cubicBezTo>
                  <a:pt x="13801" y="10127"/>
                  <a:pt x="13811" y="10397"/>
                  <a:pt x="13811" y="10350"/>
                </a:cubicBezTo>
                <a:cubicBezTo>
                  <a:pt x="13767" y="10291"/>
                  <a:pt x="13780" y="10238"/>
                  <a:pt x="13780" y="10160"/>
                </a:cubicBezTo>
                <a:cubicBezTo>
                  <a:pt x="13780" y="10078"/>
                  <a:pt x="13794" y="9967"/>
                  <a:pt x="13843" y="9906"/>
                </a:cubicBezTo>
                <a:cubicBezTo>
                  <a:pt x="13879" y="9861"/>
                  <a:pt x="13873" y="9818"/>
                  <a:pt x="13938" y="9811"/>
                </a:cubicBezTo>
                <a:cubicBezTo>
                  <a:pt x="14016" y="9803"/>
                  <a:pt x="14029" y="9883"/>
                  <a:pt x="14034" y="9938"/>
                </a:cubicBezTo>
                <a:cubicBezTo>
                  <a:pt x="14039" y="10004"/>
                  <a:pt x="14016" y="10020"/>
                  <a:pt x="13970" y="10065"/>
                </a:cubicBezTo>
                <a:cubicBezTo>
                  <a:pt x="13928" y="10106"/>
                  <a:pt x="13899" y="10096"/>
                  <a:pt x="13843" y="10096"/>
                </a:cubicBezTo>
                <a:cubicBezTo>
                  <a:pt x="13793" y="10096"/>
                  <a:pt x="13811" y="10076"/>
                  <a:pt x="13811" y="10033"/>
                </a:cubicBezTo>
              </a:path>
              <a:path w="6034" h="1652">
                <a:moveTo>
                  <a:pt x="14256" y="9652"/>
                </a:moveTo>
                <a:cubicBezTo>
                  <a:pt x="14256" y="9777"/>
                  <a:pt x="14251" y="9883"/>
                  <a:pt x="14224" y="10001"/>
                </a:cubicBezTo>
                <a:cubicBezTo>
                  <a:pt x="14206" y="10078"/>
                  <a:pt x="14233" y="10124"/>
                  <a:pt x="14192" y="10192"/>
                </a:cubicBezTo>
              </a:path>
              <a:path w="6034" h="1652">
                <a:moveTo>
                  <a:pt x="14065" y="9874"/>
                </a:moveTo>
                <a:cubicBezTo>
                  <a:pt x="14116" y="9843"/>
                  <a:pt x="14192" y="9826"/>
                  <a:pt x="14256" y="9811"/>
                </a:cubicBezTo>
                <a:cubicBezTo>
                  <a:pt x="14267" y="9811"/>
                  <a:pt x="14277" y="9811"/>
                  <a:pt x="14288" y="9811"/>
                </a:cubicBezTo>
              </a:path>
              <a:path w="6034" h="1652">
                <a:moveTo>
                  <a:pt x="11462" y="8858"/>
                </a:moveTo>
                <a:cubicBezTo>
                  <a:pt x="11478" y="8796"/>
                  <a:pt x="11522" y="8754"/>
                  <a:pt x="11589" y="8731"/>
                </a:cubicBezTo>
                <a:cubicBezTo>
                  <a:pt x="11621" y="8720"/>
                  <a:pt x="11732" y="8763"/>
                  <a:pt x="11748" y="8795"/>
                </a:cubicBezTo>
                <a:cubicBezTo>
                  <a:pt x="11775" y="8848"/>
                  <a:pt x="11747" y="8946"/>
                  <a:pt x="11716" y="8985"/>
                </a:cubicBezTo>
                <a:cubicBezTo>
                  <a:pt x="11682" y="9027"/>
                  <a:pt x="11641" y="9074"/>
                  <a:pt x="11589" y="9080"/>
                </a:cubicBezTo>
                <a:cubicBezTo>
                  <a:pt x="11578" y="9080"/>
                  <a:pt x="11568" y="9080"/>
                  <a:pt x="11557" y="9080"/>
                </a:cubicBezTo>
                <a:cubicBezTo>
                  <a:pt x="11636" y="9002"/>
                  <a:pt x="11614" y="9024"/>
                  <a:pt x="11716" y="9049"/>
                </a:cubicBezTo>
                <a:cubicBezTo>
                  <a:pt x="11795" y="9069"/>
                  <a:pt x="11827" y="9098"/>
                  <a:pt x="11843" y="9176"/>
                </a:cubicBezTo>
                <a:cubicBezTo>
                  <a:pt x="11855" y="9236"/>
                  <a:pt x="11828" y="9328"/>
                  <a:pt x="11779" y="9366"/>
                </a:cubicBezTo>
                <a:cubicBezTo>
                  <a:pt x="11742" y="9395"/>
                  <a:pt x="11579" y="9366"/>
                  <a:pt x="11525" y="9366"/>
                </a:cubicBezTo>
              </a:path>
              <a:path w="6034" h="1652">
                <a:moveTo>
                  <a:pt x="12033" y="8858"/>
                </a:moveTo>
                <a:cubicBezTo>
                  <a:pt x="12081" y="8874"/>
                  <a:pt x="12053" y="8927"/>
                  <a:pt x="12033" y="8985"/>
                </a:cubicBezTo>
                <a:cubicBezTo>
                  <a:pt x="11997" y="9088"/>
                  <a:pt x="11970" y="9118"/>
                  <a:pt x="11970" y="9239"/>
                </a:cubicBezTo>
                <a:cubicBezTo>
                  <a:pt x="11970" y="9268"/>
                  <a:pt x="11966" y="9405"/>
                  <a:pt x="12033" y="9398"/>
                </a:cubicBezTo>
                <a:cubicBezTo>
                  <a:pt x="12069" y="9394"/>
                  <a:pt x="12158" y="9363"/>
                  <a:pt x="12192" y="9334"/>
                </a:cubicBezTo>
                <a:cubicBezTo>
                  <a:pt x="12258" y="9277"/>
                  <a:pt x="12284" y="9249"/>
                  <a:pt x="12256" y="9176"/>
                </a:cubicBezTo>
                <a:cubicBezTo>
                  <a:pt x="12172" y="9176"/>
                  <a:pt x="12158" y="9168"/>
                  <a:pt x="12128" y="9239"/>
                </a:cubicBezTo>
                <a:cubicBezTo>
                  <a:pt x="12091" y="9328"/>
                  <a:pt x="12088" y="9333"/>
                  <a:pt x="12097" y="9398"/>
                </a:cubicBezTo>
                <a:cubicBezTo>
                  <a:pt x="12109" y="9479"/>
                  <a:pt x="12086" y="9462"/>
                  <a:pt x="12160" y="9462"/>
                </a:cubicBezTo>
              </a:path>
              <a:path w="6034" h="1652">
                <a:moveTo>
                  <a:pt x="12351" y="9271"/>
                </a:moveTo>
                <a:cubicBezTo>
                  <a:pt x="12361" y="9271"/>
                  <a:pt x="12372" y="9271"/>
                  <a:pt x="12382" y="9271"/>
                </a:cubicBezTo>
              </a:path>
              <a:path w="6034" h="1652">
                <a:moveTo>
                  <a:pt x="12764" y="8763"/>
                </a:moveTo>
                <a:cubicBezTo>
                  <a:pt x="12764" y="8843"/>
                  <a:pt x="12782" y="8882"/>
                  <a:pt x="12795" y="8954"/>
                </a:cubicBezTo>
                <a:cubicBezTo>
                  <a:pt x="12809" y="9038"/>
                  <a:pt x="12813" y="9128"/>
                  <a:pt x="12827" y="9208"/>
                </a:cubicBezTo>
                <a:cubicBezTo>
                  <a:pt x="12842" y="9295"/>
                  <a:pt x="12822" y="9280"/>
                  <a:pt x="12859" y="9366"/>
                </a:cubicBezTo>
              </a:path>
              <a:path w="6034" h="1652">
                <a:moveTo>
                  <a:pt x="14922" y="9176"/>
                </a:moveTo>
                <a:cubicBezTo>
                  <a:pt x="14922" y="9091"/>
                  <a:pt x="14895" y="9259"/>
                  <a:pt x="14891" y="9271"/>
                </a:cubicBezTo>
                <a:cubicBezTo>
                  <a:pt x="14857" y="9367"/>
                  <a:pt x="14832" y="9386"/>
                  <a:pt x="14827" y="9493"/>
                </a:cubicBezTo>
                <a:cubicBezTo>
                  <a:pt x="14825" y="9526"/>
                  <a:pt x="14815" y="9693"/>
                  <a:pt x="14891" y="9684"/>
                </a:cubicBezTo>
                <a:cubicBezTo>
                  <a:pt x="14940" y="9678"/>
                  <a:pt x="14994" y="9597"/>
                  <a:pt x="15018" y="9557"/>
                </a:cubicBezTo>
                <a:cubicBezTo>
                  <a:pt x="15066" y="9477"/>
                  <a:pt x="15077" y="9386"/>
                  <a:pt x="15113" y="9303"/>
                </a:cubicBezTo>
                <a:cubicBezTo>
                  <a:pt x="15113" y="9217"/>
                  <a:pt x="15113" y="9352"/>
                  <a:pt x="15113" y="9366"/>
                </a:cubicBezTo>
                <a:cubicBezTo>
                  <a:pt x="15113" y="9438"/>
                  <a:pt x="15108" y="9526"/>
                  <a:pt x="15145" y="9588"/>
                </a:cubicBezTo>
                <a:cubicBezTo>
                  <a:pt x="15169" y="9629"/>
                  <a:pt x="15264" y="9640"/>
                  <a:pt x="15304" y="9620"/>
                </a:cubicBezTo>
                <a:cubicBezTo>
                  <a:pt x="15398" y="9572"/>
                  <a:pt x="15436" y="9502"/>
                  <a:pt x="15462" y="9398"/>
                </a:cubicBezTo>
                <a:cubicBezTo>
                  <a:pt x="15483" y="9315"/>
                  <a:pt x="15464" y="9209"/>
                  <a:pt x="15430" y="9144"/>
                </a:cubicBezTo>
                <a:cubicBezTo>
                  <a:pt x="15390" y="9068"/>
                  <a:pt x="15407" y="9080"/>
                  <a:pt x="15335" y="9080"/>
                </a:cubicBezTo>
              </a:path>
              <a:path w="6034" h="1652">
                <a:moveTo>
                  <a:pt x="15526" y="8890"/>
                </a:moveTo>
                <a:cubicBezTo>
                  <a:pt x="15549" y="8919"/>
                  <a:pt x="15575" y="8948"/>
                  <a:pt x="15589" y="9017"/>
                </a:cubicBezTo>
                <a:cubicBezTo>
                  <a:pt x="15607" y="9109"/>
                  <a:pt x="15612" y="9241"/>
                  <a:pt x="15621" y="9334"/>
                </a:cubicBezTo>
                <a:cubicBezTo>
                  <a:pt x="15628" y="9407"/>
                  <a:pt x="15621" y="9483"/>
                  <a:pt x="15621" y="9557"/>
                </a:cubicBezTo>
                <a:cubicBezTo>
                  <a:pt x="15621" y="9505"/>
                  <a:pt x="15610" y="9513"/>
                  <a:pt x="15621" y="9462"/>
                </a:cubicBezTo>
                <a:cubicBezTo>
                  <a:pt x="15635" y="9400"/>
                  <a:pt x="15647" y="9285"/>
                  <a:pt x="15684" y="9239"/>
                </a:cubicBezTo>
                <a:cubicBezTo>
                  <a:pt x="15716" y="9208"/>
                  <a:pt x="15727" y="9197"/>
                  <a:pt x="15748" y="9176"/>
                </a:cubicBezTo>
                <a:cubicBezTo>
                  <a:pt x="15825" y="9253"/>
                  <a:pt x="15778" y="9275"/>
                  <a:pt x="15812" y="9366"/>
                </a:cubicBezTo>
                <a:cubicBezTo>
                  <a:pt x="15831" y="9416"/>
                  <a:pt x="15838" y="9518"/>
                  <a:pt x="15875" y="9557"/>
                </a:cubicBezTo>
                <a:cubicBezTo>
                  <a:pt x="15913" y="9598"/>
                  <a:pt x="15961" y="9585"/>
                  <a:pt x="16002" y="9557"/>
                </a:cubicBezTo>
                <a:cubicBezTo>
                  <a:pt x="16071" y="9509"/>
                  <a:pt x="16140" y="9449"/>
                  <a:pt x="16161" y="9366"/>
                </a:cubicBezTo>
                <a:cubicBezTo>
                  <a:pt x="16185" y="9271"/>
                  <a:pt x="16185" y="9178"/>
                  <a:pt x="16192" y="9080"/>
                </a:cubicBezTo>
                <a:cubicBezTo>
                  <a:pt x="16174" y="9113"/>
                  <a:pt x="16150" y="9179"/>
                  <a:pt x="16129" y="9239"/>
                </a:cubicBezTo>
                <a:cubicBezTo>
                  <a:pt x="16093" y="9339"/>
                  <a:pt x="16088" y="9365"/>
                  <a:pt x="16129" y="9462"/>
                </a:cubicBezTo>
                <a:cubicBezTo>
                  <a:pt x="16156" y="9525"/>
                  <a:pt x="16172" y="9540"/>
                  <a:pt x="16256" y="9525"/>
                </a:cubicBezTo>
                <a:cubicBezTo>
                  <a:pt x="16357" y="9507"/>
                  <a:pt x="16359" y="9473"/>
                  <a:pt x="16415" y="9398"/>
                </a:cubicBezTo>
                <a:cubicBezTo>
                  <a:pt x="16469" y="9325"/>
                  <a:pt x="16450" y="9282"/>
                  <a:pt x="16478" y="9208"/>
                </a:cubicBezTo>
                <a:cubicBezTo>
                  <a:pt x="16507" y="9179"/>
                  <a:pt x="16522" y="9168"/>
                  <a:pt x="16478" y="9176"/>
                </a:cubicBezTo>
                <a:cubicBezTo>
                  <a:pt x="16478" y="9291"/>
                  <a:pt x="16495" y="9383"/>
                  <a:pt x="16510" y="9493"/>
                </a:cubicBezTo>
                <a:cubicBezTo>
                  <a:pt x="16515" y="9532"/>
                  <a:pt x="16510" y="9580"/>
                  <a:pt x="16510" y="9620"/>
                </a:cubicBezTo>
                <a:cubicBezTo>
                  <a:pt x="16522" y="9587"/>
                  <a:pt x="16522" y="9462"/>
                  <a:pt x="16542" y="9398"/>
                </a:cubicBezTo>
                <a:cubicBezTo>
                  <a:pt x="16552" y="9365"/>
                  <a:pt x="16611" y="9224"/>
                  <a:pt x="16637" y="9208"/>
                </a:cubicBezTo>
                <a:cubicBezTo>
                  <a:pt x="16648" y="9208"/>
                  <a:pt x="16658" y="9208"/>
                  <a:pt x="16669" y="9208"/>
                </a:cubicBezTo>
                <a:cubicBezTo>
                  <a:pt x="16723" y="9239"/>
                  <a:pt x="16730" y="9258"/>
                  <a:pt x="16764" y="9303"/>
                </a:cubicBezTo>
                <a:cubicBezTo>
                  <a:pt x="16807" y="9359"/>
                  <a:pt x="16803" y="9425"/>
                  <a:pt x="16828" y="9493"/>
                </a:cubicBezTo>
                <a:cubicBezTo>
                  <a:pt x="16859" y="9578"/>
                  <a:pt x="16900" y="9579"/>
                  <a:pt x="16954" y="9620"/>
                </a:cubicBezTo>
                <a:cubicBezTo>
                  <a:pt x="16997" y="9653"/>
                  <a:pt x="17083" y="9626"/>
                  <a:pt x="17145" y="9588"/>
                </a:cubicBezTo>
                <a:cubicBezTo>
                  <a:pt x="17156" y="9578"/>
                  <a:pt x="17166" y="9567"/>
                  <a:pt x="17177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57"/>
          <p:cNvSpPr/>
          <p:nvPr/>
        </p:nvSpPr>
        <p:spPr>
          <a:xfrm>
            <a:off x="6458040" y="3176640"/>
            <a:ext cx="560160" cy="344520"/>
          </a:xfrm>
          <a:custGeom>
            <a:avLst/>
            <a:gdLst/>
            <a:ahLst/>
            <a:rect l="l" t="t" r="r" b="b"/>
            <a:pathLst>
              <a:path w="1556" h="954">
                <a:moveTo>
                  <a:pt x="18098" y="8922"/>
                </a:moveTo>
                <a:cubicBezTo>
                  <a:pt x="18056" y="8992"/>
                  <a:pt x="18066" y="9057"/>
                  <a:pt x="18066" y="9144"/>
                </a:cubicBezTo>
                <a:cubicBezTo>
                  <a:pt x="18066" y="9341"/>
                  <a:pt x="18039" y="9573"/>
                  <a:pt x="18098" y="9747"/>
                </a:cubicBezTo>
                <a:cubicBezTo>
                  <a:pt x="18098" y="9779"/>
                  <a:pt x="18098" y="9790"/>
                  <a:pt x="18098" y="9747"/>
                </a:cubicBezTo>
              </a:path>
              <a:path w="1556" h="954">
                <a:moveTo>
                  <a:pt x="17939" y="8826"/>
                </a:moveTo>
                <a:cubicBezTo>
                  <a:pt x="18003" y="8879"/>
                  <a:pt x="18071" y="8939"/>
                  <a:pt x="18129" y="8985"/>
                </a:cubicBezTo>
                <a:cubicBezTo>
                  <a:pt x="18227" y="9064"/>
                  <a:pt x="18336" y="9141"/>
                  <a:pt x="18383" y="9271"/>
                </a:cubicBezTo>
                <a:cubicBezTo>
                  <a:pt x="18413" y="9353"/>
                  <a:pt x="18432" y="9438"/>
                  <a:pt x="18383" y="9525"/>
                </a:cubicBezTo>
                <a:cubicBezTo>
                  <a:pt x="18359" y="9567"/>
                  <a:pt x="18264" y="9641"/>
                  <a:pt x="18224" y="9652"/>
                </a:cubicBezTo>
                <a:cubicBezTo>
                  <a:pt x="18176" y="9665"/>
                  <a:pt x="18062" y="9664"/>
                  <a:pt x="18034" y="9620"/>
                </a:cubicBezTo>
                <a:cubicBezTo>
                  <a:pt x="18034" y="9609"/>
                  <a:pt x="18034" y="9599"/>
                  <a:pt x="18034" y="9588"/>
                </a:cubicBezTo>
              </a:path>
              <a:path w="1556" h="954">
                <a:moveTo>
                  <a:pt x="18669" y="9271"/>
                </a:moveTo>
                <a:cubicBezTo>
                  <a:pt x="18647" y="9249"/>
                  <a:pt x="18609" y="9305"/>
                  <a:pt x="18606" y="9366"/>
                </a:cubicBezTo>
                <a:cubicBezTo>
                  <a:pt x="18600" y="9475"/>
                  <a:pt x="18592" y="9559"/>
                  <a:pt x="18606" y="9652"/>
                </a:cubicBezTo>
                <a:cubicBezTo>
                  <a:pt x="18614" y="9705"/>
                  <a:pt x="18620" y="9704"/>
                  <a:pt x="18669" y="9716"/>
                </a:cubicBezTo>
                <a:cubicBezTo>
                  <a:pt x="18733" y="9651"/>
                  <a:pt x="18791" y="9617"/>
                  <a:pt x="18796" y="9525"/>
                </a:cubicBezTo>
                <a:cubicBezTo>
                  <a:pt x="18803" y="9415"/>
                  <a:pt x="18792" y="9330"/>
                  <a:pt x="18764" y="9239"/>
                </a:cubicBezTo>
                <a:cubicBezTo>
                  <a:pt x="18764" y="9229"/>
                  <a:pt x="18764" y="9218"/>
                  <a:pt x="18764" y="9208"/>
                </a:cubicBezTo>
                <a:cubicBezTo>
                  <a:pt x="18857" y="9231"/>
                  <a:pt x="18826" y="9265"/>
                  <a:pt x="18860" y="9334"/>
                </a:cubicBezTo>
                <a:cubicBezTo>
                  <a:pt x="18892" y="9400"/>
                  <a:pt x="18928" y="9451"/>
                  <a:pt x="18955" y="9525"/>
                </a:cubicBezTo>
                <a:cubicBezTo>
                  <a:pt x="18980" y="9593"/>
                  <a:pt x="18986" y="9614"/>
                  <a:pt x="18986" y="9684"/>
                </a:cubicBezTo>
                <a:cubicBezTo>
                  <a:pt x="18986" y="9591"/>
                  <a:pt x="18987" y="9546"/>
                  <a:pt x="19018" y="9462"/>
                </a:cubicBezTo>
                <a:cubicBezTo>
                  <a:pt x="19053" y="9365"/>
                  <a:pt x="19077" y="9340"/>
                  <a:pt x="19145" y="9271"/>
                </a:cubicBezTo>
                <a:cubicBezTo>
                  <a:pt x="19156" y="9260"/>
                  <a:pt x="19166" y="9250"/>
                  <a:pt x="19177" y="9239"/>
                </a:cubicBezTo>
                <a:cubicBezTo>
                  <a:pt x="19242" y="9255"/>
                  <a:pt x="19265" y="9294"/>
                  <a:pt x="19272" y="9366"/>
                </a:cubicBezTo>
                <a:cubicBezTo>
                  <a:pt x="19281" y="9456"/>
                  <a:pt x="19297" y="9533"/>
                  <a:pt x="19304" y="9620"/>
                </a:cubicBezTo>
                <a:cubicBezTo>
                  <a:pt x="19309" y="9687"/>
                  <a:pt x="19356" y="9724"/>
                  <a:pt x="19368" y="9747"/>
                </a:cubicBezTo>
                <a:cubicBezTo>
                  <a:pt x="19391" y="9794"/>
                  <a:pt x="19377" y="9788"/>
                  <a:pt x="19431" y="9747"/>
                </a:cubicBezTo>
              </a:path>
              <a:path w="1556" h="954">
                <a:moveTo>
                  <a:pt x="19368" y="9080"/>
                </a:moveTo>
                <a:cubicBezTo>
                  <a:pt x="19463" y="9080"/>
                  <a:pt x="19415" y="9135"/>
                  <a:pt x="19463" y="9176"/>
                </a:cubicBezTo>
                <a:cubicBezTo>
                  <a:pt x="19473" y="9176"/>
                  <a:pt x="19484" y="9176"/>
                  <a:pt x="19494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58"/>
          <p:cNvSpPr/>
          <p:nvPr/>
        </p:nvSpPr>
        <p:spPr>
          <a:xfrm>
            <a:off x="7361280" y="3108240"/>
            <a:ext cx="1235160" cy="777960"/>
          </a:xfrm>
          <a:custGeom>
            <a:avLst/>
            <a:gdLst/>
            <a:ahLst/>
            <a:rect l="l" t="t" r="r" b="b"/>
            <a:pathLst>
              <a:path w="3430" h="2160">
                <a:moveTo>
                  <a:pt x="20923" y="8985"/>
                </a:moveTo>
                <a:cubicBezTo>
                  <a:pt x="20913" y="9054"/>
                  <a:pt x="20912" y="9137"/>
                  <a:pt x="20892" y="9208"/>
                </a:cubicBezTo>
                <a:cubicBezTo>
                  <a:pt x="20872" y="9279"/>
                  <a:pt x="20860" y="9323"/>
                  <a:pt x="20860" y="9398"/>
                </a:cubicBezTo>
                <a:cubicBezTo>
                  <a:pt x="20860" y="9451"/>
                  <a:pt x="20860" y="9504"/>
                  <a:pt x="20860" y="9557"/>
                </a:cubicBezTo>
              </a:path>
              <a:path w="3430" h="2160">
                <a:moveTo>
                  <a:pt x="21272" y="8922"/>
                </a:moveTo>
                <a:cubicBezTo>
                  <a:pt x="21359" y="8835"/>
                  <a:pt x="21225" y="8974"/>
                  <a:pt x="21209" y="8985"/>
                </a:cubicBezTo>
                <a:cubicBezTo>
                  <a:pt x="21139" y="9030"/>
                  <a:pt x="21079" y="9057"/>
                  <a:pt x="21050" y="9144"/>
                </a:cubicBezTo>
                <a:cubicBezTo>
                  <a:pt x="21050" y="9176"/>
                  <a:pt x="21050" y="9187"/>
                  <a:pt x="21018" y="9176"/>
                </a:cubicBezTo>
                <a:cubicBezTo>
                  <a:pt x="21074" y="9218"/>
                  <a:pt x="21103" y="9208"/>
                  <a:pt x="21177" y="9208"/>
                </a:cubicBezTo>
                <a:cubicBezTo>
                  <a:pt x="21250" y="9208"/>
                  <a:pt x="21311" y="9194"/>
                  <a:pt x="21368" y="9239"/>
                </a:cubicBezTo>
                <a:cubicBezTo>
                  <a:pt x="21389" y="9256"/>
                  <a:pt x="21443" y="9338"/>
                  <a:pt x="21431" y="9366"/>
                </a:cubicBezTo>
                <a:cubicBezTo>
                  <a:pt x="21413" y="9407"/>
                  <a:pt x="21351" y="9504"/>
                  <a:pt x="21304" y="9525"/>
                </a:cubicBezTo>
                <a:cubicBezTo>
                  <a:pt x="21214" y="9565"/>
                  <a:pt x="21241" y="9445"/>
                  <a:pt x="21241" y="9398"/>
                </a:cubicBezTo>
              </a:path>
              <a:path w="3430" h="2160">
                <a:moveTo>
                  <a:pt x="22003" y="8636"/>
                </a:moveTo>
                <a:cubicBezTo>
                  <a:pt x="21989" y="8745"/>
                  <a:pt x="21971" y="8838"/>
                  <a:pt x="21971" y="8954"/>
                </a:cubicBezTo>
                <a:cubicBezTo>
                  <a:pt x="21971" y="9099"/>
                  <a:pt x="21966" y="9218"/>
                  <a:pt x="21971" y="9366"/>
                </a:cubicBezTo>
                <a:cubicBezTo>
                  <a:pt x="21971" y="9366"/>
                  <a:pt x="21971" y="9620"/>
                  <a:pt x="21971" y="9525"/>
                </a:cubicBezTo>
                <a:cubicBezTo>
                  <a:pt x="21971" y="9374"/>
                  <a:pt x="21958" y="9227"/>
                  <a:pt x="22003" y="9080"/>
                </a:cubicBezTo>
                <a:cubicBezTo>
                  <a:pt x="22024" y="9011"/>
                  <a:pt x="22092" y="8930"/>
                  <a:pt x="22162" y="8922"/>
                </a:cubicBezTo>
                <a:cubicBezTo>
                  <a:pt x="22172" y="8922"/>
                  <a:pt x="22183" y="8922"/>
                  <a:pt x="22193" y="8922"/>
                </a:cubicBezTo>
                <a:cubicBezTo>
                  <a:pt x="22238" y="8967"/>
                  <a:pt x="22280" y="9024"/>
                  <a:pt x="22288" y="9080"/>
                </a:cubicBezTo>
                <a:cubicBezTo>
                  <a:pt x="22305" y="9198"/>
                  <a:pt x="22288" y="9274"/>
                  <a:pt x="22225" y="9366"/>
                </a:cubicBezTo>
                <a:cubicBezTo>
                  <a:pt x="22172" y="9443"/>
                  <a:pt x="22129" y="9525"/>
                  <a:pt x="22034" y="9557"/>
                </a:cubicBezTo>
                <a:cubicBezTo>
                  <a:pt x="21985" y="9573"/>
                  <a:pt x="21982" y="9557"/>
                  <a:pt x="21971" y="9525"/>
                </a:cubicBezTo>
              </a:path>
              <a:path w="3430" h="2160">
                <a:moveTo>
                  <a:pt x="22511" y="8954"/>
                </a:moveTo>
                <a:cubicBezTo>
                  <a:pt x="22511" y="9032"/>
                  <a:pt x="22475" y="9072"/>
                  <a:pt x="22447" y="9144"/>
                </a:cubicBezTo>
                <a:cubicBezTo>
                  <a:pt x="22407" y="9248"/>
                  <a:pt x="22391" y="9357"/>
                  <a:pt x="22384" y="9462"/>
                </a:cubicBezTo>
                <a:cubicBezTo>
                  <a:pt x="22384" y="9472"/>
                  <a:pt x="22384" y="9483"/>
                  <a:pt x="22384" y="9493"/>
                </a:cubicBezTo>
                <a:cubicBezTo>
                  <a:pt x="22474" y="9493"/>
                  <a:pt x="22459" y="9469"/>
                  <a:pt x="22511" y="9398"/>
                </a:cubicBezTo>
                <a:cubicBezTo>
                  <a:pt x="22550" y="9345"/>
                  <a:pt x="22594" y="9214"/>
                  <a:pt x="22606" y="9144"/>
                </a:cubicBezTo>
                <a:cubicBezTo>
                  <a:pt x="22619" y="9069"/>
                  <a:pt x="22713" y="8907"/>
                  <a:pt x="22638" y="8922"/>
                </a:cubicBezTo>
                <a:cubicBezTo>
                  <a:pt x="22609" y="8951"/>
                  <a:pt x="22594" y="8962"/>
                  <a:pt x="22638" y="8954"/>
                </a:cubicBezTo>
              </a:path>
              <a:path w="3430" h="2160">
                <a:moveTo>
                  <a:pt x="22828" y="8954"/>
                </a:moveTo>
                <a:cubicBezTo>
                  <a:pt x="22828" y="9134"/>
                  <a:pt x="22828" y="9313"/>
                  <a:pt x="22828" y="9493"/>
                </a:cubicBezTo>
                <a:cubicBezTo>
                  <a:pt x="22868" y="9454"/>
                  <a:pt x="22860" y="9382"/>
                  <a:pt x="22860" y="9303"/>
                </a:cubicBezTo>
                <a:cubicBezTo>
                  <a:pt x="22860" y="9187"/>
                  <a:pt x="22859" y="9087"/>
                  <a:pt x="22924" y="8985"/>
                </a:cubicBezTo>
                <a:cubicBezTo>
                  <a:pt x="22948" y="8948"/>
                  <a:pt x="22971" y="8880"/>
                  <a:pt x="23019" y="8858"/>
                </a:cubicBezTo>
                <a:cubicBezTo>
                  <a:pt x="23029" y="8858"/>
                  <a:pt x="23040" y="8858"/>
                  <a:pt x="23050" y="8858"/>
                </a:cubicBezTo>
              </a:path>
              <a:path w="3430" h="2160">
                <a:moveTo>
                  <a:pt x="23209" y="8922"/>
                </a:moveTo>
                <a:cubicBezTo>
                  <a:pt x="23250" y="8976"/>
                  <a:pt x="23241" y="9008"/>
                  <a:pt x="23241" y="9080"/>
                </a:cubicBezTo>
                <a:cubicBezTo>
                  <a:pt x="23241" y="9218"/>
                  <a:pt x="23241" y="9355"/>
                  <a:pt x="23241" y="9493"/>
                </a:cubicBezTo>
                <a:cubicBezTo>
                  <a:pt x="23241" y="9366"/>
                  <a:pt x="23243" y="9266"/>
                  <a:pt x="23273" y="9144"/>
                </a:cubicBezTo>
                <a:cubicBezTo>
                  <a:pt x="23313" y="8981"/>
                  <a:pt x="23311" y="8928"/>
                  <a:pt x="23400" y="8795"/>
                </a:cubicBezTo>
                <a:cubicBezTo>
                  <a:pt x="23443" y="8731"/>
                  <a:pt x="23427" y="8717"/>
                  <a:pt x="23495" y="8700"/>
                </a:cubicBezTo>
                <a:cubicBezTo>
                  <a:pt x="23514" y="8792"/>
                  <a:pt x="23527" y="8854"/>
                  <a:pt x="23527" y="8954"/>
                </a:cubicBezTo>
                <a:cubicBezTo>
                  <a:pt x="23527" y="9025"/>
                  <a:pt x="23481" y="9264"/>
                  <a:pt x="23558" y="9303"/>
                </a:cubicBezTo>
                <a:cubicBezTo>
                  <a:pt x="23594" y="9303"/>
                  <a:pt x="23608" y="9306"/>
                  <a:pt x="23622" y="9334"/>
                </a:cubicBezTo>
                <a:cubicBezTo>
                  <a:pt x="23697" y="9260"/>
                  <a:pt x="23740" y="9180"/>
                  <a:pt x="23781" y="9080"/>
                </a:cubicBezTo>
                <a:cubicBezTo>
                  <a:pt x="23814" y="8980"/>
                  <a:pt x="23827" y="8945"/>
                  <a:pt x="23876" y="8890"/>
                </a:cubicBezTo>
              </a:path>
              <a:path w="3430" h="2160">
                <a:moveTo>
                  <a:pt x="20510" y="10033"/>
                </a:moveTo>
                <a:cubicBezTo>
                  <a:pt x="20523" y="10086"/>
                  <a:pt x="20547" y="10113"/>
                  <a:pt x="20574" y="10160"/>
                </a:cubicBezTo>
                <a:cubicBezTo>
                  <a:pt x="20612" y="10227"/>
                  <a:pt x="20642" y="10282"/>
                  <a:pt x="20669" y="10350"/>
                </a:cubicBezTo>
                <a:cubicBezTo>
                  <a:pt x="20698" y="10421"/>
                  <a:pt x="20745" y="10474"/>
                  <a:pt x="20764" y="10541"/>
                </a:cubicBezTo>
                <a:cubicBezTo>
                  <a:pt x="20779" y="10593"/>
                  <a:pt x="20786" y="10622"/>
                  <a:pt x="20828" y="10636"/>
                </a:cubicBezTo>
              </a:path>
              <a:path w="3430" h="2160">
                <a:moveTo>
                  <a:pt x="20796" y="10033"/>
                </a:moveTo>
                <a:cubicBezTo>
                  <a:pt x="20796" y="10103"/>
                  <a:pt x="20781" y="10124"/>
                  <a:pt x="20764" y="10192"/>
                </a:cubicBezTo>
                <a:cubicBezTo>
                  <a:pt x="20738" y="10297"/>
                  <a:pt x="20682" y="10379"/>
                  <a:pt x="20638" y="10478"/>
                </a:cubicBezTo>
                <a:cubicBezTo>
                  <a:pt x="20586" y="10596"/>
                  <a:pt x="20526" y="10694"/>
                  <a:pt x="20447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59"/>
          <p:cNvSpPr/>
          <p:nvPr/>
        </p:nvSpPr>
        <p:spPr>
          <a:xfrm>
            <a:off x="8823240" y="3475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511" y="9652"/>
                </a:moveTo>
                <a:lnTo>
                  <a:pt x="24511" y="96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60"/>
          <p:cNvSpPr/>
          <p:nvPr/>
        </p:nvSpPr>
        <p:spPr>
          <a:xfrm>
            <a:off x="1874880" y="250920"/>
            <a:ext cx="149040" cy="298440"/>
          </a:xfrm>
          <a:custGeom>
            <a:avLst/>
            <a:gdLst/>
            <a:ahLst/>
            <a:rect l="l" t="t" r="r" b="b"/>
            <a:pathLst>
              <a:path w="414" h="827">
                <a:moveTo>
                  <a:pt x="5366" y="794"/>
                </a:moveTo>
                <a:cubicBezTo>
                  <a:pt x="5366" y="783"/>
                  <a:pt x="5366" y="773"/>
                  <a:pt x="5366" y="762"/>
                </a:cubicBezTo>
                <a:cubicBezTo>
                  <a:pt x="5376" y="803"/>
                  <a:pt x="5383" y="848"/>
                  <a:pt x="5398" y="889"/>
                </a:cubicBezTo>
                <a:cubicBezTo>
                  <a:pt x="5420" y="952"/>
                  <a:pt x="5462" y="1058"/>
                  <a:pt x="5493" y="1111"/>
                </a:cubicBezTo>
                <a:cubicBezTo>
                  <a:pt x="5531" y="1175"/>
                  <a:pt x="5567" y="1198"/>
                  <a:pt x="5620" y="1238"/>
                </a:cubicBezTo>
              </a:path>
              <a:path w="414" h="827">
                <a:moveTo>
                  <a:pt x="5620" y="698"/>
                </a:moveTo>
                <a:cubicBezTo>
                  <a:pt x="5564" y="717"/>
                  <a:pt x="5492" y="864"/>
                  <a:pt x="5461" y="921"/>
                </a:cubicBezTo>
                <a:cubicBezTo>
                  <a:pt x="5378" y="1071"/>
                  <a:pt x="5338" y="1240"/>
                  <a:pt x="5270" y="1397"/>
                </a:cubicBezTo>
                <a:cubicBezTo>
                  <a:pt x="5239" y="1460"/>
                  <a:pt x="5228" y="1482"/>
                  <a:pt x="5207" y="1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61"/>
          <p:cNvSpPr/>
          <p:nvPr/>
        </p:nvSpPr>
        <p:spPr>
          <a:xfrm>
            <a:off x="4618080" y="263520"/>
            <a:ext cx="193680" cy="503280"/>
          </a:xfrm>
          <a:custGeom>
            <a:avLst/>
            <a:gdLst/>
            <a:ahLst/>
            <a:rect l="l" t="t" r="r" b="b"/>
            <a:pathLst>
              <a:path w="541" h="1398">
                <a:moveTo>
                  <a:pt x="12986" y="730"/>
                </a:moveTo>
                <a:cubicBezTo>
                  <a:pt x="12941" y="790"/>
                  <a:pt x="12954" y="842"/>
                  <a:pt x="12954" y="921"/>
                </a:cubicBezTo>
                <a:cubicBezTo>
                  <a:pt x="12954" y="1038"/>
                  <a:pt x="12993" y="1131"/>
                  <a:pt x="13018" y="1238"/>
                </a:cubicBezTo>
                <a:cubicBezTo>
                  <a:pt x="13018" y="1274"/>
                  <a:pt x="13021" y="1288"/>
                  <a:pt x="13049" y="1302"/>
                </a:cubicBezTo>
                <a:cubicBezTo>
                  <a:pt x="13119" y="1285"/>
                  <a:pt x="13141" y="1241"/>
                  <a:pt x="13176" y="1175"/>
                </a:cubicBezTo>
                <a:cubicBezTo>
                  <a:pt x="13228" y="1077"/>
                  <a:pt x="13268" y="967"/>
                  <a:pt x="13272" y="857"/>
                </a:cubicBezTo>
                <a:cubicBezTo>
                  <a:pt x="13272" y="762"/>
                  <a:pt x="13304" y="719"/>
                  <a:pt x="13240" y="730"/>
                </a:cubicBezTo>
                <a:cubicBezTo>
                  <a:pt x="13240" y="865"/>
                  <a:pt x="13257" y="981"/>
                  <a:pt x="13272" y="1111"/>
                </a:cubicBezTo>
                <a:cubicBezTo>
                  <a:pt x="13286" y="1229"/>
                  <a:pt x="13343" y="1315"/>
                  <a:pt x="13367" y="1429"/>
                </a:cubicBezTo>
                <a:cubicBezTo>
                  <a:pt x="13390" y="1539"/>
                  <a:pt x="13375" y="1706"/>
                  <a:pt x="13335" y="1810"/>
                </a:cubicBezTo>
                <a:cubicBezTo>
                  <a:pt x="13296" y="1912"/>
                  <a:pt x="13253" y="1968"/>
                  <a:pt x="13176" y="2032"/>
                </a:cubicBezTo>
                <a:cubicBezTo>
                  <a:pt x="13106" y="2090"/>
                  <a:pt x="13046" y="2122"/>
                  <a:pt x="12954" y="2127"/>
                </a:cubicBezTo>
                <a:cubicBezTo>
                  <a:pt x="12912" y="2129"/>
                  <a:pt x="12869" y="2127"/>
                  <a:pt x="12827" y="2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62"/>
          <p:cNvSpPr/>
          <p:nvPr/>
        </p:nvSpPr>
        <p:spPr>
          <a:xfrm>
            <a:off x="6480000" y="3486240"/>
            <a:ext cx="2217960" cy="92160"/>
          </a:xfrm>
          <a:custGeom>
            <a:avLst/>
            <a:gdLst/>
            <a:ahLst/>
            <a:rect l="l" t="t" r="r" b="b"/>
            <a:pathLst>
              <a:path w="6161" h="255">
                <a:moveTo>
                  <a:pt x="18002" y="9938"/>
                </a:moveTo>
                <a:cubicBezTo>
                  <a:pt x="18036" y="9932"/>
                  <a:pt x="18109" y="9908"/>
                  <a:pt x="18129" y="9906"/>
                </a:cubicBezTo>
                <a:cubicBezTo>
                  <a:pt x="18218" y="9897"/>
                  <a:pt x="18296" y="9880"/>
                  <a:pt x="18383" y="9874"/>
                </a:cubicBezTo>
                <a:cubicBezTo>
                  <a:pt x="18666" y="9853"/>
                  <a:pt x="18960" y="9859"/>
                  <a:pt x="19240" y="9842"/>
                </a:cubicBezTo>
                <a:cubicBezTo>
                  <a:pt x="19401" y="9832"/>
                  <a:pt x="19559" y="9824"/>
                  <a:pt x="19717" y="9811"/>
                </a:cubicBezTo>
                <a:cubicBezTo>
                  <a:pt x="20000" y="9788"/>
                  <a:pt x="20292" y="9798"/>
                  <a:pt x="20574" y="9779"/>
                </a:cubicBezTo>
                <a:cubicBezTo>
                  <a:pt x="20785" y="9765"/>
                  <a:pt x="20999" y="9752"/>
                  <a:pt x="21209" y="9747"/>
                </a:cubicBezTo>
                <a:cubicBezTo>
                  <a:pt x="21476" y="9741"/>
                  <a:pt x="21739" y="9731"/>
                  <a:pt x="22003" y="9716"/>
                </a:cubicBezTo>
                <a:cubicBezTo>
                  <a:pt x="22225" y="9703"/>
                  <a:pt x="22449" y="9689"/>
                  <a:pt x="22670" y="9684"/>
                </a:cubicBezTo>
                <a:cubicBezTo>
                  <a:pt x="22960" y="9677"/>
                  <a:pt x="23243" y="9692"/>
                  <a:pt x="23527" y="9716"/>
                </a:cubicBezTo>
                <a:cubicBezTo>
                  <a:pt x="23659" y="9727"/>
                  <a:pt x="23779" y="9723"/>
                  <a:pt x="23908" y="9747"/>
                </a:cubicBezTo>
                <a:cubicBezTo>
                  <a:pt x="23996" y="9764"/>
                  <a:pt x="24070" y="9773"/>
                  <a:pt x="24162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equation y = 461.19x + 3492 represents the value of a work of art from 1964 to 2005. What does the number 461.19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4"/>
          <p:cNvSpPr/>
          <p:nvPr/>
        </p:nvSpPr>
        <p:spPr>
          <a:xfrm>
            <a:off x="1063800" y="3382920"/>
            <a:ext cx="1404720" cy="800280"/>
          </a:xfrm>
          <a:custGeom>
            <a:avLst/>
            <a:gdLst/>
            <a:ahLst/>
            <a:rect l="l" t="t" r="r" b="b"/>
            <a:pathLst>
              <a:path w="3906" h="2223">
                <a:moveTo>
                  <a:pt x="3588" y="9938"/>
                </a:moveTo>
                <a:cubicBezTo>
                  <a:pt x="3609" y="9959"/>
                  <a:pt x="3630" y="9980"/>
                  <a:pt x="3651" y="10001"/>
                </a:cubicBezTo>
                <a:cubicBezTo>
                  <a:pt x="3642" y="9937"/>
                  <a:pt x="3623" y="9908"/>
                  <a:pt x="3620" y="9842"/>
                </a:cubicBezTo>
                <a:cubicBezTo>
                  <a:pt x="3617" y="9773"/>
                  <a:pt x="3612" y="9715"/>
                  <a:pt x="3588" y="9652"/>
                </a:cubicBezTo>
                <a:cubicBezTo>
                  <a:pt x="3555" y="9565"/>
                  <a:pt x="3555" y="9566"/>
                  <a:pt x="3492" y="9525"/>
                </a:cubicBezTo>
                <a:cubicBezTo>
                  <a:pt x="3421" y="9479"/>
                  <a:pt x="3368" y="9522"/>
                  <a:pt x="3302" y="9557"/>
                </a:cubicBezTo>
                <a:cubicBezTo>
                  <a:pt x="3196" y="9613"/>
                  <a:pt x="3164" y="9675"/>
                  <a:pt x="3112" y="9779"/>
                </a:cubicBezTo>
                <a:cubicBezTo>
                  <a:pt x="3081" y="9840"/>
                  <a:pt x="3053" y="9963"/>
                  <a:pt x="3080" y="10033"/>
                </a:cubicBezTo>
                <a:cubicBezTo>
                  <a:pt x="3110" y="10112"/>
                  <a:pt x="3176" y="10145"/>
                  <a:pt x="3238" y="10192"/>
                </a:cubicBezTo>
                <a:cubicBezTo>
                  <a:pt x="3299" y="10238"/>
                  <a:pt x="3363" y="10233"/>
                  <a:pt x="3429" y="10287"/>
                </a:cubicBezTo>
                <a:cubicBezTo>
                  <a:pt x="3467" y="10318"/>
                  <a:pt x="3514" y="10376"/>
                  <a:pt x="3524" y="10446"/>
                </a:cubicBezTo>
                <a:cubicBezTo>
                  <a:pt x="3541" y="10571"/>
                  <a:pt x="3509" y="10676"/>
                  <a:pt x="3492" y="10795"/>
                </a:cubicBezTo>
                <a:cubicBezTo>
                  <a:pt x="3475" y="10912"/>
                  <a:pt x="3453" y="10945"/>
                  <a:pt x="3366" y="11017"/>
                </a:cubicBezTo>
                <a:cubicBezTo>
                  <a:pt x="3312" y="11062"/>
                  <a:pt x="3252" y="11103"/>
                  <a:pt x="3175" y="11081"/>
                </a:cubicBezTo>
                <a:cubicBezTo>
                  <a:pt x="3094" y="11058"/>
                  <a:pt x="3022" y="10959"/>
                  <a:pt x="2984" y="10890"/>
                </a:cubicBezTo>
                <a:cubicBezTo>
                  <a:pt x="2939" y="10809"/>
                  <a:pt x="2953" y="10726"/>
                  <a:pt x="2953" y="10636"/>
                </a:cubicBezTo>
                <a:cubicBezTo>
                  <a:pt x="2953" y="10604"/>
                  <a:pt x="2953" y="10573"/>
                  <a:pt x="2953" y="10541"/>
                </a:cubicBezTo>
              </a:path>
              <a:path w="3906" h="2223">
                <a:moveTo>
                  <a:pt x="3937" y="9398"/>
                </a:moveTo>
                <a:cubicBezTo>
                  <a:pt x="3937" y="9718"/>
                  <a:pt x="3931" y="10034"/>
                  <a:pt x="3905" y="10350"/>
                </a:cubicBezTo>
                <a:cubicBezTo>
                  <a:pt x="3893" y="10491"/>
                  <a:pt x="3894" y="10629"/>
                  <a:pt x="3874" y="10763"/>
                </a:cubicBezTo>
                <a:cubicBezTo>
                  <a:pt x="3865" y="10824"/>
                  <a:pt x="3874" y="10892"/>
                  <a:pt x="3874" y="10954"/>
                </a:cubicBezTo>
              </a:path>
              <a:path w="3906" h="2223">
                <a:moveTo>
                  <a:pt x="4350" y="10033"/>
                </a:moveTo>
                <a:cubicBezTo>
                  <a:pt x="4304" y="10124"/>
                  <a:pt x="4266" y="10217"/>
                  <a:pt x="4254" y="10319"/>
                </a:cubicBezTo>
                <a:cubicBezTo>
                  <a:pt x="4237" y="10461"/>
                  <a:pt x="4244" y="10600"/>
                  <a:pt x="4254" y="10732"/>
                </a:cubicBezTo>
                <a:cubicBezTo>
                  <a:pt x="4260" y="10820"/>
                  <a:pt x="4275" y="10950"/>
                  <a:pt x="4382" y="10986"/>
                </a:cubicBezTo>
                <a:cubicBezTo>
                  <a:pt x="4519" y="11032"/>
                  <a:pt x="4588" y="10840"/>
                  <a:pt x="4636" y="10763"/>
                </a:cubicBezTo>
                <a:cubicBezTo>
                  <a:pt x="4714" y="10637"/>
                  <a:pt x="4780" y="10473"/>
                  <a:pt x="4762" y="10319"/>
                </a:cubicBezTo>
                <a:cubicBezTo>
                  <a:pt x="4751" y="10223"/>
                  <a:pt x="4658" y="10025"/>
                  <a:pt x="4572" y="9970"/>
                </a:cubicBezTo>
                <a:cubicBezTo>
                  <a:pt x="4540" y="9950"/>
                  <a:pt x="4366" y="9922"/>
                  <a:pt x="4350" y="9906"/>
                </a:cubicBezTo>
                <a:cubicBezTo>
                  <a:pt x="4350" y="9870"/>
                  <a:pt x="4353" y="9862"/>
                  <a:pt x="4382" y="9906"/>
                </a:cubicBezTo>
              </a:path>
              <a:path w="3906" h="2223">
                <a:moveTo>
                  <a:pt x="4921" y="9938"/>
                </a:moveTo>
                <a:cubicBezTo>
                  <a:pt x="4921" y="10041"/>
                  <a:pt x="4906" y="10128"/>
                  <a:pt x="4890" y="10224"/>
                </a:cubicBezTo>
                <a:cubicBezTo>
                  <a:pt x="4845" y="10498"/>
                  <a:pt x="4899" y="10811"/>
                  <a:pt x="4921" y="11081"/>
                </a:cubicBezTo>
                <a:cubicBezTo>
                  <a:pt x="4932" y="11216"/>
                  <a:pt x="4984" y="11389"/>
                  <a:pt x="4953" y="11525"/>
                </a:cubicBezTo>
                <a:cubicBezTo>
                  <a:pt x="4934" y="11607"/>
                  <a:pt x="4915" y="11589"/>
                  <a:pt x="4890" y="11620"/>
                </a:cubicBezTo>
                <a:cubicBezTo>
                  <a:pt x="4838" y="11535"/>
                  <a:pt x="4845" y="11436"/>
                  <a:pt x="4826" y="11335"/>
                </a:cubicBezTo>
                <a:cubicBezTo>
                  <a:pt x="4789" y="11139"/>
                  <a:pt x="4812" y="10989"/>
                  <a:pt x="4826" y="10795"/>
                </a:cubicBezTo>
                <a:cubicBezTo>
                  <a:pt x="4840" y="10599"/>
                  <a:pt x="4867" y="10416"/>
                  <a:pt x="4921" y="10224"/>
                </a:cubicBezTo>
                <a:cubicBezTo>
                  <a:pt x="4952" y="10113"/>
                  <a:pt x="5023" y="9948"/>
                  <a:pt x="5112" y="9874"/>
                </a:cubicBezTo>
                <a:cubicBezTo>
                  <a:pt x="5186" y="9813"/>
                  <a:pt x="5241" y="9811"/>
                  <a:pt x="5334" y="9811"/>
                </a:cubicBezTo>
                <a:cubicBezTo>
                  <a:pt x="5390" y="9907"/>
                  <a:pt x="5398" y="9949"/>
                  <a:pt x="5398" y="10065"/>
                </a:cubicBezTo>
                <a:cubicBezTo>
                  <a:pt x="5398" y="10214"/>
                  <a:pt x="5351" y="10299"/>
                  <a:pt x="5270" y="10414"/>
                </a:cubicBezTo>
                <a:cubicBezTo>
                  <a:pt x="5181" y="10540"/>
                  <a:pt x="5087" y="10603"/>
                  <a:pt x="4953" y="10668"/>
                </a:cubicBezTo>
                <a:cubicBezTo>
                  <a:pt x="4892" y="10697"/>
                  <a:pt x="4801" y="10722"/>
                  <a:pt x="4731" y="10700"/>
                </a:cubicBezTo>
                <a:cubicBezTo>
                  <a:pt x="4662" y="10678"/>
                  <a:pt x="4659" y="10655"/>
                  <a:pt x="4699" y="10604"/>
                </a:cubicBezTo>
                <a:cubicBezTo>
                  <a:pt x="4732" y="10563"/>
                  <a:pt x="4785" y="10542"/>
                  <a:pt x="4826" y="10509"/>
                </a:cubicBezTo>
              </a:path>
              <a:path w="3906" h="2223">
                <a:moveTo>
                  <a:pt x="5620" y="10287"/>
                </a:moveTo>
                <a:cubicBezTo>
                  <a:pt x="5659" y="10257"/>
                  <a:pt x="5730" y="10227"/>
                  <a:pt x="5778" y="10224"/>
                </a:cubicBezTo>
                <a:cubicBezTo>
                  <a:pt x="5891" y="10216"/>
                  <a:pt x="5989" y="10210"/>
                  <a:pt x="6096" y="10192"/>
                </a:cubicBezTo>
                <a:cubicBezTo>
                  <a:pt x="6156" y="10182"/>
                  <a:pt x="6224" y="10165"/>
                  <a:pt x="6255" y="10096"/>
                </a:cubicBezTo>
                <a:cubicBezTo>
                  <a:pt x="6279" y="10043"/>
                  <a:pt x="6244" y="9977"/>
                  <a:pt x="6223" y="9938"/>
                </a:cubicBezTo>
                <a:cubicBezTo>
                  <a:pt x="6175" y="9848"/>
                  <a:pt x="6105" y="9819"/>
                  <a:pt x="6001" y="9842"/>
                </a:cubicBezTo>
                <a:cubicBezTo>
                  <a:pt x="5873" y="9870"/>
                  <a:pt x="5800" y="9892"/>
                  <a:pt x="5715" y="10001"/>
                </a:cubicBezTo>
                <a:cubicBezTo>
                  <a:pt x="5620" y="10122"/>
                  <a:pt x="5593" y="10264"/>
                  <a:pt x="5588" y="10414"/>
                </a:cubicBezTo>
                <a:cubicBezTo>
                  <a:pt x="5583" y="10581"/>
                  <a:pt x="5653" y="10770"/>
                  <a:pt x="5810" y="10858"/>
                </a:cubicBezTo>
                <a:cubicBezTo>
                  <a:pt x="5915" y="10917"/>
                  <a:pt x="6054" y="10896"/>
                  <a:pt x="6160" y="10858"/>
                </a:cubicBezTo>
                <a:cubicBezTo>
                  <a:pt x="6223" y="10827"/>
                  <a:pt x="6244" y="10817"/>
                  <a:pt x="6286" y="10795"/>
                </a:cubicBezTo>
              </a:path>
              <a:path w="3906" h="2223">
                <a:moveTo>
                  <a:pt x="6826" y="9906"/>
                </a:moveTo>
                <a:cubicBezTo>
                  <a:pt x="6770" y="9869"/>
                  <a:pt x="6794" y="9896"/>
                  <a:pt x="6763" y="9938"/>
                </a:cubicBezTo>
                <a:cubicBezTo>
                  <a:pt x="6729" y="9984"/>
                  <a:pt x="6706" y="10014"/>
                  <a:pt x="6763" y="10033"/>
                </a:cubicBezTo>
                <a:cubicBezTo>
                  <a:pt x="6796" y="10022"/>
                  <a:pt x="6821" y="10009"/>
                  <a:pt x="6826" y="9970"/>
                </a:cubicBezTo>
                <a:cubicBezTo>
                  <a:pt x="6832" y="9920"/>
                  <a:pt x="6801" y="9860"/>
                  <a:pt x="6763" y="9938"/>
                </a:cubicBezTo>
                <a:cubicBezTo>
                  <a:pt x="6763" y="9949"/>
                  <a:pt x="6763" y="9959"/>
                  <a:pt x="6763" y="9970"/>
                </a:cubicBezTo>
              </a:path>
              <a:path w="3906" h="2223">
                <a:moveTo>
                  <a:pt x="6763" y="10573"/>
                </a:moveTo>
                <a:cubicBezTo>
                  <a:pt x="6763" y="10487"/>
                  <a:pt x="6763" y="10622"/>
                  <a:pt x="6763" y="10636"/>
                </a:cubicBezTo>
                <a:cubicBezTo>
                  <a:pt x="6763" y="10647"/>
                  <a:pt x="6763" y="10657"/>
                  <a:pt x="6763" y="10668"/>
                </a:cubicBezTo>
                <a:cubicBezTo>
                  <a:pt x="6804" y="10654"/>
                  <a:pt x="6801" y="10617"/>
                  <a:pt x="6826" y="10604"/>
                </a:cubicBezTo>
                <a:cubicBezTo>
                  <a:pt x="6858" y="10604"/>
                  <a:pt x="6868" y="10604"/>
                  <a:pt x="6858" y="10573"/>
                </a:cubicBezTo>
                <a:cubicBezTo>
                  <a:pt x="6775" y="10511"/>
                  <a:pt x="6807" y="10571"/>
                  <a:pt x="6731" y="10604"/>
                </a:cubicBezTo>
                <a:cubicBezTo>
                  <a:pt x="6671" y="10630"/>
                  <a:pt x="6707" y="10654"/>
                  <a:pt x="6763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5"/>
          <p:cNvSpPr/>
          <p:nvPr/>
        </p:nvSpPr>
        <p:spPr>
          <a:xfrm>
            <a:off x="411120" y="4664160"/>
            <a:ext cx="57240" cy="22320"/>
          </a:xfrm>
          <a:custGeom>
            <a:avLst/>
            <a:gdLst/>
            <a:ahLst/>
            <a:rect l="l" t="t" r="r" b="b"/>
            <a:pathLst>
              <a:path w="160" h="65">
                <a:moveTo>
                  <a:pt x="1238" y="13018"/>
                </a:moveTo>
                <a:cubicBezTo>
                  <a:pt x="1201" y="12990"/>
                  <a:pt x="1164" y="12912"/>
                  <a:pt x="1143" y="12954"/>
                </a:cubicBezTo>
                <a:cubicBezTo>
                  <a:pt x="1124" y="12992"/>
                  <a:pt x="1168" y="12973"/>
                  <a:pt x="1206" y="12954"/>
                </a:cubicBezTo>
                <a:cubicBezTo>
                  <a:pt x="1225" y="12945"/>
                  <a:pt x="1281" y="12954"/>
                  <a:pt x="1302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6"/>
          <p:cNvSpPr/>
          <p:nvPr/>
        </p:nvSpPr>
        <p:spPr>
          <a:xfrm>
            <a:off x="731880" y="4206960"/>
            <a:ext cx="1554120" cy="593640"/>
          </a:xfrm>
          <a:custGeom>
            <a:avLst/>
            <a:gdLst/>
            <a:ahLst/>
            <a:rect l="l" t="t" r="r" b="b"/>
            <a:pathLst>
              <a:path w="4319" h="1652">
                <a:moveTo>
                  <a:pt x="2032" y="11716"/>
                </a:moveTo>
                <a:cubicBezTo>
                  <a:pt x="2039" y="11795"/>
                  <a:pt x="2061" y="11860"/>
                  <a:pt x="2064" y="11938"/>
                </a:cubicBezTo>
                <a:cubicBezTo>
                  <a:pt x="2071" y="12089"/>
                  <a:pt x="2071" y="12235"/>
                  <a:pt x="2096" y="12382"/>
                </a:cubicBezTo>
                <a:cubicBezTo>
                  <a:pt x="2124" y="12551"/>
                  <a:pt x="2131" y="12723"/>
                  <a:pt x="2159" y="12890"/>
                </a:cubicBezTo>
                <a:cubicBezTo>
                  <a:pt x="2177" y="12998"/>
                  <a:pt x="2179" y="13173"/>
                  <a:pt x="2222" y="13272"/>
                </a:cubicBezTo>
                <a:cubicBezTo>
                  <a:pt x="2254" y="13303"/>
                  <a:pt x="2265" y="13314"/>
                  <a:pt x="2286" y="13335"/>
                </a:cubicBezTo>
                <a:cubicBezTo>
                  <a:pt x="2301" y="13218"/>
                  <a:pt x="2323" y="13105"/>
                  <a:pt x="2350" y="12986"/>
                </a:cubicBezTo>
                <a:cubicBezTo>
                  <a:pt x="2391" y="12806"/>
                  <a:pt x="2443" y="12615"/>
                  <a:pt x="2508" y="12446"/>
                </a:cubicBezTo>
                <a:cubicBezTo>
                  <a:pt x="2575" y="12272"/>
                  <a:pt x="2700" y="12126"/>
                  <a:pt x="2730" y="11938"/>
                </a:cubicBezTo>
                <a:cubicBezTo>
                  <a:pt x="2744" y="11850"/>
                  <a:pt x="2754" y="11773"/>
                  <a:pt x="2762" y="11684"/>
                </a:cubicBezTo>
              </a:path>
              <a:path w="4319" h="1652">
                <a:moveTo>
                  <a:pt x="3048" y="12700"/>
                </a:moveTo>
                <a:cubicBezTo>
                  <a:pt x="3065" y="12631"/>
                  <a:pt x="3107" y="12591"/>
                  <a:pt x="3112" y="12510"/>
                </a:cubicBezTo>
                <a:cubicBezTo>
                  <a:pt x="3115" y="12448"/>
                  <a:pt x="3117" y="12381"/>
                  <a:pt x="3048" y="12351"/>
                </a:cubicBezTo>
                <a:cubicBezTo>
                  <a:pt x="3006" y="12333"/>
                  <a:pt x="2888" y="12421"/>
                  <a:pt x="2858" y="12446"/>
                </a:cubicBezTo>
                <a:cubicBezTo>
                  <a:pt x="2785" y="12506"/>
                  <a:pt x="2692" y="12671"/>
                  <a:pt x="2667" y="12764"/>
                </a:cubicBezTo>
                <a:cubicBezTo>
                  <a:pt x="2645" y="12845"/>
                  <a:pt x="2689" y="12913"/>
                  <a:pt x="2699" y="12986"/>
                </a:cubicBezTo>
                <a:cubicBezTo>
                  <a:pt x="2773" y="12986"/>
                  <a:pt x="2865" y="12982"/>
                  <a:pt x="2921" y="12922"/>
                </a:cubicBezTo>
                <a:cubicBezTo>
                  <a:pt x="3007" y="12830"/>
                  <a:pt x="3014" y="12713"/>
                  <a:pt x="3048" y="12605"/>
                </a:cubicBezTo>
                <a:cubicBezTo>
                  <a:pt x="3076" y="12516"/>
                  <a:pt x="3100" y="12546"/>
                  <a:pt x="3048" y="12478"/>
                </a:cubicBezTo>
                <a:cubicBezTo>
                  <a:pt x="3048" y="12398"/>
                  <a:pt x="3019" y="12586"/>
                  <a:pt x="3016" y="12605"/>
                </a:cubicBezTo>
                <a:cubicBezTo>
                  <a:pt x="2998" y="12710"/>
                  <a:pt x="2991" y="12893"/>
                  <a:pt x="3048" y="12986"/>
                </a:cubicBezTo>
                <a:cubicBezTo>
                  <a:pt x="3072" y="13025"/>
                  <a:pt x="3114" y="13115"/>
                  <a:pt x="3175" y="13081"/>
                </a:cubicBezTo>
                <a:cubicBezTo>
                  <a:pt x="3213" y="13043"/>
                  <a:pt x="3227" y="13025"/>
                  <a:pt x="3238" y="12986"/>
                </a:cubicBezTo>
              </a:path>
              <a:path w="4319" h="1652">
                <a:moveTo>
                  <a:pt x="3492" y="12065"/>
                </a:moveTo>
                <a:cubicBezTo>
                  <a:pt x="3451" y="12135"/>
                  <a:pt x="3439" y="12264"/>
                  <a:pt x="3429" y="12351"/>
                </a:cubicBezTo>
                <a:cubicBezTo>
                  <a:pt x="3411" y="12513"/>
                  <a:pt x="3442" y="12676"/>
                  <a:pt x="3461" y="12827"/>
                </a:cubicBezTo>
                <a:cubicBezTo>
                  <a:pt x="3473" y="12920"/>
                  <a:pt x="3455" y="12993"/>
                  <a:pt x="3556" y="13018"/>
                </a:cubicBezTo>
                <a:cubicBezTo>
                  <a:pt x="3592" y="12982"/>
                  <a:pt x="3603" y="12965"/>
                  <a:pt x="3588" y="12922"/>
                </a:cubicBezTo>
              </a:path>
              <a:path w="4319" h="1652">
                <a:moveTo>
                  <a:pt x="3810" y="12287"/>
                </a:moveTo>
                <a:cubicBezTo>
                  <a:pt x="3810" y="12380"/>
                  <a:pt x="3782" y="12447"/>
                  <a:pt x="3778" y="12541"/>
                </a:cubicBezTo>
                <a:cubicBezTo>
                  <a:pt x="3773" y="12664"/>
                  <a:pt x="3712" y="12775"/>
                  <a:pt x="3778" y="12890"/>
                </a:cubicBezTo>
                <a:cubicBezTo>
                  <a:pt x="3808" y="12942"/>
                  <a:pt x="3876" y="13001"/>
                  <a:pt x="3937" y="12986"/>
                </a:cubicBezTo>
                <a:cubicBezTo>
                  <a:pt x="4016" y="12967"/>
                  <a:pt x="4115" y="12855"/>
                  <a:pt x="4159" y="12795"/>
                </a:cubicBezTo>
                <a:cubicBezTo>
                  <a:pt x="4236" y="12689"/>
                  <a:pt x="4258" y="12533"/>
                  <a:pt x="4318" y="12414"/>
                </a:cubicBezTo>
                <a:cubicBezTo>
                  <a:pt x="4292" y="12388"/>
                  <a:pt x="4265" y="12502"/>
                  <a:pt x="4254" y="12573"/>
                </a:cubicBezTo>
                <a:cubicBezTo>
                  <a:pt x="4238" y="12681"/>
                  <a:pt x="4237" y="12723"/>
                  <a:pt x="4254" y="12827"/>
                </a:cubicBezTo>
                <a:cubicBezTo>
                  <a:pt x="4263" y="12884"/>
                  <a:pt x="4273" y="12996"/>
                  <a:pt x="4350" y="13018"/>
                </a:cubicBezTo>
                <a:cubicBezTo>
                  <a:pt x="4459" y="13049"/>
                  <a:pt x="4495" y="13004"/>
                  <a:pt x="4572" y="12954"/>
                </a:cubicBezTo>
                <a:cubicBezTo>
                  <a:pt x="4681" y="12883"/>
                  <a:pt x="4720" y="12759"/>
                  <a:pt x="4762" y="12636"/>
                </a:cubicBezTo>
                <a:cubicBezTo>
                  <a:pt x="4808" y="12501"/>
                  <a:pt x="4824" y="12481"/>
                  <a:pt x="4794" y="12351"/>
                </a:cubicBezTo>
                <a:cubicBezTo>
                  <a:pt x="4794" y="12319"/>
                  <a:pt x="4794" y="12308"/>
                  <a:pt x="4762" y="12319"/>
                </a:cubicBezTo>
                <a:cubicBezTo>
                  <a:pt x="4680" y="12319"/>
                  <a:pt x="4676" y="12338"/>
                  <a:pt x="4636" y="12414"/>
                </a:cubicBezTo>
                <a:cubicBezTo>
                  <a:pt x="4588" y="12505"/>
                  <a:pt x="4546" y="12592"/>
                  <a:pt x="4572" y="12700"/>
                </a:cubicBezTo>
                <a:cubicBezTo>
                  <a:pt x="4592" y="12782"/>
                  <a:pt x="4665" y="12903"/>
                  <a:pt x="4731" y="12954"/>
                </a:cubicBezTo>
                <a:cubicBezTo>
                  <a:pt x="4823" y="13025"/>
                  <a:pt x="4886" y="13023"/>
                  <a:pt x="4985" y="12986"/>
                </a:cubicBezTo>
              </a:path>
              <a:path w="4319" h="1652">
                <a:moveTo>
                  <a:pt x="5810" y="12287"/>
                </a:moveTo>
                <a:cubicBezTo>
                  <a:pt x="5754" y="12246"/>
                  <a:pt x="5719" y="12242"/>
                  <a:pt x="5652" y="12287"/>
                </a:cubicBezTo>
                <a:cubicBezTo>
                  <a:pt x="5552" y="12353"/>
                  <a:pt x="5533" y="12394"/>
                  <a:pt x="5493" y="12510"/>
                </a:cubicBezTo>
                <a:cubicBezTo>
                  <a:pt x="5457" y="12616"/>
                  <a:pt x="5435" y="12725"/>
                  <a:pt x="5493" y="12827"/>
                </a:cubicBezTo>
                <a:cubicBezTo>
                  <a:pt x="5535" y="12902"/>
                  <a:pt x="5660" y="12852"/>
                  <a:pt x="5715" y="12827"/>
                </a:cubicBezTo>
                <a:cubicBezTo>
                  <a:pt x="5855" y="12764"/>
                  <a:pt x="5845" y="12663"/>
                  <a:pt x="5874" y="12541"/>
                </a:cubicBezTo>
                <a:cubicBezTo>
                  <a:pt x="5889" y="12476"/>
                  <a:pt x="5952" y="12326"/>
                  <a:pt x="5842" y="12287"/>
                </a:cubicBezTo>
                <a:cubicBezTo>
                  <a:pt x="5810" y="12276"/>
                  <a:pt x="5670" y="12246"/>
                  <a:pt x="5652" y="12287"/>
                </a:cubicBezTo>
                <a:cubicBezTo>
                  <a:pt x="5652" y="12308"/>
                  <a:pt x="5652" y="12330"/>
                  <a:pt x="5652" y="12351"/>
                </a:cubicBezTo>
              </a:path>
              <a:path w="4319" h="1652">
                <a:moveTo>
                  <a:pt x="6350" y="12097"/>
                </a:moveTo>
                <a:cubicBezTo>
                  <a:pt x="6350" y="12008"/>
                  <a:pt x="6366" y="11921"/>
                  <a:pt x="6318" y="11843"/>
                </a:cubicBezTo>
                <a:cubicBezTo>
                  <a:pt x="6289" y="11814"/>
                  <a:pt x="6283" y="11804"/>
                  <a:pt x="6255" y="11811"/>
                </a:cubicBezTo>
                <a:cubicBezTo>
                  <a:pt x="6217" y="11861"/>
                  <a:pt x="6192" y="11909"/>
                  <a:pt x="6160" y="11970"/>
                </a:cubicBezTo>
                <a:cubicBezTo>
                  <a:pt x="6108" y="12068"/>
                  <a:pt x="6101" y="12208"/>
                  <a:pt x="6096" y="12319"/>
                </a:cubicBezTo>
                <a:cubicBezTo>
                  <a:pt x="6091" y="12438"/>
                  <a:pt x="6064" y="12547"/>
                  <a:pt x="6064" y="12668"/>
                </a:cubicBezTo>
                <a:cubicBezTo>
                  <a:pt x="6064" y="12742"/>
                  <a:pt x="6064" y="12816"/>
                  <a:pt x="6064" y="12890"/>
                </a:cubicBezTo>
              </a:path>
              <a:path w="4319" h="1652">
                <a:moveTo>
                  <a:pt x="5906" y="12478"/>
                </a:moveTo>
                <a:cubicBezTo>
                  <a:pt x="6000" y="12478"/>
                  <a:pt x="6066" y="12506"/>
                  <a:pt x="6160" y="12510"/>
                </a:cubicBezTo>
                <a:cubicBezTo>
                  <a:pt x="6255" y="12510"/>
                  <a:pt x="6287" y="12510"/>
                  <a:pt x="6350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7"/>
          <p:cNvSpPr/>
          <p:nvPr/>
        </p:nvSpPr>
        <p:spPr>
          <a:xfrm>
            <a:off x="2514600" y="4229280"/>
            <a:ext cx="549360" cy="399960"/>
          </a:xfrm>
          <a:custGeom>
            <a:avLst/>
            <a:gdLst/>
            <a:ahLst/>
            <a:rect l="l" t="t" r="r" b="b"/>
            <a:pathLst>
              <a:path w="1525" h="1112">
                <a:moveTo>
                  <a:pt x="7366" y="11811"/>
                </a:moveTo>
                <a:cubicBezTo>
                  <a:pt x="7366" y="11878"/>
                  <a:pt x="7352" y="11972"/>
                  <a:pt x="7334" y="12033"/>
                </a:cubicBezTo>
                <a:cubicBezTo>
                  <a:pt x="7286" y="12201"/>
                  <a:pt x="7227" y="12372"/>
                  <a:pt x="7176" y="12541"/>
                </a:cubicBezTo>
                <a:cubicBezTo>
                  <a:pt x="7155" y="12611"/>
                  <a:pt x="7145" y="12806"/>
                  <a:pt x="7112" y="12859"/>
                </a:cubicBezTo>
                <a:cubicBezTo>
                  <a:pt x="7080" y="12859"/>
                  <a:pt x="7069" y="12859"/>
                  <a:pt x="7112" y="12859"/>
                </a:cubicBezTo>
              </a:path>
              <a:path w="1525" h="1112">
                <a:moveTo>
                  <a:pt x="6985" y="12224"/>
                </a:moveTo>
                <a:cubicBezTo>
                  <a:pt x="6985" y="12213"/>
                  <a:pt x="6985" y="12203"/>
                  <a:pt x="6985" y="12192"/>
                </a:cubicBezTo>
                <a:cubicBezTo>
                  <a:pt x="7045" y="12207"/>
                  <a:pt x="7112" y="12206"/>
                  <a:pt x="7176" y="12224"/>
                </a:cubicBezTo>
                <a:cubicBezTo>
                  <a:pt x="7284" y="12254"/>
                  <a:pt x="7382" y="12256"/>
                  <a:pt x="7493" y="12224"/>
                </a:cubicBezTo>
                <a:cubicBezTo>
                  <a:pt x="7562" y="12189"/>
                  <a:pt x="7588" y="12174"/>
                  <a:pt x="7620" y="12128"/>
                </a:cubicBezTo>
              </a:path>
              <a:path w="1525" h="1112">
                <a:moveTo>
                  <a:pt x="7747" y="11906"/>
                </a:moveTo>
                <a:cubicBezTo>
                  <a:pt x="7754" y="11848"/>
                  <a:pt x="7768" y="11804"/>
                  <a:pt x="7779" y="11748"/>
                </a:cubicBezTo>
                <a:cubicBezTo>
                  <a:pt x="7779" y="11819"/>
                  <a:pt x="7763" y="11903"/>
                  <a:pt x="7747" y="11970"/>
                </a:cubicBezTo>
                <a:cubicBezTo>
                  <a:pt x="7717" y="12099"/>
                  <a:pt x="7667" y="12221"/>
                  <a:pt x="7652" y="12351"/>
                </a:cubicBezTo>
                <a:cubicBezTo>
                  <a:pt x="7641" y="12448"/>
                  <a:pt x="7629" y="12544"/>
                  <a:pt x="7620" y="12636"/>
                </a:cubicBezTo>
                <a:cubicBezTo>
                  <a:pt x="7620" y="12647"/>
                  <a:pt x="7620" y="12657"/>
                  <a:pt x="7620" y="12668"/>
                </a:cubicBezTo>
                <a:cubicBezTo>
                  <a:pt x="7638" y="12598"/>
                  <a:pt x="7681" y="12519"/>
                  <a:pt x="7715" y="12446"/>
                </a:cubicBezTo>
                <a:cubicBezTo>
                  <a:pt x="7749" y="12374"/>
                  <a:pt x="7832" y="12261"/>
                  <a:pt x="7906" y="12224"/>
                </a:cubicBezTo>
                <a:cubicBezTo>
                  <a:pt x="7948" y="12203"/>
                  <a:pt x="7924" y="12207"/>
                  <a:pt x="7969" y="12192"/>
                </a:cubicBezTo>
                <a:cubicBezTo>
                  <a:pt x="7969" y="12327"/>
                  <a:pt x="7980" y="12447"/>
                  <a:pt x="8001" y="12573"/>
                </a:cubicBezTo>
                <a:cubicBezTo>
                  <a:pt x="8015" y="12656"/>
                  <a:pt x="8027" y="12693"/>
                  <a:pt x="8128" y="12700"/>
                </a:cubicBezTo>
                <a:cubicBezTo>
                  <a:pt x="8254" y="12708"/>
                  <a:pt x="8310" y="12622"/>
                  <a:pt x="8382" y="12541"/>
                </a:cubicBezTo>
                <a:cubicBezTo>
                  <a:pt x="8457" y="12457"/>
                  <a:pt x="8503" y="12369"/>
                  <a:pt x="8509" y="12256"/>
                </a:cubicBezTo>
                <a:cubicBezTo>
                  <a:pt x="8513" y="12182"/>
                  <a:pt x="8516" y="12180"/>
                  <a:pt x="8477" y="12128"/>
                </a:cubicBezTo>
                <a:cubicBezTo>
                  <a:pt x="8402" y="12128"/>
                  <a:pt x="8366" y="12156"/>
                  <a:pt x="8318" y="12224"/>
                </a:cubicBezTo>
                <a:cubicBezTo>
                  <a:pt x="8249" y="12322"/>
                  <a:pt x="8255" y="12429"/>
                  <a:pt x="8255" y="12541"/>
                </a:cubicBezTo>
                <a:cubicBezTo>
                  <a:pt x="8255" y="12662"/>
                  <a:pt x="8294" y="12696"/>
                  <a:pt x="8382" y="12732"/>
                </a:cubicBezTo>
                <a:cubicBezTo>
                  <a:pt x="8446" y="12764"/>
                  <a:pt x="8467" y="12775"/>
                  <a:pt x="8509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8"/>
          <p:cNvSpPr/>
          <p:nvPr/>
        </p:nvSpPr>
        <p:spPr>
          <a:xfrm>
            <a:off x="3349800" y="4251240"/>
            <a:ext cx="650880" cy="412920"/>
          </a:xfrm>
          <a:custGeom>
            <a:avLst/>
            <a:gdLst/>
            <a:ahLst/>
            <a:rect l="l" t="t" r="r" b="b"/>
            <a:pathLst>
              <a:path w="1810" h="1144">
                <a:moveTo>
                  <a:pt x="9747" y="12382"/>
                </a:moveTo>
                <a:cubicBezTo>
                  <a:pt x="9747" y="12310"/>
                  <a:pt x="9763" y="12246"/>
                  <a:pt x="9716" y="12192"/>
                </a:cubicBezTo>
                <a:cubicBezTo>
                  <a:pt x="9660" y="12128"/>
                  <a:pt x="9585" y="12182"/>
                  <a:pt x="9525" y="12224"/>
                </a:cubicBezTo>
                <a:cubicBezTo>
                  <a:pt x="9428" y="12291"/>
                  <a:pt x="9381" y="12378"/>
                  <a:pt x="9334" y="12478"/>
                </a:cubicBezTo>
                <a:cubicBezTo>
                  <a:pt x="9297" y="12556"/>
                  <a:pt x="9284" y="12624"/>
                  <a:pt x="9334" y="12700"/>
                </a:cubicBezTo>
                <a:cubicBezTo>
                  <a:pt x="9375" y="12761"/>
                  <a:pt x="9475" y="12737"/>
                  <a:pt x="9525" y="12700"/>
                </a:cubicBezTo>
                <a:cubicBezTo>
                  <a:pt x="9616" y="12634"/>
                  <a:pt x="9668" y="12544"/>
                  <a:pt x="9716" y="12446"/>
                </a:cubicBezTo>
                <a:cubicBezTo>
                  <a:pt x="9741" y="12394"/>
                  <a:pt x="9752" y="12386"/>
                  <a:pt x="9747" y="12351"/>
                </a:cubicBezTo>
                <a:cubicBezTo>
                  <a:pt x="9736" y="12432"/>
                  <a:pt x="9716" y="12483"/>
                  <a:pt x="9716" y="12573"/>
                </a:cubicBezTo>
                <a:cubicBezTo>
                  <a:pt x="9716" y="12623"/>
                  <a:pt x="9689" y="12735"/>
                  <a:pt x="9747" y="12764"/>
                </a:cubicBezTo>
                <a:cubicBezTo>
                  <a:pt x="9758" y="12764"/>
                  <a:pt x="9768" y="12764"/>
                  <a:pt x="9779" y="12764"/>
                </a:cubicBezTo>
              </a:path>
              <a:path w="1810" h="1144">
                <a:moveTo>
                  <a:pt x="10033" y="12256"/>
                </a:moveTo>
                <a:cubicBezTo>
                  <a:pt x="10033" y="12446"/>
                  <a:pt x="10033" y="12954"/>
                  <a:pt x="10033" y="12764"/>
                </a:cubicBezTo>
                <a:cubicBezTo>
                  <a:pt x="10033" y="12669"/>
                  <a:pt x="10058" y="12599"/>
                  <a:pt x="10096" y="12510"/>
                </a:cubicBezTo>
                <a:cubicBezTo>
                  <a:pt x="10127" y="12438"/>
                  <a:pt x="10148" y="12340"/>
                  <a:pt x="10192" y="12287"/>
                </a:cubicBezTo>
                <a:cubicBezTo>
                  <a:pt x="10249" y="12217"/>
                  <a:pt x="10284" y="12225"/>
                  <a:pt x="10350" y="12192"/>
                </a:cubicBezTo>
                <a:cubicBezTo>
                  <a:pt x="10410" y="12162"/>
                  <a:pt x="10432" y="12160"/>
                  <a:pt x="10509" y="12160"/>
                </a:cubicBezTo>
              </a:path>
              <a:path w="1810" h="1144">
                <a:moveTo>
                  <a:pt x="10954" y="11811"/>
                </a:moveTo>
                <a:cubicBezTo>
                  <a:pt x="11031" y="11837"/>
                  <a:pt x="10964" y="11932"/>
                  <a:pt x="10954" y="12002"/>
                </a:cubicBezTo>
                <a:cubicBezTo>
                  <a:pt x="10935" y="12137"/>
                  <a:pt x="10902" y="12279"/>
                  <a:pt x="10890" y="12414"/>
                </a:cubicBezTo>
                <a:cubicBezTo>
                  <a:pt x="10877" y="12562"/>
                  <a:pt x="10897" y="12690"/>
                  <a:pt x="10954" y="12827"/>
                </a:cubicBezTo>
                <a:cubicBezTo>
                  <a:pt x="10960" y="12841"/>
                  <a:pt x="11040" y="12995"/>
                  <a:pt x="11081" y="12954"/>
                </a:cubicBezTo>
                <a:cubicBezTo>
                  <a:pt x="11081" y="12943"/>
                  <a:pt x="11081" y="12933"/>
                  <a:pt x="11081" y="12922"/>
                </a:cubicBezTo>
              </a:path>
              <a:path w="1810" h="1144">
                <a:moveTo>
                  <a:pt x="10763" y="12319"/>
                </a:moveTo>
                <a:cubicBezTo>
                  <a:pt x="10732" y="12319"/>
                  <a:pt x="10721" y="12319"/>
                  <a:pt x="10732" y="12351"/>
                </a:cubicBezTo>
                <a:cubicBezTo>
                  <a:pt x="10793" y="12351"/>
                  <a:pt x="10867" y="12364"/>
                  <a:pt x="10922" y="12382"/>
                </a:cubicBezTo>
                <a:cubicBezTo>
                  <a:pt x="10986" y="12403"/>
                  <a:pt x="11052" y="12447"/>
                  <a:pt x="11112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9"/>
          <p:cNvSpPr/>
          <p:nvPr/>
        </p:nvSpPr>
        <p:spPr>
          <a:xfrm>
            <a:off x="4286160" y="4251240"/>
            <a:ext cx="1371600" cy="619200"/>
          </a:xfrm>
          <a:custGeom>
            <a:avLst/>
            <a:gdLst/>
            <a:ahLst/>
            <a:rect l="l" t="t" r="r" b="b"/>
            <a:pathLst>
              <a:path w="3811" h="1716">
                <a:moveTo>
                  <a:pt x="12351" y="12224"/>
                </a:moveTo>
                <a:cubicBezTo>
                  <a:pt x="12351" y="12298"/>
                  <a:pt x="12351" y="12372"/>
                  <a:pt x="12351" y="12446"/>
                </a:cubicBezTo>
                <a:cubicBezTo>
                  <a:pt x="12351" y="12528"/>
                  <a:pt x="12320" y="12359"/>
                  <a:pt x="12319" y="12351"/>
                </a:cubicBezTo>
                <a:cubicBezTo>
                  <a:pt x="12302" y="12257"/>
                  <a:pt x="12340" y="12184"/>
                  <a:pt x="12287" y="12097"/>
                </a:cubicBezTo>
                <a:cubicBezTo>
                  <a:pt x="12233" y="12008"/>
                  <a:pt x="12165" y="12089"/>
                  <a:pt x="12128" y="12128"/>
                </a:cubicBezTo>
                <a:cubicBezTo>
                  <a:pt x="12019" y="12245"/>
                  <a:pt x="11981" y="12320"/>
                  <a:pt x="11938" y="12478"/>
                </a:cubicBezTo>
                <a:cubicBezTo>
                  <a:pt x="11898" y="12624"/>
                  <a:pt x="11891" y="12751"/>
                  <a:pt x="11938" y="12890"/>
                </a:cubicBezTo>
                <a:cubicBezTo>
                  <a:pt x="11978" y="13009"/>
                  <a:pt x="12036" y="13042"/>
                  <a:pt x="12160" y="13049"/>
                </a:cubicBezTo>
                <a:cubicBezTo>
                  <a:pt x="12258" y="13054"/>
                  <a:pt x="12281" y="13015"/>
                  <a:pt x="12351" y="12954"/>
                </a:cubicBezTo>
              </a:path>
              <a:path w="3811" h="1716">
                <a:moveTo>
                  <a:pt x="12605" y="11811"/>
                </a:moveTo>
                <a:cubicBezTo>
                  <a:pt x="12619" y="11942"/>
                  <a:pt x="12636" y="12057"/>
                  <a:pt x="12636" y="12192"/>
                </a:cubicBezTo>
                <a:cubicBezTo>
                  <a:pt x="12636" y="12366"/>
                  <a:pt x="12619" y="12532"/>
                  <a:pt x="12605" y="12700"/>
                </a:cubicBezTo>
                <a:cubicBezTo>
                  <a:pt x="12598" y="12784"/>
                  <a:pt x="12605" y="12975"/>
                  <a:pt x="12605" y="12890"/>
                </a:cubicBezTo>
                <a:cubicBezTo>
                  <a:pt x="12605" y="12759"/>
                  <a:pt x="12626" y="12666"/>
                  <a:pt x="12668" y="12541"/>
                </a:cubicBezTo>
                <a:cubicBezTo>
                  <a:pt x="12702" y="12439"/>
                  <a:pt x="12739" y="12293"/>
                  <a:pt x="12827" y="12224"/>
                </a:cubicBezTo>
                <a:cubicBezTo>
                  <a:pt x="12884" y="12179"/>
                  <a:pt x="12936" y="12195"/>
                  <a:pt x="12986" y="12224"/>
                </a:cubicBezTo>
                <a:cubicBezTo>
                  <a:pt x="13075" y="12275"/>
                  <a:pt x="13077" y="12373"/>
                  <a:pt x="13081" y="12478"/>
                </a:cubicBezTo>
                <a:cubicBezTo>
                  <a:pt x="13086" y="12610"/>
                  <a:pt x="13108" y="12730"/>
                  <a:pt x="13113" y="12859"/>
                </a:cubicBezTo>
                <a:cubicBezTo>
                  <a:pt x="13116" y="12950"/>
                  <a:pt x="13124" y="13002"/>
                  <a:pt x="13144" y="13049"/>
                </a:cubicBezTo>
                <a:cubicBezTo>
                  <a:pt x="13204" y="13034"/>
                  <a:pt x="13273" y="12948"/>
                  <a:pt x="13303" y="12890"/>
                </a:cubicBezTo>
                <a:cubicBezTo>
                  <a:pt x="13361" y="12779"/>
                  <a:pt x="13405" y="12654"/>
                  <a:pt x="13462" y="12541"/>
                </a:cubicBezTo>
              </a:path>
              <a:path w="3811" h="1716">
                <a:moveTo>
                  <a:pt x="13526" y="12351"/>
                </a:moveTo>
                <a:cubicBezTo>
                  <a:pt x="13526" y="12269"/>
                  <a:pt x="13511" y="12228"/>
                  <a:pt x="13494" y="12160"/>
                </a:cubicBezTo>
                <a:cubicBezTo>
                  <a:pt x="13368" y="12178"/>
                  <a:pt x="13396" y="12210"/>
                  <a:pt x="13335" y="12319"/>
                </a:cubicBezTo>
                <a:cubicBezTo>
                  <a:pt x="13267" y="12441"/>
                  <a:pt x="13247" y="12557"/>
                  <a:pt x="13240" y="12700"/>
                </a:cubicBezTo>
                <a:cubicBezTo>
                  <a:pt x="13236" y="12791"/>
                  <a:pt x="13275" y="12831"/>
                  <a:pt x="13335" y="12890"/>
                </a:cubicBezTo>
                <a:cubicBezTo>
                  <a:pt x="13432" y="12871"/>
                  <a:pt x="13458" y="12825"/>
                  <a:pt x="13494" y="12732"/>
                </a:cubicBezTo>
                <a:cubicBezTo>
                  <a:pt x="13538" y="12620"/>
                  <a:pt x="13567" y="12499"/>
                  <a:pt x="13589" y="12382"/>
                </a:cubicBezTo>
                <a:cubicBezTo>
                  <a:pt x="13589" y="12351"/>
                  <a:pt x="13589" y="12340"/>
                  <a:pt x="13589" y="12319"/>
                </a:cubicBezTo>
                <a:cubicBezTo>
                  <a:pt x="13519" y="12273"/>
                  <a:pt x="13557" y="12375"/>
                  <a:pt x="13557" y="12446"/>
                </a:cubicBezTo>
                <a:cubicBezTo>
                  <a:pt x="13557" y="12565"/>
                  <a:pt x="13524" y="12723"/>
                  <a:pt x="13589" y="12827"/>
                </a:cubicBezTo>
                <a:cubicBezTo>
                  <a:pt x="13618" y="12856"/>
                  <a:pt x="13624" y="12866"/>
                  <a:pt x="13652" y="12859"/>
                </a:cubicBezTo>
                <a:cubicBezTo>
                  <a:pt x="13693" y="12831"/>
                  <a:pt x="13721" y="12709"/>
                  <a:pt x="13748" y="12636"/>
                </a:cubicBezTo>
              </a:path>
              <a:path w="3811" h="1716">
                <a:moveTo>
                  <a:pt x="13811" y="12224"/>
                </a:moveTo>
                <a:cubicBezTo>
                  <a:pt x="13811" y="12397"/>
                  <a:pt x="13757" y="12685"/>
                  <a:pt x="13843" y="12827"/>
                </a:cubicBezTo>
                <a:cubicBezTo>
                  <a:pt x="13860" y="12741"/>
                  <a:pt x="13878" y="12657"/>
                  <a:pt x="13906" y="12573"/>
                </a:cubicBezTo>
                <a:cubicBezTo>
                  <a:pt x="13940" y="12471"/>
                  <a:pt x="13992" y="12367"/>
                  <a:pt x="14065" y="12287"/>
                </a:cubicBezTo>
                <a:cubicBezTo>
                  <a:pt x="14097" y="12256"/>
                  <a:pt x="14108" y="12245"/>
                  <a:pt x="14129" y="12224"/>
                </a:cubicBezTo>
                <a:cubicBezTo>
                  <a:pt x="14191" y="12287"/>
                  <a:pt x="14220" y="12322"/>
                  <a:pt x="14224" y="12414"/>
                </a:cubicBezTo>
                <a:cubicBezTo>
                  <a:pt x="14232" y="12590"/>
                  <a:pt x="14217" y="12756"/>
                  <a:pt x="14256" y="12922"/>
                </a:cubicBezTo>
                <a:cubicBezTo>
                  <a:pt x="14269" y="12979"/>
                  <a:pt x="14277" y="12954"/>
                  <a:pt x="14319" y="12922"/>
                </a:cubicBezTo>
              </a:path>
              <a:path w="3811" h="1716">
                <a:moveTo>
                  <a:pt x="14668" y="12478"/>
                </a:moveTo>
                <a:cubicBezTo>
                  <a:pt x="14687" y="12384"/>
                  <a:pt x="14713" y="12379"/>
                  <a:pt x="14668" y="12287"/>
                </a:cubicBezTo>
                <a:cubicBezTo>
                  <a:pt x="14645" y="12241"/>
                  <a:pt x="14652" y="12271"/>
                  <a:pt x="14605" y="12224"/>
                </a:cubicBezTo>
                <a:cubicBezTo>
                  <a:pt x="14517" y="12294"/>
                  <a:pt x="14473" y="12341"/>
                  <a:pt x="14414" y="12446"/>
                </a:cubicBezTo>
                <a:cubicBezTo>
                  <a:pt x="14375" y="12515"/>
                  <a:pt x="14346" y="12647"/>
                  <a:pt x="14383" y="12700"/>
                </a:cubicBezTo>
                <a:cubicBezTo>
                  <a:pt x="14414" y="12732"/>
                  <a:pt x="14425" y="12743"/>
                  <a:pt x="14446" y="12764"/>
                </a:cubicBezTo>
                <a:cubicBezTo>
                  <a:pt x="14504" y="12731"/>
                  <a:pt x="14598" y="12691"/>
                  <a:pt x="14637" y="12636"/>
                </a:cubicBezTo>
                <a:cubicBezTo>
                  <a:pt x="14679" y="12577"/>
                  <a:pt x="14678" y="12496"/>
                  <a:pt x="14732" y="12478"/>
                </a:cubicBezTo>
                <a:cubicBezTo>
                  <a:pt x="14708" y="12486"/>
                  <a:pt x="14676" y="12536"/>
                  <a:pt x="14668" y="12573"/>
                </a:cubicBezTo>
                <a:cubicBezTo>
                  <a:pt x="14648" y="12671"/>
                  <a:pt x="14640" y="12791"/>
                  <a:pt x="14637" y="12890"/>
                </a:cubicBezTo>
                <a:cubicBezTo>
                  <a:pt x="14633" y="13032"/>
                  <a:pt x="14631" y="13166"/>
                  <a:pt x="14605" y="13303"/>
                </a:cubicBezTo>
                <a:cubicBezTo>
                  <a:pt x="14586" y="13404"/>
                  <a:pt x="14569" y="13452"/>
                  <a:pt x="14510" y="13526"/>
                </a:cubicBezTo>
                <a:cubicBezTo>
                  <a:pt x="14422" y="13504"/>
                  <a:pt x="14446" y="13458"/>
                  <a:pt x="14446" y="13367"/>
                </a:cubicBezTo>
                <a:cubicBezTo>
                  <a:pt x="14446" y="13270"/>
                  <a:pt x="14468" y="13201"/>
                  <a:pt x="14510" y="13113"/>
                </a:cubicBezTo>
                <a:cubicBezTo>
                  <a:pt x="14585" y="12955"/>
                  <a:pt x="14690" y="12854"/>
                  <a:pt x="14796" y="12732"/>
                </a:cubicBezTo>
                <a:cubicBezTo>
                  <a:pt x="14881" y="12634"/>
                  <a:pt x="14958" y="12539"/>
                  <a:pt x="15050" y="12446"/>
                </a:cubicBezTo>
                <a:cubicBezTo>
                  <a:pt x="15094" y="12402"/>
                  <a:pt x="15131" y="12342"/>
                  <a:pt x="15145" y="12287"/>
                </a:cubicBezTo>
                <a:cubicBezTo>
                  <a:pt x="15084" y="12287"/>
                  <a:pt x="15065" y="12281"/>
                  <a:pt x="15018" y="12319"/>
                </a:cubicBezTo>
                <a:cubicBezTo>
                  <a:pt x="14968" y="12359"/>
                  <a:pt x="14873" y="12479"/>
                  <a:pt x="14859" y="12541"/>
                </a:cubicBezTo>
                <a:cubicBezTo>
                  <a:pt x="14838" y="12638"/>
                  <a:pt x="14859" y="12725"/>
                  <a:pt x="14922" y="12795"/>
                </a:cubicBezTo>
                <a:cubicBezTo>
                  <a:pt x="14983" y="12863"/>
                  <a:pt x="15074" y="12822"/>
                  <a:pt x="15145" y="12795"/>
                </a:cubicBezTo>
              </a:path>
              <a:path w="3811" h="1716">
                <a:moveTo>
                  <a:pt x="15589" y="12351"/>
                </a:moveTo>
                <a:cubicBezTo>
                  <a:pt x="15589" y="12319"/>
                  <a:pt x="15589" y="12288"/>
                  <a:pt x="15589" y="12256"/>
                </a:cubicBezTo>
                <a:cubicBezTo>
                  <a:pt x="15526" y="12256"/>
                  <a:pt x="15480" y="12244"/>
                  <a:pt x="15430" y="12287"/>
                </a:cubicBezTo>
                <a:cubicBezTo>
                  <a:pt x="15409" y="12305"/>
                  <a:pt x="15285" y="12403"/>
                  <a:pt x="15304" y="12446"/>
                </a:cubicBezTo>
                <a:cubicBezTo>
                  <a:pt x="15339" y="12526"/>
                  <a:pt x="15436" y="12533"/>
                  <a:pt x="15494" y="12573"/>
                </a:cubicBezTo>
                <a:cubicBezTo>
                  <a:pt x="15570" y="12626"/>
                  <a:pt x="15648" y="12687"/>
                  <a:pt x="15684" y="12764"/>
                </a:cubicBezTo>
                <a:cubicBezTo>
                  <a:pt x="15729" y="12860"/>
                  <a:pt x="15676" y="12876"/>
                  <a:pt x="15589" y="12922"/>
                </a:cubicBezTo>
                <a:cubicBezTo>
                  <a:pt x="15513" y="12962"/>
                  <a:pt x="15451" y="12954"/>
                  <a:pt x="15367" y="12954"/>
                </a:cubicBezTo>
                <a:cubicBezTo>
                  <a:pt x="15346" y="12954"/>
                  <a:pt x="15325" y="12954"/>
                  <a:pt x="15304" y="12954"/>
                </a:cubicBezTo>
                <a:cubicBezTo>
                  <a:pt x="15304" y="12886"/>
                  <a:pt x="15329" y="12856"/>
                  <a:pt x="15367" y="12795"/>
                </a:cubicBezTo>
                <a:cubicBezTo>
                  <a:pt x="15388" y="12763"/>
                  <a:pt x="15409" y="12732"/>
                  <a:pt x="1543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0"/>
          <p:cNvSpPr/>
          <p:nvPr/>
        </p:nvSpPr>
        <p:spPr>
          <a:xfrm>
            <a:off x="6035760" y="3932280"/>
            <a:ext cx="1760400" cy="1165320"/>
          </a:xfrm>
          <a:custGeom>
            <a:avLst/>
            <a:gdLst/>
            <a:ahLst/>
            <a:rect l="l" t="t" r="r" b="b"/>
            <a:pathLst>
              <a:path w="4891" h="3239">
                <a:moveTo>
                  <a:pt x="16954" y="11748"/>
                </a:moveTo>
                <a:cubicBezTo>
                  <a:pt x="16954" y="11881"/>
                  <a:pt x="16937" y="12000"/>
                  <a:pt x="16923" y="12128"/>
                </a:cubicBezTo>
                <a:cubicBezTo>
                  <a:pt x="16906" y="12288"/>
                  <a:pt x="16877" y="12446"/>
                  <a:pt x="16859" y="12605"/>
                </a:cubicBezTo>
                <a:cubicBezTo>
                  <a:pt x="16842" y="12755"/>
                  <a:pt x="16794" y="12876"/>
                  <a:pt x="16764" y="13018"/>
                </a:cubicBezTo>
                <a:cubicBezTo>
                  <a:pt x="16764" y="13071"/>
                  <a:pt x="16764" y="13081"/>
                  <a:pt x="16764" y="13113"/>
                </a:cubicBezTo>
                <a:cubicBezTo>
                  <a:pt x="16782" y="13041"/>
                  <a:pt x="16803" y="12971"/>
                  <a:pt x="16828" y="12890"/>
                </a:cubicBezTo>
                <a:cubicBezTo>
                  <a:pt x="16866" y="12766"/>
                  <a:pt x="16920" y="12677"/>
                  <a:pt x="16986" y="12573"/>
                </a:cubicBezTo>
                <a:cubicBezTo>
                  <a:pt x="17035" y="12495"/>
                  <a:pt x="17114" y="12443"/>
                  <a:pt x="17208" y="12414"/>
                </a:cubicBezTo>
                <a:cubicBezTo>
                  <a:pt x="17274" y="12393"/>
                  <a:pt x="17349" y="12460"/>
                  <a:pt x="17367" y="12510"/>
                </a:cubicBezTo>
                <a:cubicBezTo>
                  <a:pt x="17394" y="12586"/>
                  <a:pt x="17347" y="12664"/>
                  <a:pt x="17336" y="12732"/>
                </a:cubicBezTo>
                <a:cubicBezTo>
                  <a:pt x="17318" y="12840"/>
                  <a:pt x="17257" y="12887"/>
                  <a:pt x="17177" y="12954"/>
                </a:cubicBezTo>
                <a:cubicBezTo>
                  <a:pt x="17112" y="13008"/>
                  <a:pt x="17067" y="13042"/>
                  <a:pt x="16986" y="13049"/>
                </a:cubicBezTo>
                <a:cubicBezTo>
                  <a:pt x="16913" y="13055"/>
                  <a:pt x="16966" y="12980"/>
                  <a:pt x="16986" y="12954"/>
                </a:cubicBezTo>
              </a:path>
              <a:path w="4891" h="3239">
                <a:moveTo>
                  <a:pt x="17558" y="12478"/>
                </a:moveTo>
                <a:cubicBezTo>
                  <a:pt x="17570" y="12533"/>
                  <a:pt x="17590" y="12540"/>
                  <a:pt x="17558" y="12636"/>
                </a:cubicBezTo>
                <a:cubicBezTo>
                  <a:pt x="17533" y="12711"/>
                  <a:pt x="17472" y="12876"/>
                  <a:pt x="17494" y="12954"/>
                </a:cubicBezTo>
                <a:cubicBezTo>
                  <a:pt x="17513" y="13021"/>
                  <a:pt x="17618" y="13001"/>
                  <a:pt x="17653" y="12986"/>
                </a:cubicBezTo>
                <a:cubicBezTo>
                  <a:pt x="17745" y="12948"/>
                  <a:pt x="17828" y="12885"/>
                  <a:pt x="17875" y="12795"/>
                </a:cubicBezTo>
                <a:cubicBezTo>
                  <a:pt x="17914" y="12720"/>
                  <a:pt x="17964" y="12620"/>
                  <a:pt x="17970" y="12541"/>
                </a:cubicBezTo>
                <a:cubicBezTo>
                  <a:pt x="17970" y="12531"/>
                  <a:pt x="17970" y="12520"/>
                  <a:pt x="17970" y="12510"/>
                </a:cubicBezTo>
                <a:cubicBezTo>
                  <a:pt x="17963" y="12578"/>
                  <a:pt x="17949" y="12631"/>
                  <a:pt x="17939" y="12700"/>
                </a:cubicBezTo>
                <a:cubicBezTo>
                  <a:pt x="17919" y="12846"/>
                  <a:pt x="17929" y="12998"/>
                  <a:pt x="17907" y="13144"/>
                </a:cubicBezTo>
                <a:cubicBezTo>
                  <a:pt x="17876" y="13355"/>
                  <a:pt x="17876" y="13571"/>
                  <a:pt x="17844" y="13780"/>
                </a:cubicBezTo>
                <a:cubicBezTo>
                  <a:pt x="17827" y="13893"/>
                  <a:pt x="17782" y="14033"/>
                  <a:pt x="17716" y="14129"/>
                </a:cubicBezTo>
                <a:cubicBezTo>
                  <a:pt x="17684" y="14176"/>
                  <a:pt x="17667" y="14154"/>
                  <a:pt x="17621" y="14160"/>
                </a:cubicBezTo>
                <a:cubicBezTo>
                  <a:pt x="17597" y="14130"/>
                  <a:pt x="17540" y="14083"/>
                  <a:pt x="17558" y="14002"/>
                </a:cubicBezTo>
                <a:cubicBezTo>
                  <a:pt x="17581" y="13901"/>
                  <a:pt x="17601" y="13780"/>
                  <a:pt x="17653" y="13684"/>
                </a:cubicBezTo>
                <a:cubicBezTo>
                  <a:pt x="17724" y="13551"/>
                  <a:pt x="17787" y="13424"/>
                  <a:pt x="17875" y="13303"/>
                </a:cubicBezTo>
                <a:cubicBezTo>
                  <a:pt x="17962" y="13183"/>
                  <a:pt x="18032" y="13123"/>
                  <a:pt x="18161" y="13049"/>
                </a:cubicBezTo>
                <a:cubicBezTo>
                  <a:pt x="18230" y="13010"/>
                  <a:pt x="18285" y="12964"/>
                  <a:pt x="18352" y="12922"/>
                </a:cubicBezTo>
              </a:path>
              <a:path w="4891" h="3239">
                <a:moveTo>
                  <a:pt x="18732" y="12700"/>
                </a:moveTo>
                <a:cubicBezTo>
                  <a:pt x="18722" y="12700"/>
                  <a:pt x="18711" y="12700"/>
                  <a:pt x="18701" y="12700"/>
                </a:cubicBezTo>
                <a:cubicBezTo>
                  <a:pt x="18730" y="12724"/>
                  <a:pt x="18759" y="12750"/>
                  <a:pt x="18828" y="12764"/>
                </a:cubicBezTo>
                <a:cubicBezTo>
                  <a:pt x="18873" y="12773"/>
                  <a:pt x="19032" y="12742"/>
                  <a:pt x="19082" y="12732"/>
                </a:cubicBezTo>
                <a:cubicBezTo>
                  <a:pt x="19208" y="12708"/>
                  <a:pt x="19336" y="12655"/>
                  <a:pt x="19463" y="12636"/>
                </a:cubicBezTo>
                <a:cubicBezTo>
                  <a:pt x="19607" y="12615"/>
                  <a:pt x="19763" y="12585"/>
                  <a:pt x="19907" y="12573"/>
                </a:cubicBezTo>
                <a:cubicBezTo>
                  <a:pt x="20067" y="12559"/>
                  <a:pt x="20226" y="12569"/>
                  <a:pt x="20384" y="12541"/>
                </a:cubicBezTo>
                <a:cubicBezTo>
                  <a:pt x="20552" y="12511"/>
                  <a:pt x="20727" y="12510"/>
                  <a:pt x="20892" y="12478"/>
                </a:cubicBezTo>
                <a:cubicBezTo>
                  <a:pt x="21048" y="12448"/>
                  <a:pt x="21209" y="12421"/>
                  <a:pt x="21368" y="12414"/>
                </a:cubicBezTo>
                <a:cubicBezTo>
                  <a:pt x="21463" y="12410"/>
                  <a:pt x="21559" y="12414"/>
                  <a:pt x="21654" y="12414"/>
                </a:cubicBezTo>
              </a:path>
              <a:path w="4891" h="3239">
                <a:moveTo>
                  <a:pt x="19336" y="10922"/>
                </a:moveTo>
                <a:cubicBezTo>
                  <a:pt x="19275" y="11003"/>
                  <a:pt x="19357" y="11017"/>
                  <a:pt x="19336" y="11112"/>
                </a:cubicBezTo>
                <a:cubicBezTo>
                  <a:pt x="19314" y="11212"/>
                  <a:pt x="19284" y="11325"/>
                  <a:pt x="19272" y="11430"/>
                </a:cubicBezTo>
                <a:cubicBezTo>
                  <a:pt x="19260" y="11536"/>
                  <a:pt x="19232" y="11615"/>
                  <a:pt x="19209" y="11716"/>
                </a:cubicBezTo>
                <a:cubicBezTo>
                  <a:pt x="19209" y="11752"/>
                  <a:pt x="19206" y="11766"/>
                  <a:pt x="19177" y="11779"/>
                </a:cubicBezTo>
                <a:cubicBezTo>
                  <a:pt x="19227" y="11767"/>
                  <a:pt x="19247" y="11748"/>
                  <a:pt x="19304" y="11748"/>
                </a:cubicBezTo>
                <a:cubicBezTo>
                  <a:pt x="19412" y="11748"/>
                  <a:pt x="19499" y="11746"/>
                  <a:pt x="19590" y="11716"/>
                </a:cubicBezTo>
                <a:cubicBezTo>
                  <a:pt x="19635" y="11716"/>
                  <a:pt x="19651" y="11704"/>
                  <a:pt x="19653" y="11652"/>
                </a:cubicBezTo>
              </a:path>
              <a:path w="4891" h="3239">
                <a:moveTo>
                  <a:pt x="19685" y="10954"/>
                </a:moveTo>
                <a:cubicBezTo>
                  <a:pt x="19619" y="10997"/>
                  <a:pt x="19665" y="11185"/>
                  <a:pt x="19653" y="11271"/>
                </a:cubicBezTo>
                <a:cubicBezTo>
                  <a:pt x="19633" y="11416"/>
                  <a:pt x="19603" y="11569"/>
                  <a:pt x="19590" y="11716"/>
                </a:cubicBezTo>
                <a:cubicBezTo>
                  <a:pt x="19570" y="11945"/>
                  <a:pt x="19590" y="12184"/>
                  <a:pt x="19590" y="12414"/>
                </a:cubicBezTo>
              </a:path>
              <a:path w="4891" h="3239">
                <a:moveTo>
                  <a:pt x="19876" y="11303"/>
                </a:moveTo>
                <a:cubicBezTo>
                  <a:pt x="19876" y="11436"/>
                  <a:pt x="19855" y="11554"/>
                  <a:pt x="19844" y="11684"/>
                </a:cubicBezTo>
                <a:cubicBezTo>
                  <a:pt x="19830" y="11844"/>
                  <a:pt x="19812" y="11997"/>
                  <a:pt x="19812" y="12160"/>
                </a:cubicBezTo>
                <a:cubicBezTo>
                  <a:pt x="19812" y="12245"/>
                  <a:pt x="19825" y="12350"/>
                  <a:pt x="19876" y="12414"/>
                </a:cubicBezTo>
                <a:cubicBezTo>
                  <a:pt x="19886" y="12425"/>
                  <a:pt x="19897" y="12435"/>
                  <a:pt x="19907" y="12446"/>
                </a:cubicBezTo>
                <a:cubicBezTo>
                  <a:pt x="19960" y="12446"/>
                  <a:pt x="20007" y="12438"/>
                  <a:pt x="20034" y="12382"/>
                </a:cubicBezTo>
                <a:cubicBezTo>
                  <a:pt x="20082" y="12282"/>
                  <a:pt x="20145" y="12142"/>
                  <a:pt x="20161" y="12033"/>
                </a:cubicBezTo>
                <a:cubicBezTo>
                  <a:pt x="20177" y="11921"/>
                  <a:pt x="20161" y="11797"/>
                  <a:pt x="20161" y="11684"/>
                </a:cubicBezTo>
                <a:cubicBezTo>
                  <a:pt x="20113" y="11766"/>
                  <a:pt x="20124" y="11846"/>
                  <a:pt x="20098" y="11938"/>
                </a:cubicBezTo>
                <a:cubicBezTo>
                  <a:pt x="20067" y="12046"/>
                  <a:pt x="20066" y="12140"/>
                  <a:pt x="20066" y="12256"/>
                </a:cubicBezTo>
                <a:cubicBezTo>
                  <a:pt x="20066" y="12265"/>
                  <a:pt x="20064" y="12491"/>
                  <a:pt x="20098" y="12446"/>
                </a:cubicBezTo>
                <a:cubicBezTo>
                  <a:pt x="20098" y="12435"/>
                  <a:pt x="20098" y="12425"/>
                  <a:pt x="20098" y="12414"/>
                </a:cubicBezTo>
              </a:path>
              <a:path w="4891" h="3239">
                <a:moveTo>
                  <a:pt x="20352" y="11176"/>
                </a:moveTo>
                <a:cubicBezTo>
                  <a:pt x="20352" y="11340"/>
                  <a:pt x="20336" y="11491"/>
                  <a:pt x="20320" y="11652"/>
                </a:cubicBezTo>
                <a:cubicBezTo>
                  <a:pt x="20301" y="11842"/>
                  <a:pt x="20285" y="12110"/>
                  <a:pt x="20352" y="12287"/>
                </a:cubicBezTo>
              </a:path>
              <a:path w="4891" h="3239">
                <a:moveTo>
                  <a:pt x="20510" y="12256"/>
                </a:moveTo>
                <a:lnTo>
                  <a:pt x="20510" y="12256"/>
                </a:lnTo>
              </a:path>
              <a:path w="4891" h="3239">
                <a:moveTo>
                  <a:pt x="21050" y="11303"/>
                </a:moveTo>
                <a:cubicBezTo>
                  <a:pt x="21008" y="11247"/>
                  <a:pt x="21018" y="11219"/>
                  <a:pt x="21018" y="11144"/>
                </a:cubicBezTo>
                <a:cubicBezTo>
                  <a:pt x="21018" y="11103"/>
                  <a:pt x="20963" y="11035"/>
                  <a:pt x="20923" y="11017"/>
                </a:cubicBezTo>
                <a:cubicBezTo>
                  <a:pt x="20913" y="11017"/>
                  <a:pt x="20902" y="11017"/>
                  <a:pt x="20892" y="11017"/>
                </a:cubicBezTo>
                <a:cubicBezTo>
                  <a:pt x="20892" y="11171"/>
                  <a:pt x="20899" y="11316"/>
                  <a:pt x="20923" y="11462"/>
                </a:cubicBezTo>
                <a:cubicBezTo>
                  <a:pt x="20948" y="11618"/>
                  <a:pt x="20914" y="11792"/>
                  <a:pt x="20892" y="11938"/>
                </a:cubicBezTo>
                <a:cubicBezTo>
                  <a:pt x="20877" y="12039"/>
                  <a:pt x="20892" y="12153"/>
                  <a:pt x="20892" y="12256"/>
                </a:cubicBezTo>
              </a:path>
              <a:path w="4891" h="3239">
                <a:moveTo>
                  <a:pt x="21495" y="11081"/>
                </a:moveTo>
                <a:cubicBezTo>
                  <a:pt x="21495" y="11034"/>
                  <a:pt x="21486" y="10988"/>
                  <a:pt x="21463" y="10954"/>
                </a:cubicBezTo>
                <a:cubicBezTo>
                  <a:pt x="21452" y="10943"/>
                  <a:pt x="21442" y="10933"/>
                  <a:pt x="21431" y="10922"/>
                </a:cubicBezTo>
                <a:cubicBezTo>
                  <a:pt x="21366" y="10922"/>
                  <a:pt x="21350" y="10938"/>
                  <a:pt x="21336" y="11017"/>
                </a:cubicBezTo>
                <a:cubicBezTo>
                  <a:pt x="21319" y="11114"/>
                  <a:pt x="21293" y="11207"/>
                  <a:pt x="21272" y="11303"/>
                </a:cubicBezTo>
                <a:cubicBezTo>
                  <a:pt x="21272" y="11335"/>
                  <a:pt x="21272" y="11345"/>
                  <a:pt x="21272" y="11366"/>
                </a:cubicBezTo>
                <a:cubicBezTo>
                  <a:pt x="21355" y="11366"/>
                  <a:pt x="21360" y="11348"/>
                  <a:pt x="21400" y="11271"/>
                </a:cubicBezTo>
                <a:cubicBezTo>
                  <a:pt x="21437" y="11200"/>
                  <a:pt x="21502" y="11124"/>
                  <a:pt x="21526" y="11049"/>
                </a:cubicBezTo>
                <a:cubicBezTo>
                  <a:pt x="21526" y="11017"/>
                  <a:pt x="21526" y="11006"/>
                  <a:pt x="21558" y="11017"/>
                </a:cubicBezTo>
                <a:cubicBezTo>
                  <a:pt x="21558" y="11122"/>
                  <a:pt x="21538" y="11203"/>
                  <a:pt x="21526" y="11303"/>
                </a:cubicBezTo>
                <a:cubicBezTo>
                  <a:pt x="21511" y="11428"/>
                  <a:pt x="21500" y="11559"/>
                  <a:pt x="21495" y="11684"/>
                </a:cubicBezTo>
                <a:cubicBezTo>
                  <a:pt x="21492" y="11774"/>
                  <a:pt x="21473" y="11850"/>
                  <a:pt x="21463" y="11938"/>
                </a:cubicBezTo>
              </a:path>
              <a:path w="4891" h="3239">
                <a:moveTo>
                  <a:pt x="20130" y="12954"/>
                </a:moveTo>
                <a:cubicBezTo>
                  <a:pt x="20062" y="12940"/>
                  <a:pt x="20044" y="12904"/>
                  <a:pt x="20002" y="12890"/>
                </a:cubicBezTo>
                <a:cubicBezTo>
                  <a:pt x="19985" y="12896"/>
                  <a:pt x="19917" y="12951"/>
                  <a:pt x="19907" y="12986"/>
                </a:cubicBezTo>
                <a:cubicBezTo>
                  <a:pt x="19893" y="13034"/>
                  <a:pt x="19887" y="13068"/>
                  <a:pt x="19876" y="13113"/>
                </a:cubicBezTo>
                <a:cubicBezTo>
                  <a:pt x="19936" y="13113"/>
                  <a:pt x="19957" y="13091"/>
                  <a:pt x="20002" y="13081"/>
                </a:cubicBezTo>
                <a:cubicBezTo>
                  <a:pt x="20038" y="13073"/>
                  <a:pt x="20142" y="13085"/>
                  <a:pt x="20161" y="13113"/>
                </a:cubicBezTo>
                <a:cubicBezTo>
                  <a:pt x="20205" y="13178"/>
                  <a:pt x="20116" y="13279"/>
                  <a:pt x="20098" y="13335"/>
                </a:cubicBezTo>
                <a:cubicBezTo>
                  <a:pt x="20060" y="13452"/>
                  <a:pt x="20054" y="13505"/>
                  <a:pt x="19971" y="13589"/>
                </a:cubicBezTo>
                <a:cubicBezTo>
                  <a:pt x="19942" y="13618"/>
                  <a:pt x="19936" y="13629"/>
                  <a:pt x="19907" y="13621"/>
                </a:cubicBezTo>
              </a:path>
              <a:path w="4891" h="3239">
                <a:moveTo>
                  <a:pt x="20161" y="12827"/>
                </a:moveTo>
                <a:cubicBezTo>
                  <a:pt x="20211" y="12827"/>
                  <a:pt x="20244" y="12834"/>
                  <a:pt x="20256" y="12890"/>
                </a:cubicBezTo>
                <a:cubicBezTo>
                  <a:pt x="20278" y="12997"/>
                  <a:pt x="20288" y="13094"/>
                  <a:pt x="20288" y="13208"/>
                </a:cubicBezTo>
                <a:cubicBezTo>
                  <a:pt x="20288" y="13367"/>
                  <a:pt x="20288" y="13525"/>
                  <a:pt x="20288" y="13684"/>
                </a:cubicBezTo>
              </a:path>
              <a:path w="4891" h="3239">
                <a:moveTo>
                  <a:pt x="20542" y="13049"/>
                </a:moveTo>
                <a:cubicBezTo>
                  <a:pt x="20501" y="13110"/>
                  <a:pt x="20462" y="13193"/>
                  <a:pt x="20447" y="13272"/>
                </a:cubicBezTo>
                <a:cubicBezTo>
                  <a:pt x="20429" y="13365"/>
                  <a:pt x="20422" y="13461"/>
                  <a:pt x="20415" y="13557"/>
                </a:cubicBezTo>
                <a:cubicBezTo>
                  <a:pt x="20491" y="13546"/>
                  <a:pt x="20473" y="13553"/>
                  <a:pt x="20510" y="13494"/>
                </a:cubicBezTo>
                <a:cubicBezTo>
                  <a:pt x="20554" y="13423"/>
                  <a:pt x="20620" y="13291"/>
                  <a:pt x="20638" y="13208"/>
                </a:cubicBezTo>
                <a:cubicBezTo>
                  <a:pt x="20651" y="13150"/>
                  <a:pt x="20691" y="13047"/>
                  <a:pt x="20669" y="12986"/>
                </a:cubicBezTo>
                <a:cubicBezTo>
                  <a:pt x="20659" y="12986"/>
                  <a:pt x="20648" y="12986"/>
                  <a:pt x="20638" y="12986"/>
                </a:cubicBezTo>
                <a:cubicBezTo>
                  <a:pt x="20644" y="13032"/>
                  <a:pt x="20642" y="13060"/>
                  <a:pt x="20669" y="13081"/>
                </a:cubicBezTo>
                <a:cubicBezTo>
                  <a:pt x="20703" y="13107"/>
                  <a:pt x="20765" y="13101"/>
                  <a:pt x="20796" y="13144"/>
                </a:cubicBezTo>
                <a:cubicBezTo>
                  <a:pt x="20863" y="13238"/>
                  <a:pt x="20860" y="13320"/>
                  <a:pt x="20860" y="13430"/>
                </a:cubicBezTo>
                <a:cubicBezTo>
                  <a:pt x="20860" y="13524"/>
                  <a:pt x="20866" y="13826"/>
                  <a:pt x="20860" y="13811"/>
                </a:cubicBezTo>
                <a:cubicBezTo>
                  <a:pt x="20825" y="13729"/>
                  <a:pt x="20828" y="13648"/>
                  <a:pt x="20828" y="13557"/>
                </a:cubicBezTo>
                <a:cubicBezTo>
                  <a:pt x="20828" y="13413"/>
                  <a:pt x="20854" y="13285"/>
                  <a:pt x="20860" y="13144"/>
                </a:cubicBezTo>
                <a:cubicBezTo>
                  <a:pt x="20862" y="13092"/>
                  <a:pt x="20887" y="12986"/>
                  <a:pt x="20923" y="12954"/>
                </a:cubicBezTo>
                <a:cubicBezTo>
                  <a:pt x="20934" y="12954"/>
                  <a:pt x="20944" y="12954"/>
                  <a:pt x="20955" y="12954"/>
                </a:cubicBezTo>
                <a:cubicBezTo>
                  <a:pt x="20955" y="13079"/>
                  <a:pt x="20943" y="13186"/>
                  <a:pt x="20923" y="13303"/>
                </a:cubicBezTo>
                <a:cubicBezTo>
                  <a:pt x="20914" y="13359"/>
                  <a:pt x="20906" y="13408"/>
                  <a:pt x="20892" y="13462"/>
                </a:cubicBezTo>
                <a:cubicBezTo>
                  <a:pt x="20924" y="13408"/>
                  <a:pt x="20923" y="13394"/>
                  <a:pt x="20987" y="13335"/>
                </a:cubicBezTo>
                <a:cubicBezTo>
                  <a:pt x="21053" y="13275"/>
                  <a:pt x="21077" y="13275"/>
                  <a:pt x="21146" y="13240"/>
                </a:cubicBezTo>
                <a:cubicBezTo>
                  <a:pt x="21222" y="13201"/>
                  <a:pt x="21255" y="13108"/>
                  <a:pt x="21304" y="13049"/>
                </a:cubicBezTo>
                <a:cubicBezTo>
                  <a:pt x="21362" y="12979"/>
                  <a:pt x="21415" y="12910"/>
                  <a:pt x="21431" y="12827"/>
                </a:cubicBezTo>
                <a:cubicBezTo>
                  <a:pt x="21438" y="12791"/>
                  <a:pt x="21431" y="12738"/>
                  <a:pt x="21431" y="12700"/>
                </a:cubicBezTo>
                <a:cubicBezTo>
                  <a:pt x="21348" y="12712"/>
                  <a:pt x="21349" y="12710"/>
                  <a:pt x="21304" y="12795"/>
                </a:cubicBezTo>
                <a:cubicBezTo>
                  <a:pt x="21264" y="12870"/>
                  <a:pt x="21227" y="12998"/>
                  <a:pt x="21209" y="13081"/>
                </a:cubicBezTo>
                <a:cubicBezTo>
                  <a:pt x="21195" y="13149"/>
                  <a:pt x="21213" y="13245"/>
                  <a:pt x="21241" y="13303"/>
                </a:cubicBezTo>
                <a:cubicBezTo>
                  <a:pt x="21263" y="13348"/>
                  <a:pt x="21286" y="13339"/>
                  <a:pt x="21336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1"/>
          <p:cNvSpPr/>
          <p:nvPr/>
        </p:nvSpPr>
        <p:spPr>
          <a:xfrm>
            <a:off x="2000160" y="4765680"/>
            <a:ext cx="206640" cy="434880"/>
          </a:xfrm>
          <a:custGeom>
            <a:avLst/>
            <a:gdLst/>
            <a:ahLst/>
            <a:rect l="l" t="t" r="r" b="b"/>
            <a:pathLst>
              <a:path w="573" h="1207">
                <a:moveTo>
                  <a:pt x="5588" y="13240"/>
                </a:moveTo>
                <a:cubicBezTo>
                  <a:pt x="5571" y="13327"/>
                  <a:pt x="5556" y="13367"/>
                  <a:pt x="5556" y="13462"/>
                </a:cubicBezTo>
                <a:cubicBezTo>
                  <a:pt x="5556" y="13520"/>
                  <a:pt x="5561" y="13588"/>
                  <a:pt x="5620" y="13621"/>
                </a:cubicBezTo>
                <a:cubicBezTo>
                  <a:pt x="5674" y="13651"/>
                  <a:pt x="5717" y="13645"/>
                  <a:pt x="5778" y="13621"/>
                </a:cubicBezTo>
                <a:cubicBezTo>
                  <a:pt x="5860" y="13588"/>
                  <a:pt x="5897" y="13505"/>
                  <a:pt x="5937" y="13430"/>
                </a:cubicBezTo>
                <a:cubicBezTo>
                  <a:pt x="5963" y="13378"/>
                  <a:pt x="5974" y="13370"/>
                  <a:pt x="5969" y="13335"/>
                </a:cubicBezTo>
                <a:cubicBezTo>
                  <a:pt x="6010" y="13355"/>
                  <a:pt x="5949" y="13449"/>
                  <a:pt x="5937" y="13526"/>
                </a:cubicBezTo>
                <a:cubicBezTo>
                  <a:pt x="5919" y="13640"/>
                  <a:pt x="5886" y="13759"/>
                  <a:pt x="5874" y="13875"/>
                </a:cubicBezTo>
                <a:cubicBezTo>
                  <a:pt x="5861" y="13998"/>
                  <a:pt x="5865" y="14135"/>
                  <a:pt x="5842" y="14256"/>
                </a:cubicBezTo>
                <a:cubicBezTo>
                  <a:pt x="5829" y="14326"/>
                  <a:pt x="5826" y="14437"/>
                  <a:pt x="5747" y="14446"/>
                </a:cubicBezTo>
                <a:cubicBezTo>
                  <a:pt x="5702" y="14451"/>
                  <a:pt x="5635" y="14435"/>
                  <a:pt x="5620" y="14383"/>
                </a:cubicBezTo>
                <a:cubicBezTo>
                  <a:pt x="5597" y="14302"/>
                  <a:pt x="5593" y="14236"/>
                  <a:pt x="5620" y="14160"/>
                </a:cubicBezTo>
                <a:cubicBezTo>
                  <a:pt x="5656" y="14058"/>
                  <a:pt x="5705" y="14002"/>
                  <a:pt x="5778" y="13938"/>
                </a:cubicBezTo>
                <a:cubicBezTo>
                  <a:pt x="5879" y="13849"/>
                  <a:pt x="6003" y="13800"/>
                  <a:pt x="6128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2"/>
          <p:cNvSpPr/>
          <p:nvPr/>
        </p:nvSpPr>
        <p:spPr>
          <a:xfrm>
            <a:off x="1235160" y="5064120"/>
            <a:ext cx="4160880" cy="789120"/>
          </a:xfrm>
          <a:custGeom>
            <a:avLst/>
            <a:gdLst/>
            <a:ahLst/>
            <a:rect l="l" t="t" r="r" b="b"/>
            <a:pathLst>
              <a:path w="11558" h="2192">
                <a:moveTo>
                  <a:pt x="4540" y="14637"/>
                </a:moveTo>
                <a:cubicBezTo>
                  <a:pt x="4540" y="14554"/>
                  <a:pt x="4558" y="14477"/>
                  <a:pt x="4508" y="14414"/>
                </a:cubicBezTo>
                <a:cubicBezTo>
                  <a:pt x="4455" y="14348"/>
                  <a:pt x="4364" y="14323"/>
                  <a:pt x="4286" y="14319"/>
                </a:cubicBezTo>
                <a:cubicBezTo>
                  <a:pt x="4178" y="14313"/>
                  <a:pt x="4069" y="14362"/>
                  <a:pt x="4000" y="14446"/>
                </a:cubicBezTo>
                <a:cubicBezTo>
                  <a:pt x="3917" y="14548"/>
                  <a:pt x="3827" y="14660"/>
                  <a:pt x="3810" y="14796"/>
                </a:cubicBezTo>
                <a:cubicBezTo>
                  <a:pt x="3775" y="15077"/>
                  <a:pt x="3808" y="15374"/>
                  <a:pt x="3778" y="15653"/>
                </a:cubicBezTo>
                <a:cubicBezTo>
                  <a:pt x="3763" y="15788"/>
                  <a:pt x="3707" y="15901"/>
                  <a:pt x="3683" y="16034"/>
                </a:cubicBezTo>
                <a:cubicBezTo>
                  <a:pt x="3671" y="16101"/>
                  <a:pt x="3637" y="16110"/>
                  <a:pt x="3683" y="16066"/>
                </a:cubicBezTo>
              </a:path>
              <a:path w="11558" h="2192">
                <a:moveTo>
                  <a:pt x="3429" y="15367"/>
                </a:moveTo>
                <a:cubicBezTo>
                  <a:pt x="3522" y="15386"/>
                  <a:pt x="3620" y="15404"/>
                  <a:pt x="3715" y="15430"/>
                </a:cubicBezTo>
                <a:cubicBezTo>
                  <a:pt x="3825" y="15460"/>
                  <a:pt x="3983" y="15536"/>
                  <a:pt x="4096" y="15526"/>
                </a:cubicBezTo>
                <a:cubicBezTo>
                  <a:pt x="4117" y="15515"/>
                  <a:pt x="4138" y="15505"/>
                  <a:pt x="4159" y="15494"/>
                </a:cubicBezTo>
              </a:path>
              <a:path w="11558" h="2192">
                <a:moveTo>
                  <a:pt x="4382" y="15081"/>
                </a:moveTo>
                <a:cubicBezTo>
                  <a:pt x="4328" y="15161"/>
                  <a:pt x="4265" y="15277"/>
                  <a:pt x="4223" y="15367"/>
                </a:cubicBezTo>
                <a:cubicBezTo>
                  <a:pt x="4168" y="15486"/>
                  <a:pt x="4133" y="15619"/>
                  <a:pt x="4128" y="15748"/>
                </a:cubicBezTo>
                <a:cubicBezTo>
                  <a:pt x="4125" y="15838"/>
                  <a:pt x="4161" y="15977"/>
                  <a:pt x="4286" y="15970"/>
                </a:cubicBezTo>
                <a:cubicBezTo>
                  <a:pt x="4389" y="15964"/>
                  <a:pt x="4466" y="15800"/>
                  <a:pt x="4477" y="15716"/>
                </a:cubicBezTo>
                <a:cubicBezTo>
                  <a:pt x="4494" y="15588"/>
                  <a:pt x="4489" y="15425"/>
                  <a:pt x="4445" y="15304"/>
                </a:cubicBezTo>
                <a:cubicBezTo>
                  <a:pt x="4437" y="15283"/>
                  <a:pt x="4372" y="15074"/>
                  <a:pt x="4350" y="15081"/>
                </a:cubicBezTo>
                <a:cubicBezTo>
                  <a:pt x="4350" y="15092"/>
                  <a:pt x="4350" y="15102"/>
                  <a:pt x="4350" y="15113"/>
                </a:cubicBezTo>
                <a:cubicBezTo>
                  <a:pt x="4422" y="15185"/>
                  <a:pt x="4481" y="15227"/>
                  <a:pt x="4572" y="15272"/>
                </a:cubicBezTo>
              </a:path>
              <a:path w="11558" h="2192">
                <a:moveTo>
                  <a:pt x="4762" y="15399"/>
                </a:moveTo>
                <a:cubicBezTo>
                  <a:pt x="4762" y="15467"/>
                  <a:pt x="4735" y="15489"/>
                  <a:pt x="4731" y="15558"/>
                </a:cubicBezTo>
                <a:cubicBezTo>
                  <a:pt x="4724" y="15673"/>
                  <a:pt x="4731" y="15791"/>
                  <a:pt x="4731" y="15907"/>
                </a:cubicBezTo>
                <a:cubicBezTo>
                  <a:pt x="4731" y="15986"/>
                  <a:pt x="4701" y="15796"/>
                  <a:pt x="4699" y="15780"/>
                </a:cubicBezTo>
                <a:cubicBezTo>
                  <a:pt x="4683" y="15654"/>
                  <a:pt x="4683" y="15481"/>
                  <a:pt x="4731" y="15367"/>
                </a:cubicBezTo>
                <a:cubicBezTo>
                  <a:pt x="4772" y="15269"/>
                  <a:pt x="4841" y="15175"/>
                  <a:pt x="4953" y="15145"/>
                </a:cubicBezTo>
                <a:cubicBezTo>
                  <a:pt x="5059" y="15117"/>
                  <a:pt x="5232" y="15206"/>
                  <a:pt x="5334" y="15240"/>
                </a:cubicBezTo>
              </a:path>
              <a:path w="11558" h="2192">
                <a:moveTo>
                  <a:pt x="6286" y="15240"/>
                </a:moveTo>
                <a:cubicBezTo>
                  <a:pt x="6364" y="15193"/>
                  <a:pt x="6445" y="15150"/>
                  <a:pt x="6540" y="15113"/>
                </a:cubicBezTo>
                <a:cubicBezTo>
                  <a:pt x="6655" y="15069"/>
                  <a:pt x="6776" y="15033"/>
                  <a:pt x="6890" y="14986"/>
                </a:cubicBezTo>
                <a:cubicBezTo>
                  <a:pt x="6993" y="14943"/>
                  <a:pt x="7010" y="14921"/>
                  <a:pt x="7048" y="14827"/>
                </a:cubicBezTo>
                <a:cubicBezTo>
                  <a:pt x="7078" y="14753"/>
                  <a:pt x="7073" y="14700"/>
                  <a:pt x="6985" y="14668"/>
                </a:cubicBezTo>
                <a:cubicBezTo>
                  <a:pt x="6934" y="14649"/>
                  <a:pt x="6825" y="14698"/>
                  <a:pt x="6794" y="14732"/>
                </a:cubicBezTo>
                <a:cubicBezTo>
                  <a:pt x="6706" y="14827"/>
                  <a:pt x="6673" y="14921"/>
                  <a:pt x="6668" y="15050"/>
                </a:cubicBezTo>
                <a:cubicBezTo>
                  <a:pt x="6663" y="15202"/>
                  <a:pt x="6659" y="15355"/>
                  <a:pt x="6731" y="15494"/>
                </a:cubicBezTo>
                <a:cubicBezTo>
                  <a:pt x="6785" y="15599"/>
                  <a:pt x="6835" y="15703"/>
                  <a:pt x="6953" y="15716"/>
                </a:cubicBezTo>
                <a:cubicBezTo>
                  <a:pt x="7072" y="15729"/>
                  <a:pt x="7107" y="15635"/>
                  <a:pt x="7176" y="15558"/>
                </a:cubicBezTo>
              </a:path>
              <a:path w="11558" h="2192">
                <a:moveTo>
                  <a:pt x="7302" y="14700"/>
                </a:moveTo>
                <a:cubicBezTo>
                  <a:pt x="7302" y="14781"/>
                  <a:pt x="7317" y="14877"/>
                  <a:pt x="7334" y="14954"/>
                </a:cubicBezTo>
                <a:cubicBezTo>
                  <a:pt x="7371" y="15122"/>
                  <a:pt x="7419" y="15275"/>
                  <a:pt x="7493" y="15430"/>
                </a:cubicBezTo>
                <a:cubicBezTo>
                  <a:pt x="7534" y="15516"/>
                  <a:pt x="7552" y="15585"/>
                  <a:pt x="7620" y="15653"/>
                </a:cubicBezTo>
                <a:cubicBezTo>
                  <a:pt x="7670" y="15636"/>
                  <a:pt x="7681" y="15592"/>
                  <a:pt x="7684" y="15526"/>
                </a:cubicBezTo>
                <a:cubicBezTo>
                  <a:pt x="7690" y="15387"/>
                  <a:pt x="7694" y="15219"/>
                  <a:pt x="7715" y="15081"/>
                </a:cubicBezTo>
                <a:cubicBezTo>
                  <a:pt x="7731" y="14977"/>
                  <a:pt x="7728" y="14823"/>
                  <a:pt x="7779" y="14732"/>
                </a:cubicBezTo>
                <a:cubicBezTo>
                  <a:pt x="7813" y="14672"/>
                  <a:pt x="7870" y="14700"/>
                  <a:pt x="7906" y="14732"/>
                </a:cubicBezTo>
                <a:cubicBezTo>
                  <a:pt x="7917" y="14743"/>
                  <a:pt x="7927" y="14753"/>
                  <a:pt x="7938" y="14764"/>
                </a:cubicBezTo>
              </a:path>
              <a:path w="11558" h="2192">
                <a:moveTo>
                  <a:pt x="8160" y="15113"/>
                </a:moveTo>
                <a:cubicBezTo>
                  <a:pt x="8245" y="15113"/>
                  <a:pt x="8310" y="15100"/>
                  <a:pt x="8382" y="15050"/>
                </a:cubicBezTo>
                <a:cubicBezTo>
                  <a:pt x="8418" y="15025"/>
                  <a:pt x="8559" y="14929"/>
                  <a:pt x="8572" y="14891"/>
                </a:cubicBezTo>
                <a:cubicBezTo>
                  <a:pt x="8591" y="14836"/>
                  <a:pt x="8575" y="14739"/>
                  <a:pt x="8541" y="14700"/>
                </a:cubicBezTo>
                <a:cubicBezTo>
                  <a:pt x="8483" y="14635"/>
                  <a:pt x="8445" y="14698"/>
                  <a:pt x="8382" y="14732"/>
                </a:cubicBezTo>
                <a:cubicBezTo>
                  <a:pt x="8263" y="14795"/>
                  <a:pt x="8253" y="14934"/>
                  <a:pt x="8223" y="15050"/>
                </a:cubicBezTo>
                <a:cubicBezTo>
                  <a:pt x="8181" y="15215"/>
                  <a:pt x="8190" y="15336"/>
                  <a:pt x="8255" y="15494"/>
                </a:cubicBezTo>
                <a:cubicBezTo>
                  <a:pt x="8285" y="15567"/>
                  <a:pt x="8351" y="15661"/>
                  <a:pt x="8446" y="15621"/>
                </a:cubicBezTo>
                <a:cubicBezTo>
                  <a:pt x="8493" y="15572"/>
                  <a:pt x="8517" y="15542"/>
                  <a:pt x="8541" y="15494"/>
                </a:cubicBezTo>
              </a:path>
              <a:path w="11558" h="2192">
                <a:moveTo>
                  <a:pt x="8763" y="14859"/>
                </a:moveTo>
                <a:cubicBezTo>
                  <a:pt x="8763" y="14827"/>
                  <a:pt x="8763" y="14817"/>
                  <a:pt x="8763" y="14796"/>
                </a:cubicBezTo>
                <a:cubicBezTo>
                  <a:pt x="8818" y="14814"/>
                  <a:pt x="8822" y="14885"/>
                  <a:pt x="8826" y="14954"/>
                </a:cubicBezTo>
                <a:cubicBezTo>
                  <a:pt x="8833" y="15079"/>
                  <a:pt x="8811" y="15184"/>
                  <a:pt x="8795" y="15304"/>
                </a:cubicBezTo>
                <a:cubicBezTo>
                  <a:pt x="8795" y="15367"/>
                  <a:pt x="8795" y="15388"/>
                  <a:pt x="8795" y="15430"/>
                </a:cubicBezTo>
                <a:cubicBezTo>
                  <a:pt x="8795" y="15518"/>
                  <a:pt x="8791" y="15293"/>
                  <a:pt x="8795" y="15272"/>
                </a:cubicBezTo>
                <a:cubicBezTo>
                  <a:pt x="8815" y="15158"/>
                  <a:pt x="8814" y="15026"/>
                  <a:pt x="8858" y="14922"/>
                </a:cubicBezTo>
                <a:cubicBezTo>
                  <a:pt x="8903" y="14817"/>
                  <a:pt x="8950" y="14756"/>
                  <a:pt x="9049" y="14700"/>
                </a:cubicBezTo>
                <a:cubicBezTo>
                  <a:pt x="9101" y="14671"/>
                  <a:pt x="9180" y="14641"/>
                  <a:pt x="9239" y="14637"/>
                </a:cubicBezTo>
                <a:cubicBezTo>
                  <a:pt x="9280" y="14634"/>
                  <a:pt x="9324" y="14637"/>
                  <a:pt x="9366" y="14637"/>
                </a:cubicBezTo>
              </a:path>
              <a:path w="11558" h="2192">
                <a:moveTo>
                  <a:pt x="9398" y="14668"/>
                </a:moveTo>
                <a:cubicBezTo>
                  <a:pt x="9409" y="14748"/>
                  <a:pt x="9407" y="14750"/>
                  <a:pt x="9398" y="14827"/>
                </a:cubicBezTo>
                <a:cubicBezTo>
                  <a:pt x="9379" y="14989"/>
                  <a:pt x="9397" y="15226"/>
                  <a:pt x="9430" y="15335"/>
                </a:cubicBezTo>
                <a:cubicBezTo>
                  <a:pt x="9430" y="15346"/>
                  <a:pt x="9430" y="15356"/>
                  <a:pt x="9430" y="15367"/>
                </a:cubicBezTo>
                <a:cubicBezTo>
                  <a:pt x="9475" y="15341"/>
                  <a:pt x="9513" y="15316"/>
                  <a:pt x="9557" y="15272"/>
                </a:cubicBezTo>
                <a:cubicBezTo>
                  <a:pt x="9650" y="15178"/>
                  <a:pt x="9684" y="15055"/>
                  <a:pt x="9779" y="14954"/>
                </a:cubicBezTo>
                <a:cubicBezTo>
                  <a:pt x="9865" y="14863"/>
                  <a:pt x="9860" y="14799"/>
                  <a:pt x="9906" y="14700"/>
                </a:cubicBezTo>
                <a:cubicBezTo>
                  <a:pt x="9935" y="14671"/>
                  <a:pt x="9945" y="14665"/>
                  <a:pt x="9938" y="14637"/>
                </a:cubicBezTo>
                <a:cubicBezTo>
                  <a:pt x="9958" y="14676"/>
                  <a:pt x="9970" y="14676"/>
                  <a:pt x="9970" y="14764"/>
                </a:cubicBezTo>
                <a:cubicBezTo>
                  <a:pt x="9970" y="14884"/>
                  <a:pt x="9924" y="15026"/>
                  <a:pt x="9906" y="15145"/>
                </a:cubicBezTo>
                <a:cubicBezTo>
                  <a:pt x="9877" y="15334"/>
                  <a:pt x="9827" y="15513"/>
                  <a:pt x="9747" y="15684"/>
                </a:cubicBezTo>
                <a:cubicBezTo>
                  <a:pt x="9678" y="15832"/>
                  <a:pt x="9616" y="15960"/>
                  <a:pt x="9525" y="16097"/>
                </a:cubicBezTo>
                <a:cubicBezTo>
                  <a:pt x="9479" y="16166"/>
                  <a:pt x="9433" y="16263"/>
                  <a:pt x="9334" y="16256"/>
                </a:cubicBezTo>
                <a:cubicBezTo>
                  <a:pt x="9297" y="16254"/>
                  <a:pt x="9301" y="16242"/>
                  <a:pt x="9271" y="16224"/>
                </a:cubicBezTo>
              </a:path>
              <a:path w="11558" h="2192">
                <a:moveTo>
                  <a:pt x="10192" y="15367"/>
                </a:moveTo>
                <a:cubicBezTo>
                  <a:pt x="10264" y="15343"/>
                  <a:pt x="10307" y="15337"/>
                  <a:pt x="10382" y="15335"/>
                </a:cubicBezTo>
                <a:cubicBezTo>
                  <a:pt x="10462" y="15333"/>
                  <a:pt x="10544" y="15362"/>
                  <a:pt x="10604" y="15367"/>
                </a:cubicBezTo>
                <a:cubicBezTo>
                  <a:pt x="10808" y="15386"/>
                  <a:pt x="11011" y="15356"/>
                  <a:pt x="11208" y="15335"/>
                </a:cubicBezTo>
                <a:cubicBezTo>
                  <a:pt x="11338" y="15321"/>
                  <a:pt x="11459" y="15288"/>
                  <a:pt x="11589" y="15272"/>
                </a:cubicBezTo>
                <a:cubicBezTo>
                  <a:pt x="11716" y="15256"/>
                  <a:pt x="11845" y="15220"/>
                  <a:pt x="11970" y="15208"/>
                </a:cubicBezTo>
                <a:cubicBezTo>
                  <a:pt x="12175" y="15189"/>
                  <a:pt x="12347" y="15184"/>
                  <a:pt x="12541" y="15145"/>
                </a:cubicBezTo>
                <a:cubicBezTo>
                  <a:pt x="12676" y="15118"/>
                  <a:pt x="12848" y="15118"/>
                  <a:pt x="12986" y="15113"/>
                </a:cubicBezTo>
                <a:cubicBezTo>
                  <a:pt x="13138" y="15108"/>
                  <a:pt x="13284" y="15094"/>
                  <a:pt x="13430" y="15081"/>
                </a:cubicBezTo>
                <a:cubicBezTo>
                  <a:pt x="13746" y="15052"/>
                  <a:pt x="14074" y="15086"/>
                  <a:pt x="14383" y="15050"/>
                </a:cubicBezTo>
                <a:cubicBezTo>
                  <a:pt x="14435" y="15044"/>
                  <a:pt x="14489" y="15053"/>
                  <a:pt x="14542" y="15050"/>
                </a:cubicBezTo>
              </a:path>
              <a:path w="11558" h="2192">
                <a:moveTo>
                  <a:pt x="14922" y="15335"/>
                </a:moveTo>
                <a:cubicBezTo>
                  <a:pt x="14974" y="15335"/>
                  <a:pt x="14938" y="15320"/>
                  <a:pt x="14986" y="15304"/>
                </a:cubicBezTo>
              </a:path>
              <a:path w="11558" h="2192">
                <a:moveTo>
                  <a:pt x="11335" y="14065"/>
                </a:moveTo>
                <a:cubicBezTo>
                  <a:pt x="11371" y="14102"/>
                  <a:pt x="11393" y="14108"/>
                  <a:pt x="11398" y="14192"/>
                </a:cubicBezTo>
                <a:cubicBezTo>
                  <a:pt x="11405" y="14302"/>
                  <a:pt x="11335" y="14392"/>
                  <a:pt x="11335" y="14510"/>
                </a:cubicBezTo>
                <a:cubicBezTo>
                  <a:pt x="11335" y="14596"/>
                  <a:pt x="11335" y="14573"/>
                  <a:pt x="11366" y="14637"/>
                </a:cubicBezTo>
                <a:cubicBezTo>
                  <a:pt x="11439" y="14628"/>
                  <a:pt x="11565" y="14602"/>
                  <a:pt x="11620" y="14542"/>
                </a:cubicBezTo>
                <a:cubicBezTo>
                  <a:pt x="11687" y="14470"/>
                  <a:pt x="11758" y="14373"/>
                  <a:pt x="11811" y="14288"/>
                </a:cubicBezTo>
                <a:cubicBezTo>
                  <a:pt x="11831" y="14337"/>
                  <a:pt x="11824" y="14500"/>
                  <a:pt x="11811" y="14573"/>
                </a:cubicBezTo>
                <a:cubicBezTo>
                  <a:pt x="11784" y="14728"/>
                  <a:pt x="11778" y="14895"/>
                  <a:pt x="11748" y="15050"/>
                </a:cubicBezTo>
                <a:cubicBezTo>
                  <a:pt x="11717" y="15209"/>
                  <a:pt x="11671" y="15332"/>
                  <a:pt x="11589" y="15462"/>
                </a:cubicBezTo>
                <a:cubicBezTo>
                  <a:pt x="11536" y="15546"/>
                  <a:pt x="11550" y="15545"/>
                  <a:pt x="11462" y="15558"/>
                </a:cubicBezTo>
                <a:cubicBezTo>
                  <a:pt x="11438" y="15493"/>
                  <a:pt x="11430" y="15446"/>
                  <a:pt x="11430" y="15367"/>
                </a:cubicBezTo>
                <a:cubicBezTo>
                  <a:pt x="11430" y="15250"/>
                  <a:pt x="11484" y="15137"/>
                  <a:pt x="11557" y="15050"/>
                </a:cubicBezTo>
                <a:cubicBezTo>
                  <a:pt x="11628" y="14965"/>
                  <a:pt x="11746" y="14867"/>
                  <a:pt x="11843" y="14827"/>
                </a:cubicBezTo>
                <a:cubicBezTo>
                  <a:pt x="11981" y="14770"/>
                  <a:pt x="12089" y="14711"/>
                  <a:pt x="12224" y="14637"/>
                </a:cubicBezTo>
                <a:cubicBezTo>
                  <a:pt x="12298" y="14597"/>
                  <a:pt x="12361" y="14556"/>
                  <a:pt x="12382" y="14478"/>
                </a:cubicBezTo>
                <a:cubicBezTo>
                  <a:pt x="12382" y="14446"/>
                  <a:pt x="12382" y="14435"/>
                  <a:pt x="12382" y="14414"/>
                </a:cubicBezTo>
                <a:cubicBezTo>
                  <a:pt x="12339" y="14388"/>
                  <a:pt x="12284" y="14360"/>
                  <a:pt x="12224" y="14383"/>
                </a:cubicBezTo>
                <a:cubicBezTo>
                  <a:pt x="12145" y="14413"/>
                  <a:pt x="12119" y="14515"/>
                  <a:pt x="12097" y="14573"/>
                </a:cubicBezTo>
                <a:cubicBezTo>
                  <a:pt x="12053" y="14686"/>
                  <a:pt x="12069" y="14697"/>
                  <a:pt x="12128" y="14796"/>
                </a:cubicBezTo>
                <a:cubicBezTo>
                  <a:pt x="12184" y="14890"/>
                  <a:pt x="12277" y="14894"/>
                  <a:pt x="12382" y="14859"/>
                </a:cubicBezTo>
                <a:cubicBezTo>
                  <a:pt x="12403" y="14848"/>
                  <a:pt x="12425" y="14838"/>
                  <a:pt x="12446" y="14827"/>
                </a:cubicBezTo>
              </a:path>
              <a:path w="11558" h="2192">
                <a:moveTo>
                  <a:pt x="12700" y="14510"/>
                </a:moveTo>
                <a:cubicBezTo>
                  <a:pt x="12737" y="14461"/>
                  <a:pt x="12732" y="14445"/>
                  <a:pt x="12732" y="14383"/>
                </a:cubicBezTo>
                <a:cubicBezTo>
                  <a:pt x="12675" y="14425"/>
                  <a:pt x="12656" y="14452"/>
                  <a:pt x="12605" y="14510"/>
                </a:cubicBezTo>
                <a:cubicBezTo>
                  <a:pt x="12538" y="14585"/>
                  <a:pt x="12541" y="14635"/>
                  <a:pt x="12541" y="14732"/>
                </a:cubicBezTo>
                <a:cubicBezTo>
                  <a:pt x="12541" y="14806"/>
                  <a:pt x="12515" y="14881"/>
                  <a:pt x="12605" y="14891"/>
                </a:cubicBezTo>
                <a:cubicBezTo>
                  <a:pt x="12680" y="14899"/>
                  <a:pt x="12741" y="14874"/>
                  <a:pt x="12764" y="14796"/>
                </a:cubicBezTo>
                <a:cubicBezTo>
                  <a:pt x="12789" y="14712"/>
                  <a:pt x="12793" y="14589"/>
                  <a:pt x="12827" y="14510"/>
                </a:cubicBezTo>
                <a:cubicBezTo>
                  <a:pt x="12856" y="14481"/>
                  <a:pt x="12867" y="14475"/>
                  <a:pt x="12859" y="14446"/>
                </a:cubicBezTo>
                <a:cubicBezTo>
                  <a:pt x="12859" y="14591"/>
                  <a:pt x="12859" y="14722"/>
                  <a:pt x="12890" y="14859"/>
                </a:cubicBezTo>
                <a:cubicBezTo>
                  <a:pt x="12903" y="14915"/>
                  <a:pt x="12867" y="14904"/>
                  <a:pt x="12922" y="14922"/>
                </a:cubicBezTo>
              </a:path>
              <a:path w="11558" h="2192">
                <a:moveTo>
                  <a:pt x="13081" y="14510"/>
                </a:moveTo>
                <a:cubicBezTo>
                  <a:pt x="13081" y="14457"/>
                  <a:pt x="13081" y="14552"/>
                  <a:pt x="13081" y="14605"/>
                </a:cubicBezTo>
                <a:cubicBezTo>
                  <a:pt x="13081" y="14633"/>
                  <a:pt x="13083" y="14825"/>
                  <a:pt x="13113" y="14827"/>
                </a:cubicBezTo>
                <a:cubicBezTo>
                  <a:pt x="13183" y="14831"/>
                  <a:pt x="13143" y="14699"/>
                  <a:pt x="13176" y="14637"/>
                </a:cubicBezTo>
                <a:cubicBezTo>
                  <a:pt x="13221" y="14553"/>
                  <a:pt x="13267" y="14488"/>
                  <a:pt x="13367" y="14478"/>
                </a:cubicBezTo>
                <a:cubicBezTo>
                  <a:pt x="13420" y="14473"/>
                  <a:pt x="13421" y="14479"/>
                  <a:pt x="13462" y="14510"/>
                </a:cubicBezTo>
              </a:path>
              <a:path w="11558" h="2192">
                <a:moveTo>
                  <a:pt x="12573" y="15558"/>
                </a:moveTo>
                <a:cubicBezTo>
                  <a:pt x="12590" y="15642"/>
                  <a:pt x="12610" y="15727"/>
                  <a:pt x="12636" y="15812"/>
                </a:cubicBezTo>
                <a:cubicBezTo>
                  <a:pt x="12667" y="15912"/>
                  <a:pt x="12758" y="16088"/>
                  <a:pt x="12827" y="16161"/>
                </a:cubicBezTo>
                <a:cubicBezTo>
                  <a:pt x="12848" y="16171"/>
                  <a:pt x="12869" y="16182"/>
                  <a:pt x="12890" y="16192"/>
                </a:cubicBezTo>
              </a:path>
              <a:path w="11558" h="2192">
                <a:moveTo>
                  <a:pt x="12890" y="15526"/>
                </a:moveTo>
                <a:cubicBezTo>
                  <a:pt x="12816" y="15616"/>
                  <a:pt x="12768" y="15717"/>
                  <a:pt x="12700" y="15812"/>
                </a:cubicBezTo>
                <a:cubicBezTo>
                  <a:pt x="12617" y="15929"/>
                  <a:pt x="12531" y="16045"/>
                  <a:pt x="12446" y="16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3"/>
          <p:cNvSpPr/>
          <p:nvPr/>
        </p:nvSpPr>
        <p:spPr>
          <a:xfrm>
            <a:off x="4697280" y="685800"/>
            <a:ext cx="1657440" cy="720720"/>
          </a:xfrm>
          <a:custGeom>
            <a:avLst/>
            <a:gdLst/>
            <a:ahLst/>
            <a:rect l="l" t="t" r="r" b="b"/>
            <a:pathLst>
              <a:path w="4605" h="2001">
                <a:moveTo>
                  <a:pt x="13176" y="3874"/>
                </a:moveTo>
                <a:cubicBezTo>
                  <a:pt x="13239" y="3879"/>
                  <a:pt x="13255" y="3900"/>
                  <a:pt x="13303" y="3905"/>
                </a:cubicBezTo>
                <a:cubicBezTo>
                  <a:pt x="13921" y="3965"/>
                  <a:pt x="14601" y="3914"/>
                  <a:pt x="15208" y="3874"/>
                </a:cubicBezTo>
                <a:cubicBezTo>
                  <a:pt x="15430" y="3860"/>
                  <a:pt x="15658" y="3859"/>
                  <a:pt x="15875" y="3842"/>
                </a:cubicBezTo>
                <a:cubicBezTo>
                  <a:pt x="16045" y="3829"/>
                  <a:pt x="16218" y="3825"/>
                  <a:pt x="16383" y="3810"/>
                </a:cubicBezTo>
                <a:cubicBezTo>
                  <a:pt x="16550" y="3795"/>
                  <a:pt x="16732" y="3791"/>
                  <a:pt x="16891" y="3778"/>
                </a:cubicBezTo>
                <a:cubicBezTo>
                  <a:pt x="17036" y="3766"/>
                  <a:pt x="17175" y="3782"/>
                  <a:pt x="17304" y="3746"/>
                </a:cubicBezTo>
                <a:cubicBezTo>
                  <a:pt x="17361" y="3730"/>
                  <a:pt x="17359" y="3741"/>
                  <a:pt x="17399" y="3715"/>
                </a:cubicBezTo>
                <a:cubicBezTo>
                  <a:pt x="17439" y="3689"/>
                  <a:pt x="17447" y="3646"/>
                  <a:pt x="17462" y="3620"/>
                </a:cubicBezTo>
                <a:cubicBezTo>
                  <a:pt x="17495" y="3560"/>
                  <a:pt x="17477" y="3491"/>
                  <a:pt x="17494" y="3429"/>
                </a:cubicBezTo>
                <a:cubicBezTo>
                  <a:pt x="17518" y="3340"/>
                  <a:pt x="17511" y="3267"/>
                  <a:pt x="17526" y="3175"/>
                </a:cubicBezTo>
                <a:cubicBezTo>
                  <a:pt x="17540" y="3086"/>
                  <a:pt x="17570" y="2978"/>
                  <a:pt x="17590" y="2889"/>
                </a:cubicBezTo>
                <a:cubicBezTo>
                  <a:pt x="17610" y="2803"/>
                  <a:pt x="17606" y="2724"/>
                  <a:pt x="17621" y="2635"/>
                </a:cubicBezTo>
                <a:cubicBezTo>
                  <a:pt x="17634" y="2557"/>
                  <a:pt x="17663" y="2500"/>
                  <a:pt x="17653" y="2413"/>
                </a:cubicBezTo>
                <a:cubicBezTo>
                  <a:pt x="17646" y="2352"/>
                  <a:pt x="17629" y="2277"/>
                  <a:pt x="17590" y="2222"/>
                </a:cubicBezTo>
                <a:cubicBezTo>
                  <a:pt x="17555" y="2172"/>
                  <a:pt x="17506" y="2151"/>
                  <a:pt x="17462" y="2127"/>
                </a:cubicBezTo>
                <a:cubicBezTo>
                  <a:pt x="17380" y="2083"/>
                  <a:pt x="17328" y="2109"/>
                  <a:pt x="17240" y="2096"/>
                </a:cubicBezTo>
                <a:cubicBezTo>
                  <a:pt x="17121" y="2078"/>
                  <a:pt x="17016" y="2066"/>
                  <a:pt x="16891" y="2064"/>
                </a:cubicBezTo>
                <a:cubicBezTo>
                  <a:pt x="16497" y="2057"/>
                  <a:pt x="16105" y="2057"/>
                  <a:pt x="15716" y="2032"/>
                </a:cubicBezTo>
                <a:cubicBezTo>
                  <a:pt x="15578" y="2023"/>
                  <a:pt x="15437" y="2009"/>
                  <a:pt x="15304" y="2000"/>
                </a:cubicBezTo>
                <a:cubicBezTo>
                  <a:pt x="15173" y="1991"/>
                  <a:pt x="15050" y="1989"/>
                  <a:pt x="14922" y="1968"/>
                </a:cubicBezTo>
                <a:cubicBezTo>
                  <a:pt x="14818" y="1951"/>
                  <a:pt x="14708" y="1956"/>
                  <a:pt x="14605" y="1937"/>
                </a:cubicBezTo>
                <a:cubicBezTo>
                  <a:pt x="14493" y="1917"/>
                  <a:pt x="14405" y="1908"/>
                  <a:pt x="14288" y="1905"/>
                </a:cubicBezTo>
                <a:cubicBezTo>
                  <a:pt x="14155" y="1902"/>
                  <a:pt x="14029" y="1927"/>
                  <a:pt x="13906" y="1937"/>
                </a:cubicBezTo>
                <a:cubicBezTo>
                  <a:pt x="13814" y="1944"/>
                  <a:pt x="13696" y="1962"/>
                  <a:pt x="13621" y="1968"/>
                </a:cubicBezTo>
                <a:cubicBezTo>
                  <a:pt x="13534" y="1975"/>
                  <a:pt x="13471" y="1979"/>
                  <a:pt x="13398" y="2000"/>
                </a:cubicBezTo>
                <a:cubicBezTo>
                  <a:pt x="13325" y="2021"/>
                  <a:pt x="13348" y="2012"/>
                  <a:pt x="13303" y="2064"/>
                </a:cubicBezTo>
                <a:cubicBezTo>
                  <a:pt x="13255" y="2119"/>
                  <a:pt x="13262" y="2156"/>
                  <a:pt x="13240" y="2222"/>
                </a:cubicBezTo>
                <a:cubicBezTo>
                  <a:pt x="13216" y="2293"/>
                  <a:pt x="13192" y="2364"/>
                  <a:pt x="13176" y="2445"/>
                </a:cubicBezTo>
                <a:cubicBezTo>
                  <a:pt x="13151" y="2570"/>
                  <a:pt x="13165" y="2700"/>
                  <a:pt x="13144" y="2826"/>
                </a:cubicBezTo>
                <a:cubicBezTo>
                  <a:pt x="13120" y="2974"/>
                  <a:pt x="13090" y="3119"/>
                  <a:pt x="13081" y="3270"/>
                </a:cubicBezTo>
                <a:cubicBezTo>
                  <a:pt x="13075" y="3372"/>
                  <a:pt x="13057" y="3459"/>
                  <a:pt x="13049" y="3556"/>
                </a:cubicBezTo>
                <a:cubicBezTo>
                  <a:pt x="13042" y="3644"/>
                  <a:pt x="13065" y="3708"/>
                  <a:pt x="13081" y="3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4"/>
          <p:cNvSpPr/>
          <p:nvPr/>
        </p:nvSpPr>
        <p:spPr>
          <a:xfrm>
            <a:off x="674640" y="4629240"/>
            <a:ext cx="3211560" cy="241200"/>
          </a:xfrm>
          <a:custGeom>
            <a:avLst/>
            <a:gdLst/>
            <a:ahLst/>
            <a:rect l="l" t="t" r="r" b="b"/>
            <a:pathLst>
              <a:path w="8923" h="668">
                <a:moveTo>
                  <a:pt x="10795" y="13240"/>
                </a:moveTo>
                <a:cubicBezTo>
                  <a:pt x="10731" y="13222"/>
                  <a:pt x="10714" y="13185"/>
                  <a:pt x="10636" y="13176"/>
                </a:cubicBezTo>
                <a:cubicBezTo>
                  <a:pt x="10546" y="13165"/>
                  <a:pt x="10432" y="13149"/>
                  <a:pt x="10350" y="13144"/>
                </a:cubicBezTo>
                <a:cubicBezTo>
                  <a:pt x="10159" y="13133"/>
                  <a:pt x="9968" y="13123"/>
                  <a:pt x="9779" y="13113"/>
                </a:cubicBezTo>
                <a:cubicBezTo>
                  <a:pt x="9628" y="13105"/>
                  <a:pt x="9483" y="13098"/>
                  <a:pt x="9334" y="13081"/>
                </a:cubicBezTo>
                <a:cubicBezTo>
                  <a:pt x="9163" y="13061"/>
                  <a:pt x="8997" y="13007"/>
                  <a:pt x="8826" y="12986"/>
                </a:cubicBezTo>
                <a:cubicBezTo>
                  <a:pt x="8631" y="12962"/>
                  <a:pt x="8419" y="12931"/>
                  <a:pt x="8223" y="12922"/>
                </a:cubicBezTo>
                <a:cubicBezTo>
                  <a:pt x="8033" y="12913"/>
                  <a:pt x="7839" y="12898"/>
                  <a:pt x="7652" y="12890"/>
                </a:cubicBezTo>
                <a:cubicBezTo>
                  <a:pt x="7166" y="12869"/>
                  <a:pt x="6674" y="12884"/>
                  <a:pt x="6191" y="12859"/>
                </a:cubicBezTo>
                <a:cubicBezTo>
                  <a:pt x="5850" y="12842"/>
                  <a:pt x="5511" y="12875"/>
                  <a:pt x="5175" y="12890"/>
                </a:cubicBezTo>
                <a:cubicBezTo>
                  <a:pt x="4993" y="12898"/>
                  <a:pt x="4845" y="12927"/>
                  <a:pt x="4667" y="12954"/>
                </a:cubicBezTo>
                <a:cubicBezTo>
                  <a:pt x="4512" y="12978"/>
                  <a:pt x="4343" y="12985"/>
                  <a:pt x="4191" y="13018"/>
                </a:cubicBezTo>
                <a:cubicBezTo>
                  <a:pt x="4030" y="13053"/>
                  <a:pt x="3878" y="13089"/>
                  <a:pt x="3715" y="13113"/>
                </a:cubicBezTo>
                <a:cubicBezTo>
                  <a:pt x="3577" y="13134"/>
                  <a:pt x="3439" y="13155"/>
                  <a:pt x="3302" y="13176"/>
                </a:cubicBezTo>
                <a:cubicBezTo>
                  <a:pt x="3158" y="13198"/>
                  <a:pt x="3030" y="13241"/>
                  <a:pt x="2889" y="13272"/>
                </a:cubicBezTo>
                <a:cubicBezTo>
                  <a:pt x="2768" y="13298"/>
                  <a:pt x="2631" y="13316"/>
                  <a:pt x="2508" y="13335"/>
                </a:cubicBezTo>
                <a:cubicBezTo>
                  <a:pt x="2420" y="13349"/>
                  <a:pt x="2307" y="13343"/>
                  <a:pt x="2222" y="13367"/>
                </a:cubicBezTo>
                <a:cubicBezTo>
                  <a:pt x="2167" y="13383"/>
                  <a:pt x="2064" y="13437"/>
                  <a:pt x="2000" y="13462"/>
                </a:cubicBezTo>
                <a:cubicBezTo>
                  <a:pt x="1965" y="13476"/>
                  <a:pt x="1906" y="13477"/>
                  <a:pt x="1873" y="13494"/>
                </a:cubicBezTo>
                <a:cubicBezTo>
                  <a:pt x="1873" y="13505"/>
                  <a:pt x="1873" y="13515"/>
                  <a:pt x="1873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Knight recorded the typing speeds (in words per minute) of 25 students and their weeks of experience. The line of best fit for the data is y = 4.4x + 18.9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umber of weeks of experience of a student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ent’s typing speed. What is the meaning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tercept for this set of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4"/>
          <p:cNvSpPr/>
          <p:nvPr/>
        </p:nvSpPr>
        <p:spPr>
          <a:xfrm>
            <a:off x="868320" y="4879800"/>
            <a:ext cx="1967040" cy="905040"/>
          </a:xfrm>
          <a:custGeom>
            <a:avLst/>
            <a:gdLst/>
            <a:ahLst/>
            <a:rect l="l" t="t" r="r" b="b"/>
            <a:pathLst>
              <a:path w="5462" h="2510">
                <a:moveTo>
                  <a:pt x="2476" y="14954"/>
                </a:moveTo>
                <a:cubicBezTo>
                  <a:pt x="2503" y="14927"/>
                  <a:pt x="2433" y="14939"/>
                  <a:pt x="2508" y="14922"/>
                </a:cubicBezTo>
                <a:cubicBezTo>
                  <a:pt x="2570" y="14908"/>
                  <a:pt x="2591" y="14947"/>
                  <a:pt x="2635" y="14954"/>
                </a:cubicBezTo>
                <a:cubicBezTo>
                  <a:pt x="2782" y="14979"/>
                  <a:pt x="2953" y="14940"/>
                  <a:pt x="3080" y="14922"/>
                </a:cubicBezTo>
                <a:cubicBezTo>
                  <a:pt x="3259" y="14896"/>
                  <a:pt x="3452" y="14932"/>
                  <a:pt x="3620" y="14954"/>
                </a:cubicBezTo>
                <a:cubicBezTo>
                  <a:pt x="3819" y="14980"/>
                  <a:pt x="4035" y="14946"/>
                  <a:pt x="4223" y="14922"/>
                </a:cubicBezTo>
                <a:cubicBezTo>
                  <a:pt x="4511" y="14886"/>
                  <a:pt x="4831" y="14921"/>
                  <a:pt x="5112" y="14954"/>
                </a:cubicBezTo>
                <a:cubicBezTo>
                  <a:pt x="5238" y="14969"/>
                  <a:pt x="5369" y="14972"/>
                  <a:pt x="5493" y="14986"/>
                </a:cubicBezTo>
                <a:cubicBezTo>
                  <a:pt x="5673" y="15006"/>
                  <a:pt x="5873" y="14977"/>
                  <a:pt x="6032" y="14954"/>
                </a:cubicBezTo>
                <a:cubicBezTo>
                  <a:pt x="6090" y="14954"/>
                  <a:pt x="6107" y="14958"/>
                  <a:pt x="6128" y="14922"/>
                </a:cubicBezTo>
              </a:path>
              <a:path w="5462" h="2510">
                <a:moveTo>
                  <a:pt x="3905" y="15208"/>
                </a:moveTo>
                <a:cubicBezTo>
                  <a:pt x="3893" y="15258"/>
                  <a:pt x="3874" y="15279"/>
                  <a:pt x="3874" y="15335"/>
                </a:cubicBezTo>
                <a:cubicBezTo>
                  <a:pt x="3874" y="15433"/>
                  <a:pt x="3862" y="15364"/>
                  <a:pt x="3905" y="15430"/>
                </a:cubicBezTo>
                <a:cubicBezTo>
                  <a:pt x="3930" y="15468"/>
                  <a:pt x="3947" y="15465"/>
                  <a:pt x="4000" y="15430"/>
                </a:cubicBezTo>
                <a:cubicBezTo>
                  <a:pt x="4018" y="15418"/>
                  <a:pt x="4125" y="15340"/>
                  <a:pt x="4128" y="15335"/>
                </a:cubicBezTo>
                <a:cubicBezTo>
                  <a:pt x="4128" y="15304"/>
                  <a:pt x="4128" y="15294"/>
                  <a:pt x="4159" y="15304"/>
                </a:cubicBezTo>
                <a:cubicBezTo>
                  <a:pt x="4120" y="15357"/>
                  <a:pt x="4102" y="15428"/>
                  <a:pt x="4096" y="15494"/>
                </a:cubicBezTo>
                <a:cubicBezTo>
                  <a:pt x="4089" y="15575"/>
                  <a:pt x="4037" y="15631"/>
                  <a:pt x="4032" y="15716"/>
                </a:cubicBezTo>
                <a:cubicBezTo>
                  <a:pt x="4027" y="15803"/>
                  <a:pt x="3983" y="15857"/>
                  <a:pt x="3969" y="15938"/>
                </a:cubicBezTo>
                <a:cubicBezTo>
                  <a:pt x="3955" y="16017"/>
                  <a:pt x="3962" y="16009"/>
                  <a:pt x="3905" y="16066"/>
                </a:cubicBezTo>
                <a:cubicBezTo>
                  <a:pt x="3891" y="16022"/>
                  <a:pt x="3861" y="16026"/>
                  <a:pt x="3842" y="15970"/>
                </a:cubicBezTo>
                <a:cubicBezTo>
                  <a:pt x="3826" y="15922"/>
                  <a:pt x="3810" y="15899"/>
                  <a:pt x="3810" y="15843"/>
                </a:cubicBezTo>
                <a:cubicBezTo>
                  <a:pt x="3810" y="15822"/>
                  <a:pt x="3873" y="15763"/>
                  <a:pt x="3905" y="15748"/>
                </a:cubicBezTo>
                <a:cubicBezTo>
                  <a:pt x="3968" y="15720"/>
                  <a:pt x="4036" y="15697"/>
                  <a:pt x="4096" y="15653"/>
                </a:cubicBezTo>
                <a:cubicBezTo>
                  <a:pt x="4155" y="15609"/>
                  <a:pt x="4163" y="15558"/>
                  <a:pt x="4191" y="15494"/>
                </a:cubicBezTo>
              </a:path>
              <a:path w="5462" h="2510">
                <a:moveTo>
                  <a:pt x="2889" y="13684"/>
                </a:moveTo>
                <a:cubicBezTo>
                  <a:pt x="2889" y="13818"/>
                  <a:pt x="2876" y="13936"/>
                  <a:pt x="2858" y="14065"/>
                </a:cubicBezTo>
                <a:cubicBezTo>
                  <a:pt x="2843" y="14171"/>
                  <a:pt x="2807" y="14281"/>
                  <a:pt x="2794" y="14383"/>
                </a:cubicBezTo>
                <a:cubicBezTo>
                  <a:pt x="2781" y="14484"/>
                  <a:pt x="2817" y="14546"/>
                  <a:pt x="2826" y="14637"/>
                </a:cubicBezTo>
                <a:cubicBezTo>
                  <a:pt x="2826" y="14668"/>
                  <a:pt x="2826" y="14679"/>
                  <a:pt x="2858" y="14668"/>
                </a:cubicBezTo>
              </a:path>
              <a:path w="5462" h="2510">
                <a:moveTo>
                  <a:pt x="2413" y="13589"/>
                </a:moveTo>
                <a:cubicBezTo>
                  <a:pt x="2486" y="13589"/>
                  <a:pt x="2537" y="13568"/>
                  <a:pt x="2604" y="13557"/>
                </a:cubicBezTo>
                <a:cubicBezTo>
                  <a:pt x="2753" y="13532"/>
                  <a:pt x="2928" y="13557"/>
                  <a:pt x="3080" y="13557"/>
                </a:cubicBezTo>
              </a:path>
              <a:path w="5462" h="2510">
                <a:moveTo>
                  <a:pt x="3080" y="13716"/>
                </a:moveTo>
                <a:cubicBezTo>
                  <a:pt x="3096" y="13764"/>
                  <a:pt x="3112" y="13743"/>
                  <a:pt x="3112" y="13811"/>
                </a:cubicBezTo>
                <a:cubicBezTo>
                  <a:pt x="3112" y="13907"/>
                  <a:pt x="3095" y="13976"/>
                  <a:pt x="3080" y="14065"/>
                </a:cubicBezTo>
                <a:cubicBezTo>
                  <a:pt x="3068" y="14135"/>
                  <a:pt x="3033" y="14285"/>
                  <a:pt x="3048" y="14351"/>
                </a:cubicBezTo>
                <a:cubicBezTo>
                  <a:pt x="3062" y="14415"/>
                  <a:pt x="3083" y="14455"/>
                  <a:pt x="3112" y="14478"/>
                </a:cubicBezTo>
                <a:cubicBezTo>
                  <a:pt x="3165" y="14519"/>
                  <a:pt x="3215" y="14465"/>
                  <a:pt x="3270" y="14414"/>
                </a:cubicBezTo>
                <a:cubicBezTo>
                  <a:pt x="3351" y="14339"/>
                  <a:pt x="3353" y="14275"/>
                  <a:pt x="3397" y="14192"/>
                </a:cubicBezTo>
                <a:cubicBezTo>
                  <a:pt x="3423" y="14143"/>
                  <a:pt x="3429" y="13979"/>
                  <a:pt x="3429" y="14034"/>
                </a:cubicBezTo>
                <a:cubicBezTo>
                  <a:pt x="3429" y="14044"/>
                  <a:pt x="3429" y="14055"/>
                  <a:pt x="3429" y="14065"/>
                </a:cubicBezTo>
                <a:cubicBezTo>
                  <a:pt x="3373" y="14140"/>
                  <a:pt x="3419" y="14195"/>
                  <a:pt x="3397" y="14288"/>
                </a:cubicBezTo>
                <a:cubicBezTo>
                  <a:pt x="3371" y="14398"/>
                  <a:pt x="3347" y="14522"/>
                  <a:pt x="3334" y="14637"/>
                </a:cubicBezTo>
                <a:cubicBezTo>
                  <a:pt x="3319" y="14772"/>
                  <a:pt x="3331" y="14858"/>
                  <a:pt x="3270" y="14986"/>
                </a:cubicBezTo>
                <a:cubicBezTo>
                  <a:pt x="3242" y="15044"/>
                  <a:pt x="3194" y="15168"/>
                  <a:pt x="3143" y="15208"/>
                </a:cubicBezTo>
                <a:cubicBezTo>
                  <a:pt x="3088" y="15251"/>
                  <a:pt x="3112" y="15092"/>
                  <a:pt x="3112" y="15081"/>
                </a:cubicBezTo>
              </a:path>
              <a:path w="5462" h="2510">
                <a:moveTo>
                  <a:pt x="3524" y="14129"/>
                </a:moveTo>
                <a:cubicBezTo>
                  <a:pt x="3546" y="14214"/>
                  <a:pt x="3529" y="14246"/>
                  <a:pt x="3524" y="14351"/>
                </a:cubicBezTo>
                <a:cubicBezTo>
                  <a:pt x="3518" y="14475"/>
                  <a:pt x="3520" y="14613"/>
                  <a:pt x="3492" y="14732"/>
                </a:cubicBezTo>
                <a:cubicBezTo>
                  <a:pt x="3471" y="14820"/>
                  <a:pt x="3461" y="14892"/>
                  <a:pt x="3461" y="14986"/>
                </a:cubicBezTo>
                <a:cubicBezTo>
                  <a:pt x="3461" y="14997"/>
                  <a:pt x="3461" y="15007"/>
                  <a:pt x="3461" y="15018"/>
                </a:cubicBezTo>
                <a:cubicBezTo>
                  <a:pt x="3461" y="14946"/>
                  <a:pt x="3438" y="14892"/>
                  <a:pt x="3429" y="14827"/>
                </a:cubicBezTo>
                <a:cubicBezTo>
                  <a:pt x="3414" y="14710"/>
                  <a:pt x="3442" y="14502"/>
                  <a:pt x="3461" y="14383"/>
                </a:cubicBezTo>
                <a:cubicBezTo>
                  <a:pt x="3478" y="14276"/>
                  <a:pt x="3524" y="14134"/>
                  <a:pt x="3556" y="14034"/>
                </a:cubicBezTo>
                <a:cubicBezTo>
                  <a:pt x="3574" y="13976"/>
                  <a:pt x="3642" y="13886"/>
                  <a:pt x="3715" y="13906"/>
                </a:cubicBezTo>
                <a:cubicBezTo>
                  <a:pt x="3781" y="13924"/>
                  <a:pt x="3886" y="14001"/>
                  <a:pt x="3905" y="14065"/>
                </a:cubicBezTo>
                <a:cubicBezTo>
                  <a:pt x="3928" y="14144"/>
                  <a:pt x="3955" y="14206"/>
                  <a:pt x="3905" y="14288"/>
                </a:cubicBezTo>
                <a:cubicBezTo>
                  <a:pt x="3860" y="14362"/>
                  <a:pt x="3810" y="14387"/>
                  <a:pt x="3746" y="14414"/>
                </a:cubicBezTo>
                <a:cubicBezTo>
                  <a:pt x="3661" y="14449"/>
                  <a:pt x="3652" y="14478"/>
                  <a:pt x="3556" y="14478"/>
                </a:cubicBezTo>
                <a:cubicBezTo>
                  <a:pt x="3506" y="14478"/>
                  <a:pt x="3524" y="14457"/>
                  <a:pt x="3524" y="14414"/>
                </a:cubicBezTo>
              </a:path>
              <a:path w="5462" h="2510">
                <a:moveTo>
                  <a:pt x="4064" y="13938"/>
                </a:moveTo>
                <a:cubicBezTo>
                  <a:pt x="4064" y="14039"/>
                  <a:pt x="4044" y="14131"/>
                  <a:pt x="4032" y="14224"/>
                </a:cubicBezTo>
                <a:cubicBezTo>
                  <a:pt x="4019" y="14324"/>
                  <a:pt x="4000" y="14407"/>
                  <a:pt x="4000" y="14510"/>
                </a:cubicBezTo>
                <a:cubicBezTo>
                  <a:pt x="4000" y="14531"/>
                  <a:pt x="4000" y="14552"/>
                  <a:pt x="4000" y="14573"/>
                </a:cubicBezTo>
              </a:path>
              <a:path w="5462" h="2510">
                <a:moveTo>
                  <a:pt x="4223" y="13875"/>
                </a:moveTo>
                <a:cubicBezTo>
                  <a:pt x="4223" y="13945"/>
                  <a:pt x="4266" y="13995"/>
                  <a:pt x="4254" y="14065"/>
                </a:cubicBezTo>
                <a:cubicBezTo>
                  <a:pt x="4234" y="14181"/>
                  <a:pt x="4208" y="14298"/>
                  <a:pt x="4191" y="14414"/>
                </a:cubicBezTo>
                <a:cubicBezTo>
                  <a:pt x="4185" y="14453"/>
                  <a:pt x="4191" y="14502"/>
                  <a:pt x="4191" y="14542"/>
                </a:cubicBezTo>
                <a:cubicBezTo>
                  <a:pt x="4209" y="14471"/>
                  <a:pt x="4229" y="14399"/>
                  <a:pt x="4254" y="14319"/>
                </a:cubicBezTo>
                <a:cubicBezTo>
                  <a:pt x="4293" y="14192"/>
                  <a:pt x="4333" y="14077"/>
                  <a:pt x="4413" y="13970"/>
                </a:cubicBezTo>
                <a:cubicBezTo>
                  <a:pt x="4448" y="13924"/>
                  <a:pt x="4489" y="13887"/>
                  <a:pt x="4540" y="13875"/>
                </a:cubicBezTo>
                <a:cubicBezTo>
                  <a:pt x="4613" y="13928"/>
                  <a:pt x="4604" y="13930"/>
                  <a:pt x="4604" y="14034"/>
                </a:cubicBezTo>
                <a:cubicBezTo>
                  <a:pt x="4604" y="14248"/>
                  <a:pt x="4589" y="14466"/>
                  <a:pt x="4636" y="14668"/>
                </a:cubicBezTo>
                <a:cubicBezTo>
                  <a:pt x="4636" y="14679"/>
                  <a:pt x="4636" y="14689"/>
                  <a:pt x="4636" y="14700"/>
                </a:cubicBezTo>
              </a:path>
              <a:path w="5462" h="2510">
                <a:moveTo>
                  <a:pt x="4985" y="14224"/>
                </a:moveTo>
                <a:cubicBezTo>
                  <a:pt x="5021" y="14124"/>
                  <a:pt x="5012" y="14116"/>
                  <a:pt x="4985" y="14034"/>
                </a:cubicBezTo>
                <a:cubicBezTo>
                  <a:pt x="4985" y="13998"/>
                  <a:pt x="4982" y="13984"/>
                  <a:pt x="4953" y="13970"/>
                </a:cubicBezTo>
                <a:cubicBezTo>
                  <a:pt x="4875" y="13990"/>
                  <a:pt x="4845" y="14036"/>
                  <a:pt x="4794" y="14097"/>
                </a:cubicBezTo>
                <a:cubicBezTo>
                  <a:pt x="4730" y="14173"/>
                  <a:pt x="4731" y="14221"/>
                  <a:pt x="4731" y="14319"/>
                </a:cubicBezTo>
                <a:cubicBezTo>
                  <a:pt x="4731" y="14376"/>
                  <a:pt x="4771" y="14434"/>
                  <a:pt x="4826" y="14446"/>
                </a:cubicBezTo>
                <a:cubicBezTo>
                  <a:pt x="4893" y="14460"/>
                  <a:pt x="4948" y="14441"/>
                  <a:pt x="4985" y="14383"/>
                </a:cubicBezTo>
                <a:cubicBezTo>
                  <a:pt x="5027" y="14317"/>
                  <a:pt x="5060" y="14224"/>
                  <a:pt x="5080" y="14160"/>
                </a:cubicBezTo>
                <a:cubicBezTo>
                  <a:pt x="5080" y="14150"/>
                  <a:pt x="5080" y="14139"/>
                  <a:pt x="5080" y="14129"/>
                </a:cubicBezTo>
                <a:cubicBezTo>
                  <a:pt x="5080" y="14210"/>
                  <a:pt x="5051" y="14267"/>
                  <a:pt x="5048" y="14351"/>
                </a:cubicBezTo>
                <a:cubicBezTo>
                  <a:pt x="5040" y="14547"/>
                  <a:pt x="5042" y="14731"/>
                  <a:pt x="5016" y="14922"/>
                </a:cubicBezTo>
                <a:cubicBezTo>
                  <a:pt x="5001" y="15033"/>
                  <a:pt x="5010" y="15057"/>
                  <a:pt x="4953" y="15145"/>
                </a:cubicBezTo>
                <a:cubicBezTo>
                  <a:pt x="4892" y="15239"/>
                  <a:pt x="4880" y="15223"/>
                  <a:pt x="4794" y="15145"/>
                </a:cubicBezTo>
                <a:cubicBezTo>
                  <a:pt x="4723" y="15081"/>
                  <a:pt x="4698" y="15034"/>
                  <a:pt x="4667" y="14954"/>
                </a:cubicBezTo>
                <a:cubicBezTo>
                  <a:pt x="4634" y="14868"/>
                  <a:pt x="4636" y="14828"/>
                  <a:pt x="4636" y="14732"/>
                </a:cubicBezTo>
              </a:path>
              <a:path w="5462" h="2510">
                <a:moveTo>
                  <a:pt x="6001" y="13780"/>
                </a:moveTo>
                <a:cubicBezTo>
                  <a:pt x="5993" y="13713"/>
                  <a:pt x="5981" y="13622"/>
                  <a:pt x="5906" y="13589"/>
                </a:cubicBezTo>
                <a:cubicBezTo>
                  <a:pt x="5861" y="13569"/>
                  <a:pt x="5796" y="13612"/>
                  <a:pt x="5778" y="13652"/>
                </a:cubicBezTo>
                <a:cubicBezTo>
                  <a:pt x="5743" y="13731"/>
                  <a:pt x="5747" y="13818"/>
                  <a:pt x="5747" y="13906"/>
                </a:cubicBezTo>
                <a:cubicBezTo>
                  <a:pt x="5747" y="14002"/>
                  <a:pt x="5764" y="14140"/>
                  <a:pt x="5810" y="14224"/>
                </a:cubicBezTo>
                <a:cubicBezTo>
                  <a:pt x="5848" y="14293"/>
                  <a:pt x="5950" y="14424"/>
                  <a:pt x="5937" y="14510"/>
                </a:cubicBezTo>
                <a:cubicBezTo>
                  <a:pt x="5930" y="14559"/>
                  <a:pt x="5901" y="14618"/>
                  <a:pt x="5874" y="14637"/>
                </a:cubicBezTo>
                <a:cubicBezTo>
                  <a:pt x="5820" y="14677"/>
                  <a:pt x="5786" y="14668"/>
                  <a:pt x="5715" y="14668"/>
                </a:cubicBezTo>
                <a:cubicBezTo>
                  <a:pt x="5597" y="14668"/>
                  <a:pt x="5549" y="14605"/>
                  <a:pt x="5493" y="14510"/>
                </a:cubicBezTo>
                <a:cubicBezTo>
                  <a:pt x="5468" y="14468"/>
                  <a:pt x="5413" y="14335"/>
                  <a:pt x="5429" y="14288"/>
                </a:cubicBezTo>
                <a:cubicBezTo>
                  <a:pt x="5442" y="14248"/>
                  <a:pt x="5497" y="14195"/>
                  <a:pt x="5524" y="14160"/>
                </a:cubicBezTo>
              </a:path>
              <a:path w="5462" h="2510">
                <a:moveTo>
                  <a:pt x="6128" y="14192"/>
                </a:moveTo>
                <a:cubicBezTo>
                  <a:pt x="6128" y="14267"/>
                  <a:pt x="6128" y="14313"/>
                  <a:pt x="6096" y="14383"/>
                </a:cubicBezTo>
                <a:cubicBezTo>
                  <a:pt x="6052" y="14482"/>
                  <a:pt x="6036" y="14594"/>
                  <a:pt x="6001" y="14700"/>
                </a:cubicBezTo>
                <a:cubicBezTo>
                  <a:pt x="5969" y="14797"/>
                  <a:pt x="5946" y="14932"/>
                  <a:pt x="5906" y="15018"/>
                </a:cubicBezTo>
                <a:cubicBezTo>
                  <a:pt x="5877" y="15047"/>
                  <a:pt x="5867" y="15053"/>
                  <a:pt x="5874" y="15081"/>
                </a:cubicBezTo>
                <a:cubicBezTo>
                  <a:pt x="5882" y="14995"/>
                  <a:pt x="5887" y="14911"/>
                  <a:pt x="5906" y="14827"/>
                </a:cubicBezTo>
                <a:cubicBezTo>
                  <a:pt x="5938" y="14685"/>
                  <a:pt x="5954" y="14555"/>
                  <a:pt x="6001" y="14414"/>
                </a:cubicBezTo>
                <a:cubicBezTo>
                  <a:pt x="6032" y="14320"/>
                  <a:pt x="6071" y="14211"/>
                  <a:pt x="6128" y="14129"/>
                </a:cubicBezTo>
                <a:cubicBezTo>
                  <a:pt x="6182" y="14052"/>
                  <a:pt x="6216" y="14060"/>
                  <a:pt x="6286" y="14097"/>
                </a:cubicBezTo>
                <a:cubicBezTo>
                  <a:pt x="6370" y="14142"/>
                  <a:pt x="6460" y="14248"/>
                  <a:pt x="6445" y="14351"/>
                </a:cubicBezTo>
                <a:cubicBezTo>
                  <a:pt x="6438" y="14397"/>
                  <a:pt x="6400" y="14478"/>
                  <a:pt x="6350" y="14510"/>
                </a:cubicBezTo>
                <a:cubicBezTo>
                  <a:pt x="6287" y="14550"/>
                  <a:pt x="6200" y="14569"/>
                  <a:pt x="6128" y="14573"/>
                </a:cubicBezTo>
                <a:cubicBezTo>
                  <a:pt x="6096" y="14573"/>
                  <a:pt x="6085" y="14573"/>
                  <a:pt x="6064" y="14573"/>
                </a:cubicBezTo>
                <a:cubicBezTo>
                  <a:pt x="6105" y="14533"/>
                  <a:pt x="6105" y="14525"/>
                  <a:pt x="6160" y="14542"/>
                </a:cubicBezTo>
                <a:cubicBezTo>
                  <a:pt x="6226" y="14562"/>
                  <a:pt x="6310" y="14553"/>
                  <a:pt x="6382" y="14573"/>
                </a:cubicBezTo>
                <a:cubicBezTo>
                  <a:pt x="6486" y="14602"/>
                  <a:pt x="6531" y="14619"/>
                  <a:pt x="6636" y="14573"/>
                </a:cubicBezTo>
                <a:cubicBezTo>
                  <a:pt x="6708" y="14541"/>
                  <a:pt x="6804" y="14496"/>
                  <a:pt x="6826" y="14414"/>
                </a:cubicBezTo>
                <a:cubicBezTo>
                  <a:pt x="6842" y="14354"/>
                  <a:pt x="6824" y="14274"/>
                  <a:pt x="6794" y="14224"/>
                </a:cubicBezTo>
                <a:cubicBezTo>
                  <a:pt x="6763" y="14224"/>
                  <a:pt x="6752" y="14224"/>
                  <a:pt x="6763" y="14192"/>
                </a:cubicBezTo>
                <a:cubicBezTo>
                  <a:pt x="6692" y="14202"/>
                  <a:pt x="6648" y="14221"/>
                  <a:pt x="6604" y="14288"/>
                </a:cubicBezTo>
                <a:cubicBezTo>
                  <a:pt x="6563" y="14352"/>
                  <a:pt x="6492" y="14463"/>
                  <a:pt x="6509" y="14542"/>
                </a:cubicBezTo>
                <a:cubicBezTo>
                  <a:pt x="6524" y="14610"/>
                  <a:pt x="6588" y="14770"/>
                  <a:pt x="6668" y="14796"/>
                </a:cubicBezTo>
                <a:cubicBezTo>
                  <a:pt x="6728" y="14815"/>
                  <a:pt x="6814" y="14802"/>
                  <a:pt x="6858" y="14764"/>
                </a:cubicBezTo>
                <a:cubicBezTo>
                  <a:pt x="6950" y="14684"/>
                  <a:pt x="7033" y="14591"/>
                  <a:pt x="7080" y="14478"/>
                </a:cubicBezTo>
                <a:cubicBezTo>
                  <a:pt x="7110" y="14405"/>
                  <a:pt x="7160" y="14337"/>
                  <a:pt x="7144" y="14256"/>
                </a:cubicBezTo>
                <a:cubicBezTo>
                  <a:pt x="7144" y="14220"/>
                  <a:pt x="7141" y="14206"/>
                  <a:pt x="7112" y="14192"/>
                </a:cubicBezTo>
                <a:cubicBezTo>
                  <a:pt x="7041" y="14200"/>
                  <a:pt x="7024" y="14192"/>
                  <a:pt x="6953" y="14224"/>
                </a:cubicBezTo>
                <a:cubicBezTo>
                  <a:pt x="6874" y="14260"/>
                  <a:pt x="6834" y="14338"/>
                  <a:pt x="6794" y="14414"/>
                </a:cubicBezTo>
                <a:cubicBezTo>
                  <a:pt x="6749" y="14499"/>
                  <a:pt x="6753" y="14560"/>
                  <a:pt x="6794" y="14637"/>
                </a:cubicBezTo>
                <a:cubicBezTo>
                  <a:pt x="6824" y="14694"/>
                  <a:pt x="6941" y="14800"/>
                  <a:pt x="7017" y="14796"/>
                </a:cubicBezTo>
                <a:cubicBezTo>
                  <a:pt x="7087" y="14792"/>
                  <a:pt x="7211" y="14742"/>
                  <a:pt x="7271" y="14700"/>
                </a:cubicBezTo>
                <a:cubicBezTo>
                  <a:pt x="7327" y="14660"/>
                  <a:pt x="7309" y="14593"/>
                  <a:pt x="7334" y="14542"/>
                </a:cubicBezTo>
                <a:cubicBezTo>
                  <a:pt x="7370" y="14506"/>
                  <a:pt x="7381" y="14489"/>
                  <a:pt x="7366" y="14446"/>
                </a:cubicBezTo>
              </a:path>
              <a:path w="5462" h="2510">
                <a:moveTo>
                  <a:pt x="7684" y="13716"/>
                </a:moveTo>
                <a:cubicBezTo>
                  <a:pt x="7747" y="13738"/>
                  <a:pt x="7715" y="13865"/>
                  <a:pt x="7715" y="13938"/>
                </a:cubicBezTo>
                <a:cubicBezTo>
                  <a:pt x="7715" y="14099"/>
                  <a:pt x="7684" y="14249"/>
                  <a:pt x="7684" y="14414"/>
                </a:cubicBezTo>
                <a:cubicBezTo>
                  <a:pt x="7684" y="14548"/>
                  <a:pt x="7661" y="14667"/>
                  <a:pt x="7652" y="14796"/>
                </a:cubicBezTo>
                <a:cubicBezTo>
                  <a:pt x="7647" y="14864"/>
                  <a:pt x="7652" y="14866"/>
                  <a:pt x="7652" y="14796"/>
                </a:cubicBezTo>
                <a:cubicBezTo>
                  <a:pt x="7652" y="14666"/>
                  <a:pt x="7670" y="14533"/>
                  <a:pt x="7620" y="14414"/>
                </a:cubicBezTo>
                <a:cubicBezTo>
                  <a:pt x="7589" y="14342"/>
                  <a:pt x="7512" y="14244"/>
                  <a:pt x="7430" y="14224"/>
                </a:cubicBezTo>
                <a:cubicBezTo>
                  <a:pt x="7372" y="14210"/>
                  <a:pt x="7273" y="14271"/>
                  <a:pt x="7239" y="14319"/>
                </a:cubicBezTo>
                <a:cubicBezTo>
                  <a:pt x="7166" y="14422"/>
                  <a:pt x="7237" y="14533"/>
                  <a:pt x="7271" y="14637"/>
                </a:cubicBezTo>
                <a:cubicBezTo>
                  <a:pt x="7315" y="14769"/>
                  <a:pt x="7427" y="14895"/>
                  <a:pt x="7556" y="14954"/>
                </a:cubicBezTo>
                <a:cubicBezTo>
                  <a:pt x="7682" y="15012"/>
                  <a:pt x="7751" y="14943"/>
                  <a:pt x="7842" y="14859"/>
                </a:cubicBezTo>
                <a:cubicBezTo>
                  <a:pt x="7853" y="14848"/>
                  <a:pt x="7863" y="14838"/>
                  <a:pt x="7874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5"/>
          <p:cNvSpPr/>
          <p:nvPr/>
        </p:nvSpPr>
        <p:spPr>
          <a:xfrm>
            <a:off x="3235320" y="4583160"/>
            <a:ext cx="5519880" cy="960480"/>
          </a:xfrm>
          <a:custGeom>
            <a:avLst/>
            <a:gdLst/>
            <a:ahLst/>
            <a:rect l="l" t="t" r="r" b="b"/>
            <a:pathLst>
              <a:path w="15336" h="2668">
                <a:moveTo>
                  <a:pt x="9049" y="14002"/>
                </a:moveTo>
                <a:cubicBezTo>
                  <a:pt x="9049" y="14086"/>
                  <a:pt x="9043" y="14141"/>
                  <a:pt x="9017" y="14224"/>
                </a:cubicBezTo>
                <a:cubicBezTo>
                  <a:pt x="8979" y="14345"/>
                  <a:pt x="8961" y="14509"/>
                  <a:pt x="8985" y="14637"/>
                </a:cubicBezTo>
                <a:cubicBezTo>
                  <a:pt x="9000" y="14715"/>
                  <a:pt x="8987" y="14888"/>
                  <a:pt x="9017" y="14954"/>
                </a:cubicBezTo>
                <a:cubicBezTo>
                  <a:pt x="9028" y="14965"/>
                  <a:pt x="9038" y="14975"/>
                  <a:pt x="9049" y="14986"/>
                </a:cubicBezTo>
              </a:path>
              <a:path w="15336" h="2668">
                <a:moveTo>
                  <a:pt x="9716" y="14129"/>
                </a:moveTo>
                <a:cubicBezTo>
                  <a:pt x="9716" y="14097"/>
                  <a:pt x="9716" y="14086"/>
                  <a:pt x="9716" y="14065"/>
                </a:cubicBezTo>
                <a:cubicBezTo>
                  <a:pt x="9632" y="14065"/>
                  <a:pt x="9571" y="14084"/>
                  <a:pt x="9493" y="14097"/>
                </a:cubicBezTo>
                <a:cubicBezTo>
                  <a:pt x="9412" y="14111"/>
                  <a:pt x="9328" y="14128"/>
                  <a:pt x="9303" y="14224"/>
                </a:cubicBezTo>
                <a:cubicBezTo>
                  <a:pt x="9277" y="14323"/>
                  <a:pt x="9322" y="14389"/>
                  <a:pt x="9398" y="14446"/>
                </a:cubicBezTo>
                <a:cubicBezTo>
                  <a:pt x="9483" y="14510"/>
                  <a:pt x="9591" y="14577"/>
                  <a:pt x="9652" y="14668"/>
                </a:cubicBezTo>
                <a:cubicBezTo>
                  <a:pt x="9686" y="14719"/>
                  <a:pt x="9704" y="14761"/>
                  <a:pt x="9716" y="14796"/>
                </a:cubicBezTo>
                <a:cubicBezTo>
                  <a:pt x="9634" y="14796"/>
                  <a:pt x="9639" y="14809"/>
                  <a:pt x="9557" y="14796"/>
                </a:cubicBezTo>
                <a:cubicBezTo>
                  <a:pt x="9491" y="14785"/>
                  <a:pt x="9420" y="14775"/>
                  <a:pt x="9366" y="14764"/>
                </a:cubicBezTo>
                <a:cubicBezTo>
                  <a:pt x="9309" y="14753"/>
                  <a:pt x="9290" y="14745"/>
                  <a:pt x="9239" y="14732"/>
                </a:cubicBezTo>
              </a:path>
              <a:path w="15336" h="2668">
                <a:moveTo>
                  <a:pt x="10033" y="15240"/>
                </a:moveTo>
                <a:cubicBezTo>
                  <a:pt x="10096" y="15219"/>
                  <a:pt x="10116" y="15211"/>
                  <a:pt x="10192" y="15208"/>
                </a:cubicBezTo>
                <a:cubicBezTo>
                  <a:pt x="10295" y="15204"/>
                  <a:pt x="10384" y="15231"/>
                  <a:pt x="10478" y="15240"/>
                </a:cubicBezTo>
                <a:cubicBezTo>
                  <a:pt x="10567" y="15249"/>
                  <a:pt x="10645" y="15266"/>
                  <a:pt x="10732" y="15272"/>
                </a:cubicBezTo>
                <a:cubicBezTo>
                  <a:pt x="10838" y="15280"/>
                  <a:pt x="10922" y="15251"/>
                  <a:pt x="11017" y="15240"/>
                </a:cubicBezTo>
                <a:cubicBezTo>
                  <a:pt x="11134" y="15226"/>
                  <a:pt x="11251" y="15212"/>
                  <a:pt x="11366" y="15208"/>
                </a:cubicBezTo>
                <a:cubicBezTo>
                  <a:pt x="11587" y="15199"/>
                  <a:pt x="11762" y="15186"/>
                  <a:pt x="11970" y="15145"/>
                </a:cubicBezTo>
                <a:cubicBezTo>
                  <a:pt x="12098" y="15120"/>
                  <a:pt x="12268" y="15208"/>
                  <a:pt x="12414" y="15208"/>
                </a:cubicBezTo>
                <a:cubicBezTo>
                  <a:pt x="12567" y="15208"/>
                  <a:pt x="12709" y="15259"/>
                  <a:pt x="12859" y="15272"/>
                </a:cubicBezTo>
                <a:cubicBezTo>
                  <a:pt x="13018" y="15286"/>
                  <a:pt x="13177" y="15299"/>
                  <a:pt x="13335" y="15304"/>
                </a:cubicBezTo>
                <a:cubicBezTo>
                  <a:pt x="13476" y="15309"/>
                  <a:pt x="13610" y="15352"/>
                  <a:pt x="13748" y="15367"/>
                </a:cubicBezTo>
                <a:cubicBezTo>
                  <a:pt x="13851" y="15378"/>
                  <a:pt x="13959" y="15413"/>
                  <a:pt x="14065" y="15399"/>
                </a:cubicBezTo>
                <a:cubicBezTo>
                  <a:pt x="14113" y="15393"/>
                  <a:pt x="14180" y="15387"/>
                  <a:pt x="14224" y="15367"/>
                </a:cubicBezTo>
                <a:cubicBezTo>
                  <a:pt x="14256" y="15367"/>
                  <a:pt x="14267" y="15367"/>
                  <a:pt x="14256" y="15335"/>
                </a:cubicBezTo>
              </a:path>
              <a:path w="15336" h="2668">
                <a:moveTo>
                  <a:pt x="11208" y="13494"/>
                </a:moveTo>
                <a:cubicBezTo>
                  <a:pt x="11240" y="13494"/>
                  <a:pt x="11250" y="13494"/>
                  <a:pt x="11271" y="13494"/>
                </a:cubicBezTo>
                <a:cubicBezTo>
                  <a:pt x="11271" y="13626"/>
                  <a:pt x="11252" y="13748"/>
                  <a:pt x="11240" y="13875"/>
                </a:cubicBezTo>
                <a:cubicBezTo>
                  <a:pt x="11226" y="14023"/>
                  <a:pt x="11203" y="14172"/>
                  <a:pt x="11176" y="14319"/>
                </a:cubicBezTo>
                <a:cubicBezTo>
                  <a:pt x="11153" y="14445"/>
                  <a:pt x="11117" y="14573"/>
                  <a:pt x="11112" y="14700"/>
                </a:cubicBezTo>
                <a:cubicBezTo>
                  <a:pt x="11109" y="14764"/>
                  <a:pt x="11090" y="14890"/>
                  <a:pt x="11112" y="14859"/>
                </a:cubicBezTo>
                <a:cubicBezTo>
                  <a:pt x="11123" y="14848"/>
                  <a:pt x="11133" y="14838"/>
                  <a:pt x="11144" y="14827"/>
                </a:cubicBezTo>
              </a:path>
              <a:path w="15336" h="2668">
                <a:moveTo>
                  <a:pt x="11811" y="13906"/>
                </a:moveTo>
                <a:cubicBezTo>
                  <a:pt x="11826" y="13784"/>
                  <a:pt x="11829" y="13746"/>
                  <a:pt x="11811" y="13621"/>
                </a:cubicBezTo>
                <a:cubicBezTo>
                  <a:pt x="11796" y="13514"/>
                  <a:pt x="11743" y="13455"/>
                  <a:pt x="11684" y="13367"/>
                </a:cubicBezTo>
                <a:cubicBezTo>
                  <a:pt x="11649" y="13315"/>
                  <a:pt x="11559" y="13317"/>
                  <a:pt x="11525" y="13367"/>
                </a:cubicBezTo>
                <a:cubicBezTo>
                  <a:pt x="11459" y="13462"/>
                  <a:pt x="11486" y="13551"/>
                  <a:pt x="11494" y="13652"/>
                </a:cubicBezTo>
                <a:cubicBezTo>
                  <a:pt x="11505" y="13796"/>
                  <a:pt x="11572" y="13924"/>
                  <a:pt x="11589" y="14065"/>
                </a:cubicBezTo>
                <a:cubicBezTo>
                  <a:pt x="11607" y="14213"/>
                  <a:pt x="11636" y="14363"/>
                  <a:pt x="11652" y="14510"/>
                </a:cubicBezTo>
                <a:cubicBezTo>
                  <a:pt x="11660" y="14588"/>
                  <a:pt x="11635" y="14706"/>
                  <a:pt x="11589" y="14764"/>
                </a:cubicBezTo>
                <a:cubicBezTo>
                  <a:pt x="11578" y="14775"/>
                  <a:pt x="11568" y="14785"/>
                  <a:pt x="11557" y="14796"/>
                </a:cubicBezTo>
                <a:cubicBezTo>
                  <a:pt x="11495" y="14796"/>
                  <a:pt x="11447" y="14764"/>
                  <a:pt x="11430" y="14700"/>
                </a:cubicBezTo>
                <a:cubicBezTo>
                  <a:pt x="11401" y="14593"/>
                  <a:pt x="11423" y="14420"/>
                  <a:pt x="11462" y="14319"/>
                </a:cubicBezTo>
                <a:cubicBezTo>
                  <a:pt x="11496" y="14231"/>
                  <a:pt x="11582" y="14094"/>
                  <a:pt x="11652" y="14034"/>
                </a:cubicBezTo>
                <a:cubicBezTo>
                  <a:pt x="11728" y="13968"/>
                  <a:pt x="11821" y="13894"/>
                  <a:pt x="11906" y="13843"/>
                </a:cubicBezTo>
                <a:cubicBezTo>
                  <a:pt x="11961" y="13810"/>
                  <a:pt x="11996" y="13761"/>
                  <a:pt x="12033" y="13748"/>
                </a:cubicBezTo>
              </a:path>
              <a:path w="15336" h="2668">
                <a:moveTo>
                  <a:pt x="12033" y="14732"/>
                </a:moveTo>
                <a:cubicBezTo>
                  <a:pt x="12065" y="14700"/>
                  <a:pt x="12096" y="14669"/>
                  <a:pt x="12128" y="14637"/>
                </a:cubicBezTo>
              </a:path>
              <a:path w="15336" h="2668">
                <a:moveTo>
                  <a:pt x="12700" y="14097"/>
                </a:moveTo>
                <a:cubicBezTo>
                  <a:pt x="12732" y="14026"/>
                  <a:pt x="12801" y="13887"/>
                  <a:pt x="12795" y="13811"/>
                </a:cubicBezTo>
                <a:cubicBezTo>
                  <a:pt x="12786" y="13702"/>
                  <a:pt x="12705" y="13601"/>
                  <a:pt x="12636" y="13526"/>
                </a:cubicBezTo>
                <a:cubicBezTo>
                  <a:pt x="12563" y="13447"/>
                  <a:pt x="12505" y="13453"/>
                  <a:pt x="12414" y="13494"/>
                </a:cubicBezTo>
                <a:cubicBezTo>
                  <a:pt x="12266" y="13560"/>
                  <a:pt x="12228" y="13688"/>
                  <a:pt x="12256" y="13843"/>
                </a:cubicBezTo>
                <a:cubicBezTo>
                  <a:pt x="12279" y="13969"/>
                  <a:pt x="12327" y="14043"/>
                  <a:pt x="12414" y="14129"/>
                </a:cubicBezTo>
                <a:cubicBezTo>
                  <a:pt x="12469" y="14184"/>
                  <a:pt x="12520" y="14167"/>
                  <a:pt x="12573" y="14129"/>
                </a:cubicBezTo>
                <a:cubicBezTo>
                  <a:pt x="12639" y="14081"/>
                  <a:pt x="12691" y="14058"/>
                  <a:pt x="12700" y="13970"/>
                </a:cubicBezTo>
                <a:cubicBezTo>
                  <a:pt x="12700" y="13934"/>
                  <a:pt x="12703" y="13920"/>
                  <a:pt x="12732" y="13906"/>
                </a:cubicBezTo>
                <a:cubicBezTo>
                  <a:pt x="12720" y="13992"/>
                  <a:pt x="12679" y="14072"/>
                  <a:pt x="12668" y="14160"/>
                </a:cubicBezTo>
                <a:cubicBezTo>
                  <a:pt x="12648" y="14320"/>
                  <a:pt x="12636" y="14474"/>
                  <a:pt x="12636" y="14637"/>
                </a:cubicBezTo>
                <a:cubicBezTo>
                  <a:pt x="12636" y="14769"/>
                  <a:pt x="12605" y="14885"/>
                  <a:pt x="12605" y="15018"/>
                </a:cubicBezTo>
              </a:path>
              <a:path w="15336" h="2668">
                <a:moveTo>
                  <a:pt x="14891" y="14065"/>
                </a:moveTo>
                <a:cubicBezTo>
                  <a:pt x="14891" y="14193"/>
                  <a:pt x="14917" y="14235"/>
                  <a:pt x="14954" y="14351"/>
                </a:cubicBezTo>
                <a:cubicBezTo>
                  <a:pt x="15004" y="14506"/>
                  <a:pt x="14987" y="14671"/>
                  <a:pt x="15018" y="14827"/>
                </a:cubicBezTo>
                <a:cubicBezTo>
                  <a:pt x="15037" y="14926"/>
                  <a:pt x="15049" y="15209"/>
                  <a:pt x="15081" y="15113"/>
                </a:cubicBezTo>
                <a:cubicBezTo>
                  <a:pt x="15131" y="14961"/>
                  <a:pt x="15099" y="14703"/>
                  <a:pt x="15113" y="14542"/>
                </a:cubicBezTo>
                <a:cubicBezTo>
                  <a:pt x="15126" y="14395"/>
                  <a:pt x="15103" y="14267"/>
                  <a:pt x="15176" y="14129"/>
                </a:cubicBezTo>
                <a:cubicBezTo>
                  <a:pt x="15201" y="14082"/>
                  <a:pt x="15218" y="14087"/>
                  <a:pt x="15240" y="14065"/>
                </a:cubicBezTo>
                <a:cubicBezTo>
                  <a:pt x="15302" y="14116"/>
                  <a:pt x="15322" y="14143"/>
                  <a:pt x="15335" y="14256"/>
                </a:cubicBezTo>
                <a:cubicBezTo>
                  <a:pt x="15350" y="14390"/>
                  <a:pt x="15345" y="14535"/>
                  <a:pt x="15367" y="14668"/>
                </a:cubicBezTo>
                <a:cubicBezTo>
                  <a:pt x="15383" y="14761"/>
                  <a:pt x="15399" y="14826"/>
                  <a:pt x="15399" y="14922"/>
                </a:cubicBezTo>
                <a:cubicBezTo>
                  <a:pt x="15399" y="14933"/>
                  <a:pt x="15399" y="14943"/>
                  <a:pt x="15399" y="14954"/>
                </a:cubicBezTo>
                <a:cubicBezTo>
                  <a:pt x="15414" y="14922"/>
                  <a:pt x="15412" y="14892"/>
                  <a:pt x="15430" y="14827"/>
                </a:cubicBezTo>
                <a:cubicBezTo>
                  <a:pt x="15468" y="14691"/>
                  <a:pt x="15462" y="14560"/>
                  <a:pt x="15462" y="14414"/>
                </a:cubicBezTo>
                <a:cubicBezTo>
                  <a:pt x="15462" y="14266"/>
                  <a:pt x="15491" y="14112"/>
                  <a:pt x="15526" y="13970"/>
                </a:cubicBezTo>
                <a:cubicBezTo>
                  <a:pt x="15559" y="13834"/>
                  <a:pt x="15563" y="13718"/>
                  <a:pt x="15621" y="13589"/>
                </a:cubicBezTo>
              </a:path>
              <a:path w="15336" h="2668">
                <a:moveTo>
                  <a:pt x="15780" y="13240"/>
                </a:moveTo>
                <a:cubicBezTo>
                  <a:pt x="15768" y="13331"/>
                  <a:pt x="15751" y="13395"/>
                  <a:pt x="15748" y="13494"/>
                </a:cubicBezTo>
                <a:cubicBezTo>
                  <a:pt x="15741" y="13741"/>
                  <a:pt x="15762" y="13982"/>
                  <a:pt x="15780" y="14224"/>
                </a:cubicBezTo>
                <a:cubicBezTo>
                  <a:pt x="15795" y="14421"/>
                  <a:pt x="15778" y="14604"/>
                  <a:pt x="15812" y="14796"/>
                </a:cubicBezTo>
                <a:cubicBezTo>
                  <a:pt x="15812" y="14806"/>
                  <a:pt x="15812" y="14817"/>
                  <a:pt x="15812" y="14827"/>
                </a:cubicBezTo>
                <a:cubicBezTo>
                  <a:pt x="15812" y="14673"/>
                  <a:pt x="15830" y="14533"/>
                  <a:pt x="15843" y="14383"/>
                </a:cubicBezTo>
                <a:cubicBezTo>
                  <a:pt x="15854" y="14252"/>
                  <a:pt x="15831" y="14094"/>
                  <a:pt x="15875" y="13970"/>
                </a:cubicBezTo>
                <a:cubicBezTo>
                  <a:pt x="15888" y="13935"/>
                  <a:pt x="15933" y="13885"/>
                  <a:pt x="15938" y="13875"/>
                </a:cubicBezTo>
                <a:cubicBezTo>
                  <a:pt x="15999" y="13925"/>
                  <a:pt x="16021" y="13953"/>
                  <a:pt x="16034" y="14065"/>
                </a:cubicBezTo>
                <a:cubicBezTo>
                  <a:pt x="16051" y="14213"/>
                  <a:pt x="16083" y="14361"/>
                  <a:pt x="16097" y="14510"/>
                </a:cubicBezTo>
                <a:cubicBezTo>
                  <a:pt x="16106" y="14605"/>
                  <a:pt x="16103" y="14723"/>
                  <a:pt x="16161" y="14796"/>
                </a:cubicBezTo>
                <a:cubicBezTo>
                  <a:pt x="16171" y="14806"/>
                  <a:pt x="16182" y="14817"/>
                  <a:pt x="16192" y="14827"/>
                </a:cubicBezTo>
                <a:cubicBezTo>
                  <a:pt x="16282" y="14815"/>
                  <a:pt x="16313" y="14792"/>
                  <a:pt x="16351" y="14700"/>
                </a:cubicBezTo>
                <a:cubicBezTo>
                  <a:pt x="16396" y="14589"/>
                  <a:pt x="16433" y="14408"/>
                  <a:pt x="16446" y="14288"/>
                </a:cubicBezTo>
                <a:cubicBezTo>
                  <a:pt x="16462" y="14148"/>
                  <a:pt x="16478" y="14017"/>
                  <a:pt x="16478" y="13875"/>
                </a:cubicBezTo>
                <a:cubicBezTo>
                  <a:pt x="16478" y="13767"/>
                  <a:pt x="16474" y="13825"/>
                  <a:pt x="16446" y="13780"/>
                </a:cubicBezTo>
                <a:cubicBezTo>
                  <a:pt x="16406" y="13903"/>
                  <a:pt x="16387" y="14027"/>
                  <a:pt x="16383" y="14160"/>
                </a:cubicBezTo>
                <a:cubicBezTo>
                  <a:pt x="16378" y="14326"/>
                  <a:pt x="16398" y="14478"/>
                  <a:pt x="16415" y="14637"/>
                </a:cubicBezTo>
                <a:cubicBezTo>
                  <a:pt x="16418" y="14666"/>
                  <a:pt x="16427" y="14868"/>
                  <a:pt x="16510" y="14859"/>
                </a:cubicBezTo>
                <a:cubicBezTo>
                  <a:pt x="16555" y="14854"/>
                  <a:pt x="16584" y="14794"/>
                  <a:pt x="16605" y="14764"/>
                </a:cubicBezTo>
              </a:path>
              <a:path w="15336" h="2668">
                <a:moveTo>
                  <a:pt x="16923" y="13621"/>
                </a:moveTo>
                <a:cubicBezTo>
                  <a:pt x="16885" y="13720"/>
                  <a:pt x="16891" y="13798"/>
                  <a:pt x="16891" y="13906"/>
                </a:cubicBezTo>
                <a:cubicBezTo>
                  <a:pt x="16891" y="14096"/>
                  <a:pt x="16872" y="14309"/>
                  <a:pt x="16923" y="14478"/>
                </a:cubicBezTo>
                <a:cubicBezTo>
                  <a:pt x="16923" y="14489"/>
                  <a:pt x="16923" y="14499"/>
                  <a:pt x="16923" y="14510"/>
                </a:cubicBezTo>
                <a:cubicBezTo>
                  <a:pt x="16903" y="14411"/>
                  <a:pt x="16891" y="14331"/>
                  <a:pt x="16891" y="14224"/>
                </a:cubicBezTo>
                <a:cubicBezTo>
                  <a:pt x="16891" y="14110"/>
                  <a:pt x="16911" y="13978"/>
                  <a:pt x="16954" y="13875"/>
                </a:cubicBezTo>
                <a:cubicBezTo>
                  <a:pt x="16986" y="13798"/>
                  <a:pt x="17024" y="13742"/>
                  <a:pt x="17082" y="13684"/>
                </a:cubicBezTo>
                <a:cubicBezTo>
                  <a:pt x="17150" y="13753"/>
                  <a:pt x="17173" y="13779"/>
                  <a:pt x="17208" y="13875"/>
                </a:cubicBezTo>
                <a:cubicBezTo>
                  <a:pt x="17267" y="14038"/>
                  <a:pt x="17246" y="14214"/>
                  <a:pt x="17272" y="14383"/>
                </a:cubicBezTo>
                <a:cubicBezTo>
                  <a:pt x="17295" y="14532"/>
                  <a:pt x="17295" y="14636"/>
                  <a:pt x="17399" y="14732"/>
                </a:cubicBezTo>
                <a:cubicBezTo>
                  <a:pt x="17428" y="14761"/>
                  <a:pt x="17434" y="14771"/>
                  <a:pt x="17462" y="14764"/>
                </a:cubicBezTo>
              </a:path>
              <a:path w="15336" h="2668">
                <a:moveTo>
                  <a:pt x="17526" y="14764"/>
                </a:moveTo>
                <a:cubicBezTo>
                  <a:pt x="17490" y="14764"/>
                  <a:pt x="17476" y="14767"/>
                  <a:pt x="17462" y="14796"/>
                </a:cubicBezTo>
                <a:cubicBezTo>
                  <a:pt x="17517" y="14766"/>
                  <a:pt x="17559" y="14750"/>
                  <a:pt x="17621" y="14732"/>
                </a:cubicBezTo>
                <a:cubicBezTo>
                  <a:pt x="17708" y="14706"/>
                  <a:pt x="17787" y="14663"/>
                  <a:pt x="17875" y="14637"/>
                </a:cubicBezTo>
                <a:cubicBezTo>
                  <a:pt x="18009" y="14598"/>
                  <a:pt x="18150" y="14549"/>
                  <a:pt x="18288" y="14510"/>
                </a:cubicBezTo>
                <a:cubicBezTo>
                  <a:pt x="18452" y="14464"/>
                  <a:pt x="18601" y="14396"/>
                  <a:pt x="18764" y="14351"/>
                </a:cubicBezTo>
                <a:cubicBezTo>
                  <a:pt x="18948" y="14300"/>
                  <a:pt x="19119" y="14210"/>
                  <a:pt x="19304" y="14160"/>
                </a:cubicBezTo>
                <a:cubicBezTo>
                  <a:pt x="19501" y="14107"/>
                  <a:pt x="19707" y="14074"/>
                  <a:pt x="19907" y="14034"/>
                </a:cubicBezTo>
                <a:cubicBezTo>
                  <a:pt x="20121" y="13991"/>
                  <a:pt x="20329" y="13976"/>
                  <a:pt x="20542" y="13938"/>
                </a:cubicBezTo>
                <a:cubicBezTo>
                  <a:pt x="20755" y="13900"/>
                  <a:pt x="20961" y="13906"/>
                  <a:pt x="21177" y="13906"/>
                </a:cubicBezTo>
                <a:cubicBezTo>
                  <a:pt x="21436" y="13906"/>
                  <a:pt x="21685" y="13912"/>
                  <a:pt x="21939" y="13938"/>
                </a:cubicBezTo>
                <a:cubicBezTo>
                  <a:pt x="22037" y="13948"/>
                  <a:pt x="22134" y="13937"/>
                  <a:pt x="22225" y="13970"/>
                </a:cubicBezTo>
                <a:cubicBezTo>
                  <a:pt x="22267" y="13985"/>
                  <a:pt x="22313" y="14025"/>
                  <a:pt x="22257" y="13970"/>
                </a:cubicBezTo>
                <a:cubicBezTo>
                  <a:pt x="22246" y="13970"/>
                  <a:pt x="22236" y="13970"/>
                  <a:pt x="22225" y="13970"/>
                </a:cubicBezTo>
              </a:path>
              <a:path w="15336" h="2668">
                <a:moveTo>
                  <a:pt x="22574" y="13049"/>
                </a:moveTo>
                <a:cubicBezTo>
                  <a:pt x="22574" y="13150"/>
                  <a:pt x="22545" y="13234"/>
                  <a:pt x="22542" y="13335"/>
                </a:cubicBezTo>
                <a:cubicBezTo>
                  <a:pt x="22536" y="13541"/>
                  <a:pt x="22553" y="13739"/>
                  <a:pt x="22574" y="13938"/>
                </a:cubicBezTo>
                <a:cubicBezTo>
                  <a:pt x="22583" y="14021"/>
                  <a:pt x="22596" y="14080"/>
                  <a:pt x="22606" y="14160"/>
                </a:cubicBezTo>
              </a:path>
              <a:path w="15336" h="2668">
                <a:moveTo>
                  <a:pt x="22987" y="12954"/>
                </a:moveTo>
                <a:cubicBezTo>
                  <a:pt x="23004" y="12937"/>
                  <a:pt x="23109" y="12847"/>
                  <a:pt x="23050" y="12890"/>
                </a:cubicBezTo>
                <a:cubicBezTo>
                  <a:pt x="22969" y="12949"/>
                  <a:pt x="22916" y="12995"/>
                  <a:pt x="22860" y="13081"/>
                </a:cubicBezTo>
                <a:cubicBezTo>
                  <a:pt x="22798" y="13176"/>
                  <a:pt x="22739" y="13254"/>
                  <a:pt x="22733" y="13367"/>
                </a:cubicBezTo>
                <a:cubicBezTo>
                  <a:pt x="22728" y="13454"/>
                  <a:pt x="22753" y="13462"/>
                  <a:pt x="22828" y="13462"/>
                </a:cubicBezTo>
                <a:cubicBezTo>
                  <a:pt x="22880" y="13462"/>
                  <a:pt x="23022" y="13436"/>
                  <a:pt x="23050" y="13494"/>
                </a:cubicBezTo>
                <a:cubicBezTo>
                  <a:pt x="23066" y="13528"/>
                  <a:pt x="23080" y="13616"/>
                  <a:pt x="23082" y="13652"/>
                </a:cubicBezTo>
                <a:cubicBezTo>
                  <a:pt x="23086" y="13707"/>
                  <a:pt x="23070" y="13854"/>
                  <a:pt x="23050" y="13906"/>
                </a:cubicBezTo>
                <a:cubicBezTo>
                  <a:pt x="23043" y="13924"/>
                  <a:pt x="22970" y="14026"/>
                  <a:pt x="22955" y="14034"/>
                </a:cubicBezTo>
                <a:cubicBezTo>
                  <a:pt x="22915" y="14054"/>
                  <a:pt x="22886" y="14021"/>
                  <a:pt x="22860" y="14002"/>
                </a:cubicBezTo>
              </a:path>
              <a:path w="15336" h="2668">
                <a:moveTo>
                  <a:pt x="23749" y="12764"/>
                </a:moveTo>
                <a:cubicBezTo>
                  <a:pt x="23688" y="12839"/>
                  <a:pt x="23650" y="12923"/>
                  <a:pt x="23622" y="13018"/>
                </a:cubicBezTo>
                <a:cubicBezTo>
                  <a:pt x="23566" y="13207"/>
                  <a:pt x="23518" y="13456"/>
                  <a:pt x="23527" y="13652"/>
                </a:cubicBezTo>
                <a:cubicBezTo>
                  <a:pt x="23534" y="13802"/>
                  <a:pt x="23552" y="13925"/>
                  <a:pt x="23654" y="14034"/>
                </a:cubicBezTo>
                <a:cubicBezTo>
                  <a:pt x="23725" y="14110"/>
                  <a:pt x="23787" y="14056"/>
                  <a:pt x="23844" y="14002"/>
                </a:cubicBezTo>
                <a:cubicBezTo>
                  <a:pt x="23941" y="13911"/>
                  <a:pt x="23962" y="13807"/>
                  <a:pt x="24003" y="13684"/>
                </a:cubicBezTo>
                <a:cubicBezTo>
                  <a:pt x="24059" y="13518"/>
                  <a:pt x="24017" y="13375"/>
                  <a:pt x="23971" y="13208"/>
                </a:cubicBezTo>
                <a:cubicBezTo>
                  <a:pt x="23945" y="13114"/>
                  <a:pt x="23915" y="12973"/>
                  <a:pt x="23876" y="12890"/>
                </a:cubicBezTo>
                <a:cubicBezTo>
                  <a:pt x="23859" y="12853"/>
                  <a:pt x="23829" y="12790"/>
                  <a:pt x="23844" y="12827"/>
                </a:cubicBezTo>
                <a:cubicBezTo>
                  <a:pt x="23844" y="12838"/>
                  <a:pt x="23844" y="12848"/>
                  <a:pt x="23844" y="12859"/>
                </a:cubicBezTo>
              </a:path>
              <a:path w="15336" h="2668">
                <a:moveTo>
                  <a:pt x="24289" y="13716"/>
                </a:moveTo>
                <a:cubicBezTo>
                  <a:pt x="24312" y="13787"/>
                  <a:pt x="24306" y="13733"/>
                  <a:pt x="24257" y="13684"/>
                </a:cubicBezTo>
              </a:path>
              <a:path w="15336" h="2668">
                <a:moveTo>
                  <a:pt x="18383" y="13494"/>
                </a:moveTo>
                <a:cubicBezTo>
                  <a:pt x="18422" y="13559"/>
                  <a:pt x="18440" y="13639"/>
                  <a:pt x="18478" y="13716"/>
                </a:cubicBezTo>
                <a:cubicBezTo>
                  <a:pt x="18518" y="13796"/>
                  <a:pt x="18540" y="13884"/>
                  <a:pt x="18574" y="13970"/>
                </a:cubicBezTo>
                <a:cubicBezTo>
                  <a:pt x="18607" y="14052"/>
                  <a:pt x="18647" y="14150"/>
                  <a:pt x="18669" y="14224"/>
                </a:cubicBezTo>
                <a:cubicBezTo>
                  <a:pt x="18669" y="14235"/>
                  <a:pt x="18669" y="14245"/>
                  <a:pt x="18669" y="14256"/>
                </a:cubicBezTo>
                <a:cubicBezTo>
                  <a:pt x="18711" y="14145"/>
                  <a:pt x="18683" y="14054"/>
                  <a:pt x="18701" y="13938"/>
                </a:cubicBezTo>
                <a:cubicBezTo>
                  <a:pt x="18724" y="13785"/>
                  <a:pt x="18724" y="13604"/>
                  <a:pt x="18796" y="13462"/>
                </a:cubicBezTo>
                <a:cubicBezTo>
                  <a:pt x="18821" y="13411"/>
                  <a:pt x="18859" y="13359"/>
                  <a:pt x="18891" y="13335"/>
                </a:cubicBezTo>
                <a:cubicBezTo>
                  <a:pt x="18936" y="13424"/>
                  <a:pt x="18951" y="13544"/>
                  <a:pt x="18955" y="13652"/>
                </a:cubicBezTo>
                <a:cubicBezTo>
                  <a:pt x="18960" y="13797"/>
                  <a:pt x="18962" y="13924"/>
                  <a:pt x="18986" y="14065"/>
                </a:cubicBezTo>
                <a:cubicBezTo>
                  <a:pt x="18996" y="14121"/>
                  <a:pt x="18966" y="14112"/>
                  <a:pt x="19018" y="14129"/>
                </a:cubicBezTo>
                <a:cubicBezTo>
                  <a:pt x="19037" y="14035"/>
                  <a:pt x="19064" y="13939"/>
                  <a:pt x="19082" y="13843"/>
                </a:cubicBezTo>
                <a:cubicBezTo>
                  <a:pt x="19116" y="13662"/>
                  <a:pt x="19145" y="13481"/>
                  <a:pt x="19177" y="13303"/>
                </a:cubicBezTo>
                <a:cubicBezTo>
                  <a:pt x="19191" y="13225"/>
                  <a:pt x="19237" y="13151"/>
                  <a:pt x="19272" y="13081"/>
                </a:cubicBezTo>
              </a:path>
              <a:path w="15336" h="2668">
                <a:moveTo>
                  <a:pt x="19463" y="13557"/>
                </a:moveTo>
                <a:cubicBezTo>
                  <a:pt x="19481" y="13593"/>
                  <a:pt x="19484" y="13660"/>
                  <a:pt x="19526" y="13684"/>
                </a:cubicBezTo>
                <a:cubicBezTo>
                  <a:pt x="19537" y="13684"/>
                  <a:pt x="19547" y="13684"/>
                  <a:pt x="19558" y="13684"/>
                </a:cubicBezTo>
                <a:cubicBezTo>
                  <a:pt x="19616" y="13626"/>
                  <a:pt x="19641" y="13614"/>
                  <a:pt x="19685" y="13526"/>
                </a:cubicBezTo>
                <a:cubicBezTo>
                  <a:pt x="19732" y="13433"/>
                  <a:pt x="19763" y="13308"/>
                  <a:pt x="19780" y="13208"/>
                </a:cubicBezTo>
                <a:cubicBezTo>
                  <a:pt x="19791" y="13139"/>
                  <a:pt x="19732" y="13076"/>
                  <a:pt x="19717" y="13049"/>
                </a:cubicBezTo>
                <a:cubicBezTo>
                  <a:pt x="19664" y="13062"/>
                  <a:pt x="19646" y="13063"/>
                  <a:pt x="19622" y="13113"/>
                </a:cubicBezTo>
                <a:cubicBezTo>
                  <a:pt x="19557" y="13250"/>
                  <a:pt x="19558" y="13378"/>
                  <a:pt x="19558" y="13526"/>
                </a:cubicBezTo>
                <a:cubicBezTo>
                  <a:pt x="19558" y="13639"/>
                  <a:pt x="19579" y="13803"/>
                  <a:pt x="19622" y="13906"/>
                </a:cubicBezTo>
                <a:cubicBezTo>
                  <a:pt x="19644" y="13958"/>
                  <a:pt x="19709" y="13954"/>
                  <a:pt x="19748" y="13970"/>
                </a:cubicBezTo>
                <a:cubicBezTo>
                  <a:pt x="19818" y="13935"/>
                  <a:pt x="19861" y="13920"/>
                  <a:pt x="19907" y="13843"/>
                </a:cubicBezTo>
                <a:cubicBezTo>
                  <a:pt x="19972" y="13733"/>
                  <a:pt x="20047" y="13588"/>
                  <a:pt x="20066" y="13462"/>
                </a:cubicBezTo>
                <a:cubicBezTo>
                  <a:pt x="20081" y="13365"/>
                  <a:pt x="20118" y="13270"/>
                  <a:pt x="20130" y="13176"/>
                </a:cubicBezTo>
                <a:cubicBezTo>
                  <a:pt x="20140" y="13103"/>
                  <a:pt x="20142" y="13008"/>
                  <a:pt x="20098" y="12954"/>
                </a:cubicBezTo>
                <a:cubicBezTo>
                  <a:pt x="20098" y="12922"/>
                  <a:pt x="20098" y="12911"/>
                  <a:pt x="20066" y="12922"/>
                </a:cubicBezTo>
                <a:cubicBezTo>
                  <a:pt x="20032" y="12973"/>
                  <a:pt x="20022" y="13053"/>
                  <a:pt x="20002" y="13144"/>
                </a:cubicBezTo>
                <a:cubicBezTo>
                  <a:pt x="19966" y="13307"/>
                  <a:pt x="19965" y="13486"/>
                  <a:pt x="20002" y="13652"/>
                </a:cubicBezTo>
                <a:cubicBezTo>
                  <a:pt x="20015" y="13711"/>
                  <a:pt x="20062" y="13766"/>
                  <a:pt x="20098" y="13811"/>
                </a:cubicBezTo>
                <a:cubicBezTo>
                  <a:pt x="20211" y="13797"/>
                  <a:pt x="20191" y="13818"/>
                  <a:pt x="20256" y="13716"/>
                </a:cubicBezTo>
                <a:cubicBezTo>
                  <a:pt x="20339" y="13586"/>
                  <a:pt x="20371" y="13457"/>
                  <a:pt x="20384" y="13303"/>
                </a:cubicBezTo>
                <a:cubicBezTo>
                  <a:pt x="20397" y="13151"/>
                  <a:pt x="20427" y="13007"/>
                  <a:pt x="20447" y="12859"/>
                </a:cubicBezTo>
                <a:cubicBezTo>
                  <a:pt x="20460" y="12767"/>
                  <a:pt x="20443" y="12803"/>
                  <a:pt x="20479" y="12732"/>
                </a:cubicBezTo>
                <a:cubicBezTo>
                  <a:pt x="20507" y="12807"/>
                  <a:pt x="20510" y="12861"/>
                  <a:pt x="20510" y="12954"/>
                </a:cubicBezTo>
                <a:cubicBezTo>
                  <a:pt x="20510" y="13126"/>
                  <a:pt x="20542" y="13286"/>
                  <a:pt x="20542" y="13462"/>
                </a:cubicBezTo>
                <a:cubicBezTo>
                  <a:pt x="20542" y="13597"/>
                  <a:pt x="20532" y="13718"/>
                  <a:pt x="20574" y="13843"/>
                </a:cubicBezTo>
                <a:cubicBezTo>
                  <a:pt x="20574" y="13875"/>
                  <a:pt x="20574" y="13886"/>
                  <a:pt x="20574" y="13843"/>
                </a:cubicBezTo>
                <a:cubicBezTo>
                  <a:pt x="20590" y="13704"/>
                  <a:pt x="20614" y="13569"/>
                  <a:pt x="20638" y="13430"/>
                </a:cubicBezTo>
                <a:cubicBezTo>
                  <a:pt x="20661" y="13299"/>
                  <a:pt x="20678" y="13107"/>
                  <a:pt x="20733" y="12986"/>
                </a:cubicBezTo>
                <a:cubicBezTo>
                  <a:pt x="20761" y="12957"/>
                  <a:pt x="20767" y="12946"/>
                  <a:pt x="20796" y="12954"/>
                </a:cubicBezTo>
                <a:cubicBezTo>
                  <a:pt x="20775" y="13029"/>
                  <a:pt x="20759" y="13101"/>
                  <a:pt x="20733" y="13176"/>
                </a:cubicBezTo>
                <a:cubicBezTo>
                  <a:pt x="20687" y="13310"/>
                  <a:pt x="20628" y="13450"/>
                  <a:pt x="20606" y="13589"/>
                </a:cubicBezTo>
                <a:cubicBezTo>
                  <a:pt x="20606" y="13642"/>
                  <a:pt x="20606" y="13652"/>
                  <a:pt x="20606" y="13684"/>
                </a:cubicBezTo>
                <a:cubicBezTo>
                  <a:pt x="20674" y="13684"/>
                  <a:pt x="20712" y="13662"/>
                  <a:pt x="20764" y="13652"/>
                </a:cubicBezTo>
                <a:cubicBezTo>
                  <a:pt x="20835" y="13638"/>
                  <a:pt x="20926" y="13633"/>
                  <a:pt x="20987" y="13621"/>
                </a:cubicBezTo>
                <a:cubicBezTo>
                  <a:pt x="21053" y="13621"/>
                  <a:pt x="21075" y="13618"/>
                  <a:pt x="21082" y="13557"/>
                </a:cubicBezTo>
              </a:path>
              <a:path w="15336" h="2668">
                <a:moveTo>
                  <a:pt x="21241" y="13049"/>
                </a:moveTo>
                <a:cubicBezTo>
                  <a:pt x="21241" y="12954"/>
                  <a:pt x="21266" y="12838"/>
                  <a:pt x="21209" y="12764"/>
                </a:cubicBezTo>
                <a:cubicBezTo>
                  <a:pt x="21187" y="12850"/>
                  <a:pt x="21106" y="12885"/>
                  <a:pt x="21082" y="12986"/>
                </a:cubicBezTo>
                <a:cubicBezTo>
                  <a:pt x="21070" y="13036"/>
                  <a:pt x="21024" y="13156"/>
                  <a:pt x="21050" y="13208"/>
                </a:cubicBezTo>
                <a:cubicBezTo>
                  <a:pt x="21087" y="13282"/>
                  <a:pt x="21162" y="13220"/>
                  <a:pt x="21209" y="13208"/>
                </a:cubicBezTo>
                <a:cubicBezTo>
                  <a:pt x="21278" y="13191"/>
                  <a:pt x="21311" y="13234"/>
                  <a:pt x="21368" y="13240"/>
                </a:cubicBezTo>
                <a:cubicBezTo>
                  <a:pt x="21436" y="13248"/>
                  <a:pt x="21446" y="13300"/>
                  <a:pt x="21431" y="13367"/>
                </a:cubicBezTo>
                <a:cubicBezTo>
                  <a:pt x="21404" y="13490"/>
                  <a:pt x="21391" y="13600"/>
                  <a:pt x="21336" y="13716"/>
                </a:cubicBezTo>
                <a:cubicBezTo>
                  <a:pt x="21311" y="13769"/>
                  <a:pt x="21285" y="13793"/>
                  <a:pt x="21272" y="13843"/>
                </a:cubicBezTo>
              </a:path>
              <a:path w="15336" h="2668">
                <a:moveTo>
                  <a:pt x="19653" y="14351"/>
                </a:moveTo>
                <a:cubicBezTo>
                  <a:pt x="19653" y="14404"/>
                  <a:pt x="19666" y="14434"/>
                  <a:pt x="19685" y="14478"/>
                </a:cubicBezTo>
                <a:cubicBezTo>
                  <a:pt x="19705" y="14525"/>
                  <a:pt x="19723" y="14600"/>
                  <a:pt x="19748" y="14637"/>
                </a:cubicBezTo>
                <a:cubicBezTo>
                  <a:pt x="19779" y="14683"/>
                  <a:pt x="19827" y="14713"/>
                  <a:pt x="19844" y="14764"/>
                </a:cubicBezTo>
                <a:cubicBezTo>
                  <a:pt x="19844" y="14775"/>
                  <a:pt x="19844" y="14785"/>
                  <a:pt x="19844" y="14796"/>
                </a:cubicBezTo>
              </a:path>
              <a:path w="15336" h="2668">
                <a:moveTo>
                  <a:pt x="19907" y="14319"/>
                </a:moveTo>
                <a:cubicBezTo>
                  <a:pt x="19852" y="14394"/>
                  <a:pt x="19867" y="14413"/>
                  <a:pt x="19844" y="14510"/>
                </a:cubicBezTo>
                <a:cubicBezTo>
                  <a:pt x="19811" y="14648"/>
                  <a:pt x="19758" y="14786"/>
                  <a:pt x="19717" y="14922"/>
                </a:cubicBezTo>
              </a:path>
              <a:path w="15336" h="2668">
                <a:moveTo>
                  <a:pt x="11970" y="14859"/>
                </a:moveTo>
                <a:cubicBezTo>
                  <a:pt x="11970" y="14827"/>
                  <a:pt x="11970" y="14796"/>
                  <a:pt x="11970" y="14764"/>
                </a:cubicBezTo>
              </a:path>
              <a:path w="15336" h="2668">
                <a:moveTo>
                  <a:pt x="11970" y="14605"/>
                </a:moveTo>
                <a:lnTo>
                  <a:pt x="11970" y="14605"/>
                </a:lnTo>
              </a:path>
              <a:path w="15336" h="2668">
                <a:moveTo>
                  <a:pt x="11970" y="14605"/>
                </a:moveTo>
                <a:cubicBezTo>
                  <a:pt x="11970" y="14616"/>
                  <a:pt x="11970" y="14626"/>
                  <a:pt x="11970" y="14637"/>
                </a:cubicBezTo>
              </a:path>
              <a:path w="15336" h="2668">
                <a:moveTo>
                  <a:pt x="11970" y="14637"/>
                </a:moveTo>
                <a:cubicBezTo>
                  <a:pt x="11970" y="14666"/>
                  <a:pt x="11951" y="14866"/>
                  <a:pt x="12002" y="14859"/>
                </a:cubicBezTo>
                <a:cubicBezTo>
                  <a:pt x="12071" y="14850"/>
                  <a:pt x="12026" y="14772"/>
                  <a:pt x="12002" y="14764"/>
                </a:cubicBezTo>
                <a:cubicBezTo>
                  <a:pt x="12002" y="14796"/>
                  <a:pt x="12002" y="14806"/>
                  <a:pt x="12002" y="14827"/>
                </a:cubicBezTo>
                <a:cubicBezTo>
                  <a:pt x="12049" y="14811"/>
                  <a:pt x="12033" y="14788"/>
                  <a:pt x="12033" y="14732"/>
                </a:cubicBezTo>
                <a:cubicBezTo>
                  <a:pt x="12033" y="14700"/>
                  <a:pt x="12033" y="14689"/>
                  <a:pt x="12033" y="14668"/>
                </a:cubicBezTo>
                <a:cubicBezTo>
                  <a:pt x="11986" y="14684"/>
                  <a:pt x="12002" y="14708"/>
                  <a:pt x="12002" y="14764"/>
                </a:cubicBezTo>
                <a:cubicBezTo>
                  <a:pt x="12002" y="14817"/>
                  <a:pt x="12059" y="14810"/>
                  <a:pt x="12065" y="14764"/>
                </a:cubicBezTo>
                <a:cubicBezTo>
                  <a:pt x="12072" y="14711"/>
                  <a:pt x="12073" y="14713"/>
                  <a:pt x="12033" y="14700"/>
                </a:cubicBezTo>
                <a:cubicBezTo>
                  <a:pt x="12033" y="14719"/>
                  <a:pt x="12045" y="14848"/>
                  <a:pt x="12097" y="14796"/>
                </a:cubicBezTo>
                <a:cubicBezTo>
                  <a:pt x="12097" y="14764"/>
                  <a:pt x="12097" y="14753"/>
                  <a:pt x="12097" y="14732"/>
                </a:cubicBezTo>
                <a:cubicBezTo>
                  <a:pt x="12097" y="14675"/>
                  <a:pt x="12090" y="14731"/>
                  <a:pt x="12065" y="14764"/>
                </a:cubicBezTo>
              </a:path>
              <a:path w="15336" h="2668">
                <a:moveTo>
                  <a:pt x="23209" y="13113"/>
                </a:moveTo>
                <a:cubicBezTo>
                  <a:pt x="23213" y="13102"/>
                  <a:pt x="23272" y="13042"/>
                  <a:pt x="23241" y="13018"/>
                </a:cubicBezTo>
                <a:cubicBezTo>
                  <a:pt x="23216" y="12998"/>
                  <a:pt x="23195" y="12959"/>
                  <a:pt x="23146" y="12954"/>
                </a:cubicBezTo>
                <a:cubicBezTo>
                  <a:pt x="23079" y="12947"/>
                  <a:pt x="23075" y="12973"/>
                  <a:pt x="23050" y="12986"/>
                </a:cubicBezTo>
                <a:cubicBezTo>
                  <a:pt x="23014" y="13005"/>
                  <a:pt x="22998" y="13010"/>
                  <a:pt x="22955" y="13049"/>
                </a:cubicBezTo>
                <a:cubicBezTo>
                  <a:pt x="22931" y="13071"/>
                  <a:pt x="22863" y="13138"/>
                  <a:pt x="22860" y="13144"/>
                </a:cubicBezTo>
                <a:cubicBezTo>
                  <a:pt x="22824" y="13215"/>
                  <a:pt x="22885" y="13343"/>
                  <a:pt x="22892" y="13367"/>
                </a:cubicBezTo>
                <a:cubicBezTo>
                  <a:pt x="22915" y="13450"/>
                  <a:pt x="22933" y="13416"/>
                  <a:pt x="22955" y="13462"/>
                </a:cubicBezTo>
                <a:cubicBezTo>
                  <a:pt x="22977" y="13507"/>
                  <a:pt x="23003" y="13495"/>
                  <a:pt x="23050" y="13526"/>
                </a:cubicBezTo>
                <a:cubicBezTo>
                  <a:pt x="23098" y="13557"/>
                  <a:pt x="23115" y="13565"/>
                  <a:pt x="23146" y="13589"/>
                </a:cubicBezTo>
                <a:cubicBezTo>
                  <a:pt x="23180" y="13614"/>
                  <a:pt x="23205" y="13677"/>
                  <a:pt x="23209" y="13716"/>
                </a:cubicBezTo>
                <a:cubicBezTo>
                  <a:pt x="23210" y="13726"/>
                  <a:pt x="23189" y="13791"/>
                  <a:pt x="23178" y="13811"/>
                </a:cubicBezTo>
                <a:cubicBezTo>
                  <a:pt x="23164" y="13836"/>
                  <a:pt x="23122" y="13902"/>
                  <a:pt x="23114" y="13906"/>
                </a:cubicBezTo>
                <a:cubicBezTo>
                  <a:pt x="23072" y="13926"/>
                  <a:pt x="23083" y="13938"/>
                  <a:pt x="23019" y="13938"/>
                </a:cubicBezTo>
                <a:cubicBezTo>
                  <a:pt x="22947" y="13938"/>
                  <a:pt x="22975" y="13912"/>
                  <a:pt x="22924" y="13906"/>
                </a:cubicBezTo>
                <a:cubicBezTo>
                  <a:pt x="22883" y="13901"/>
                  <a:pt x="22872" y="13878"/>
                  <a:pt x="22860" y="13843"/>
                </a:cubicBezTo>
                <a:cubicBezTo>
                  <a:pt x="22919" y="13843"/>
                  <a:pt x="22935" y="13869"/>
                  <a:pt x="22987" y="13875"/>
                </a:cubicBezTo>
                <a:cubicBezTo>
                  <a:pt x="23065" y="13884"/>
                  <a:pt x="23112" y="13860"/>
                  <a:pt x="23146" y="13843"/>
                </a:cubicBezTo>
                <a:cubicBezTo>
                  <a:pt x="23180" y="13826"/>
                  <a:pt x="23203" y="13804"/>
                  <a:pt x="23209" y="13748"/>
                </a:cubicBezTo>
                <a:cubicBezTo>
                  <a:pt x="23216" y="13684"/>
                  <a:pt x="23194" y="13671"/>
                  <a:pt x="23178" y="13621"/>
                </a:cubicBezTo>
                <a:cubicBezTo>
                  <a:pt x="23167" y="13589"/>
                  <a:pt x="23130" y="13534"/>
                  <a:pt x="23114" y="13526"/>
                </a:cubicBezTo>
                <a:cubicBezTo>
                  <a:pt x="23056" y="13498"/>
                  <a:pt x="23045" y="13491"/>
                  <a:pt x="23019" y="13430"/>
                </a:cubicBezTo>
                <a:cubicBezTo>
                  <a:pt x="22996" y="13378"/>
                  <a:pt x="22961" y="13323"/>
                  <a:pt x="22955" y="13272"/>
                </a:cubicBezTo>
                <a:cubicBezTo>
                  <a:pt x="22953" y="13256"/>
                  <a:pt x="22978" y="13161"/>
                  <a:pt x="22987" y="13144"/>
                </a:cubicBezTo>
                <a:cubicBezTo>
                  <a:pt x="23013" y="13099"/>
                  <a:pt x="23029" y="13077"/>
                  <a:pt x="23050" y="13049"/>
                </a:cubicBezTo>
                <a:cubicBezTo>
                  <a:pt x="23074" y="13017"/>
                  <a:pt x="23121" y="12989"/>
                  <a:pt x="23146" y="12986"/>
                </a:cubicBezTo>
                <a:cubicBezTo>
                  <a:pt x="23202" y="12979"/>
                  <a:pt x="23233" y="12982"/>
                  <a:pt x="23273" y="13018"/>
                </a:cubicBezTo>
                <a:cubicBezTo>
                  <a:pt x="23312" y="13053"/>
                  <a:pt x="23374" y="13058"/>
                  <a:pt x="23304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6"/>
          <p:cNvSpPr/>
          <p:nvPr/>
        </p:nvSpPr>
        <p:spPr>
          <a:xfrm>
            <a:off x="3886200" y="5622840"/>
            <a:ext cx="1074600" cy="309600"/>
          </a:xfrm>
          <a:custGeom>
            <a:avLst/>
            <a:gdLst/>
            <a:ahLst/>
            <a:rect l="l" t="t" r="r" b="b"/>
            <a:pathLst>
              <a:path w="2986" h="858">
                <a:moveTo>
                  <a:pt x="10922" y="15653"/>
                </a:moveTo>
                <a:cubicBezTo>
                  <a:pt x="10922" y="15642"/>
                  <a:pt x="10922" y="15632"/>
                  <a:pt x="10922" y="15621"/>
                </a:cubicBezTo>
                <a:cubicBezTo>
                  <a:pt x="10961" y="15698"/>
                  <a:pt x="10904" y="15676"/>
                  <a:pt x="10858" y="15748"/>
                </a:cubicBezTo>
                <a:cubicBezTo>
                  <a:pt x="10829" y="15794"/>
                  <a:pt x="10807" y="15860"/>
                  <a:pt x="10795" y="15907"/>
                </a:cubicBezTo>
                <a:cubicBezTo>
                  <a:pt x="10876" y="15927"/>
                  <a:pt x="10861" y="15951"/>
                  <a:pt x="10954" y="15907"/>
                </a:cubicBezTo>
                <a:cubicBezTo>
                  <a:pt x="11021" y="15876"/>
                  <a:pt x="11090" y="15829"/>
                  <a:pt x="11144" y="15780"/>
                </a:cubicBezTo>
                <a:cubicBezTo>
                  <a:pt x="11195" y="15734"/>
                  <a:pt x="11155" y="15734"/>
                  <a:pt x="11208" y="15716"/>
                </a:cubicBezTo>
                <a:cubicBezTo>
                  <a:pt x="11149" y="15790"/>
                  <a:pt x="11149" y="15854"/>
                  <a:pt x="11112" y="15938"/>
                </a:cubicBezTo>
                <a:cubicBezTo>
                  <a:pt x="11077" y="16017"/>
                  <a:pt x="11043" y="16108"/>
                  <a:pt x="11017" y="16192"/>
                </a:cubicBezTo>
                <a:cubicBezTo>
                  <a:pt x="11003" y="16238"/>
                  <a:pt x="10999" y="16282"/>
                  <a:pt x="10954" y="16288"/>
                </a:cubicBezTo>
                <a:cubicBezTo>
                  <a:pt x="10898" y="16295"/>
                  <a:pt x="10875" y="16247"/>
                  <a:pt x="10858" y="16224"/>
                </a:cubicBezTo>
                <a:cubicBezTo>
                  <a:pt x="10827" y="16192"/>
                  <a:pt x="10817" y="16181"/>
                  <a:pt x="10795" y="16161"/>
                </a:cubicBezTo>
              </a:path>
              <a:path w="2986" h="858">
                <a:moveTo>
                  <a:pt x="11271" y="15875"/>
                </a:moveTo>
                <a:cubicBezTo>
                  <a:pt x="11321" y="15887"/>
                  <a:pt x="11341" y="15907"/>
                  <a:pt x="11398" y="15907"/>
                </a:cubicBezTo>
              </a:path>
              <a:path w="2986" h="858">
                <a:moveTo>
                  <a:pt x="11557" y="15684"/>
                </a:moveTo>
                <a:cubicBezTo>
                  <a:pt x="11557" y="15747"/>
                  <a:pt x="11556" y="15822"/>
                  <a:pt x="11525" y="15875"/>
                </a:cubicBezTo>
                <a:cubicBezTo>
                  <a:pt x="11496" y="15924"/>
                  <a:pt x="11488" y="15943"/>
                  <a:pt x="11462" y="16002"/>
                </a:cubicBezTo>
              </a:path>
              <a:path w="2986" h="858">
                <a:moveTo>
                  <a:pt x="11684" y="15684"/>
                </a:moveTo>
                <a:cubicBezTo>
                  <a:pt x="11732" y="15700"/>
                  <a:pt x="11716" y="15723"/>
                  <a:pt x="11716" y="15780"/>
                </a:cubicBezTo>
                <a:cubicBezTo>
                  <a:pt x="11716" y="15825"/>
                  <a:pt x="11706" y="15931"/>
                  <a:pt x="11684" y="15970"/>
                </a:cubicBezTo>
                <a:cubicBezTo>
                  <a:pt x="11655" y="15999"/>
                  <a:pt x="11649" y="16010"/>
                  <a:pt x="11620" y="16002"/>
                </a:cubicBezTo>
                <a:cubicBezTo>
                  <a:pt x="11636" y="15953"/>
                  <a:pt x="11664" y="15954"/>
                  <a:pt x="11684" y="15875"/>
                </a:cubicBezTo>
                <a:cubicBezTo>
                  <a:pt x="11707" y="15783"/>
                  <a:pt x="11744" y="15777"/>
                  <a:pt x="11811" y="15716"/>
                </a:cubicBezTo>
                <a:cubicBezTo>
                  <a:pt x="11856" y="15676"/>
                  <a:pt x="11879" y="15684"/>
                  <a:pt x="11938" y="15684"/>
                </a:cubicBezTo>
                <a:cubicBezTo>
                  <a:pt x="11938" y="15761"/>
                  <a:pt x="11919" y="15803"/>
                  <a:pt x="11906" y="15875"/>
                </a:cubicBezTo>
                <a:cubicBezTo>
                  <a:pt x="11889" y="15970"/>
                  <a:pt x="11901" y="16075"/>
                  <a:pt x="11938" y="16161"/>
                </a:cubicBezTo>
              </a:path>
              <a:path w="2986" h="858">
                <a:moveTo>
                  <a:pt x="12065" y="15621"/>
                </a:moveTo>
                <a:cubicBezTo>
                  <a:pt x="12051" y="15678"/>
                  <a:pt x="12033" y="15711"/>
                  <a:pt x="12033" y="15780"/>
                </a:cubicBezTo>
                <a:cubicBezTo>
                  <a:pt x="12033" y="15849"/>
                  <a:pt x="12030" y="15918"/>
                  <a:pt x="12065" y="15970"/>
                </a:cubicBezTo>
                <a:cubicBezTo>
                  <a:pt x="12076" y="15981"/>
                  <a:pt x="12086" y="15991"/>
                  <a:pt x="12097" y="16002"/>
                </a:cubicBezTo>
              </a:path>
              <a:path w="2986" h="858">
                <a:moveTo>
                  <a:pt x="12033" y="15748"/>
                </a:moveTo>
                <a:cubicBezTo>
                  <a:pt x="12068" y="15795"/>
                  <a:pt x="12083" y="15829"/>
                  <a:pt x="12128" y="15875"/>
                </a:cubicBezTo>
                <a:cubicBezTo>
                  <a:pt x="12166" y="15913"/>
                  <a:pt x="12240" y="15954"/>
                  <a:pt x="12287" y="15970"/>
                </a:cubicBezTo>
                <a:cubicBezTo>
                  <a:pt x="12326" y="15983"/>
                  <a:pt x="12388" y="15955"/>
                  <a:pt x="12414" y="15938"/>
                </a:cubicBezTo>
                <a:cubicBezTo>
                  <a:pt x="12458" y="15910"/>
                  <a:pt x="12492" y="15895"/>
                  <a:pt x="12510" y="15843"/>
                </a:cubicBezTo>
                <a:cubicBezTo>
                  <a:pt x="12510" y="15812"/>
                  <a:pt x="12510" y="15801"/>
                  <a:pt x="12510" y="15780"/>
                </a:cubicBezTo>
                <a:cubicBezTo>
                  <a:pt x="12482" y="15787"/>
                  <a:pt x="12360" y="15844"/>
                  <a:pt x="12351" y="15875"/>
                </a:cubicBezTo>
                <a:cubicBezTo>
                  <a:pt x="12333" y="15933"/>
                  <a:pt x="12348" y="16024"/>
                  <a:pt x="12382" y="16066"/>
                </a:cubicBezTo>
                <a:cubicBezTo>
                  <a:pt x="12414" y="16097"/>
                  <a:pt x="12425" y="16108"/>
                  <a:pt x="12446" y="16129"/>
                </a:cubicBezTo>
              </a:path>
              <a:path w="2986" h="858">
                <a:moveTo>
                  <a:pt x="12636" y="15843"/>
                </a:moveTo>
                <a:cubicBezTo>
                  <a:pt x="12623" y="15899"/>
                  <a:pt x="12589" y="15950"/>
                  <a:pt x="12573" y="16002"/>
                </a:cubicBezTo>
                <a:cubicBezTo>
                  <a:pt x="12563" y="16037"/>
                  <a:pt x="12573" y="16093"/>
                  <a:pt x="12573" y="16129"/>
                </a:cubicBezTo>
                <a:cubicBezTo>
                  <a:pt x="12573" y="16064"/>
                  <a:pt x="12575" y="16055"/>
                  <a:pt x="12605" y="16002"/>
                </a:cubicBezTo>
                <a:cubicBezTo>
                  <a:pt x="12619" y="15977"/>
                  <a:pt x="12684" y="15854"/>
                  <a:pt x="12700" y="15843"/>
                </a:cubicBezTo>
                <a:cubicBezTo>
                  <a:pt x="12727" y="15825"/>
                  <a:pt x="12772" y="15820"/>
                  <a:pt x="12795" y="15812"/>
                </a:cubicBezTo>
              </a:path>
              <a:path w="2986" h="858">
                <a:moveTo>
                  <a:pt x="13018" y="15812"/>
                </a:moveTo>
                <a:cubicBezTo>
                  <a:pt x="13035" y="15760"/>
                  <a:pt x="13032" y="15800"/>
                  <a:pt x="13049" y="15748"/>
                </a:cubicBezTo>
                <a:cubicBezTo>
                  <a:pt x="13009" y="15758"/>
                  <a:pt x="12942" y="15798"/>
                  <a:pt x="12922" y="15843"/>
                </a:cubicBezTo>
                <a:cubicBezTo>
                  <a:pt x="12905" y="15881"/>
                  <a:pt x="12866" y="15954"/>
                  <a:pt x="12890" y="16002"/>
                </a:cubicBezTo>
                <a:cubicBezTo>
                  <a:pt x="12913" y="16048"/>
                  <a:pt x="12931" y="16091"/>
                  <a:pt x="12986" y="16097"/>
                </a:cubicBezTo>
                <a:cubicBezTo>
                  <a:pt x="13042" y="16103"/>
                  <a:pt x="13081" y="16084"/>
                  <a:pt x="13113" y="16034"/>
                </a:cubicBezTo>
                <a:cubicBezTo>
                  <a:pt x="13142" y="15988"/>
                  <a:pt x="13202" y="15925"/>
                  <a:pt x="13208" y="15875"/>
                </a:cubicBezTo>
                <a:cubicBezTo>
                  <a:pt x="13208" y="15864"/>
                  <a:pt x="13208" y="15854"/>
                  <a:pt x="13208" y="15843"/>
                </a:cubicBezTo>
                <a:cubicBezTo>
                  <a:pt x="13145" y="15859"/>
                  <a:pt x="13144" y="15873"/>
                  <a:pt x="13144" y="15938"/>
                </a:cubicBezTo>
                <a:cubicBezTo>
                  <a:pt x="13144" y="16003"/>
                  <a:pt x="13158" y="16013"/>
                  <a:pt x="13176" y="16066"/>
                </a:cubicBezTo>
                <a:cubicBezTo>
                  <a:pt x="13181" y="16082"/>
                  <a:pt x="13242" y="16134"/>
                  <a:pt x="13272" y="16097"/>
                </a:cubicBezTo>
                <a:cubicBezTo>
                  <a:pt x="13288" y="16078"/>
                  <a:pt x="13324" y="16021"/>
                  <a:pt x="13367" y="16002"/>
                </a:cubicBezTo>
                <a:cubicBezTo>
                  <a:pt x="13377" y="16002"/>
                  <a:pt x="13388" y="16002"/>
                  <a:pt x="13398" y="16002"/>
                </a:cubicBezTo>
                <a:cubicBezTo>
                  <a:pt x="13398" y="16066"/>
                  <a:pt x="13384" y="16077"/>
                  <a:pt x="13367" y="16129"/>
                </a:cubicBezTo>
                <a:cubicBezTo>
                  <a:pt x="13346" y="16195"/>
                  <a:pt x="13316" y="16262"/>
                  <a:pt x="13272" y="16320"/>
                </a:cubicBezTo>
                <a:cubicBezTo>
                  <a:pt x="13232" y="16374"/>
                  <a:pt x="13213" y="16428"/>
                  <a:pt x="13176" y="16478"/>
                </a:cubicBezTo>
                <a:cubicBezTo>
                  <a:pt x="13176" y="16372"/>
                  <a:pt x="13192" y="16290"/>
                  <a:pt x="13208" y="16192"/>
                </a:cubicBezTo>
                <a:cubicBezTo>
                  <a:pt x="13229" y="16068"/>
                  <a:pt x="13246" y="15894"/>
                  <a:pt x="13303" y="15780"/>
                </a:cubicBezTo>
                <a:cubicBezTo>
                  <a:pt x="13335" y="15716"/>
                  <a:pt x="13379" y="15690"/>
                  <a:pt x="13430" y="15653"/>
                </a:cubicBezTo>
                <a:cubicBezTo>
                  <a:pt x="13482" y="15666"/>
                  <a:pt x="13542" y="15724"/>
                  <a:pt x="13557" y="15780"/>
                </a:cubicBezTo>
                <a:cubicBezTo>
                  <a:pt x="13580" y="15866"/>
                  <a:pt x="13565" y="15898"/>
                  <a:pt x="13557" y="15970"/>
                </a:cubicBezTo>
                <a:cubicBezTo>
                  <a:pt x="13551" y="16025"/>
                  <a:pt x="13543" y="15982"/>
                  <a:pt x="13526" y="16034"/>
                </a:cubicBezTo>
                <a:cubicBezTo>
                  <a:pt x="13480" y="16034"/>
                  <a:pt x="13432" y="16025"/>
                  <a:pt x="13398" y="16002"/>
                </a:cubicBezTo>
                <a:cubicBezTo>
                  <a:pt x="13343" y="15965"/>
                  <a:pt x="13335" y="15975"/>
                  <a:pt x="13335" y="15907"/>
                </a:cubicBezTo>
              </a:path>
              <a:path w="2986" h="858">
                <a:moveTo>
                  <a:pt x="13748" y="15621"/>
                </a:moveTo>
                <a:cubicBezTo>
                  <a:pt x="13792" y="15694"/>
                  <a:pt x="13770" y="15758"/>
                  <a:pt x="13748" y="15843"/>
                </a:cubicBezTo>
                <a:cubicBezTo>
                  <a:pt x="13720" y="15949"/>
                  <a:pt x="13701" y="16030"/>
                  <a:pt x="13652" y="16129"/>
                </a:cubicBezTo>
                <a:cubicBezTo>
                  <a:pt x="13625" y="16185"/>
                  <a:pt x="13620" y="16200"/>
                  <a:pt x="13589" y="16224"/>
                </a:cubicBezTo>
              </a:path>
              <a:path w="2986" h="858">
                <a:moveTo>
                  <a:pt x="13462" y="16002"/>
                </a:moveTo>
                <a:cubicBezTo>
                  <a:pt x="13514" y="16015"/>
                  <a:pt x="13537" y="16053"/>
                  <a:pt x="13589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9:22:16Z</dcterms:created>
  <dc:creator>Sharon Fieldman</dc:creator>
  <dc:description/>
  <dc:language>en-US</dc:language>
  <cp:lastModifiedBy>njamison</cp:lastModifiedBy>
  <dcterms:modified xsi:type="dcterms:W3CDTF">2011-05-16T15:55:57Z</dcterms:modified>
  <cp:revision>12</cp:revision>
  <dc:subject/>
  <dc:title>3.03a Interpreting Linear Models from Scatter Plots</dc:title>
</cp:coreProperties>
</file>